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28C-45E6-4E9E-8A28-5A0B3D76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329-E378-4FC9-BA44-F5E013B6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BC5-2D24-4F07-9E0A-5980A5F8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2BF-7F51-489F-964C-273A192D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7749-C76B-4767-9E4B-255AC82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04D4-8835-4B08-8FFA-22692E4A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4302A-9137-4E28-8A09-23FAE6FD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1C7C-B323-470E-BB93-2567C3AF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F2FC-60D6-4913-80BC-D94F58A8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3D8A-8475-436C-8119-C132678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15A9-6F0D-47A3-944A-52CA67B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D7B-78BE-4339-8F89-69D24A80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7552-C0ED-4792-8B27-24AE158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F09F5-4415-408F-B835-D27BFFF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C288E-EA04-4D31-8C38-D84A427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31CB-6414-4E14-92CD-B2D3E617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8B075-0A98-47E0-B1BA-D8833208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B9E-A256-49C4-8A6D-A8E844D0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E92-7C8E-44EA-8683-225E15E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EA3-AD07-49F0-8DBD-65715FF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067-A70D-45E2-9A37-9741FC4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F92-8D91-4537-B994-029D716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31D-8371-4492-8CE4-9A5B48D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7E9-23F5-43B4-87DA-ADB358B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266-68C7-43BF-B641-153656BFA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06A5-656E-428A-931F-039D9EEE3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2.xml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4.xml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6.xml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8.xml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0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2.xml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4.xml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6.xml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107.xml"/><Relationship Id="rId6" Type="http://schemas.openxmlformats.org/officeDocument/2006/relationships/slide" Target="slide109.xml"/><Relationship Id="rId7" Type="http://schemas.openxmlformats.org/officeDocument/2006/relationships/slide" Target="slide111.xml"/><Relationship Id="rId8" Type="http://schemas.openxmlformats.org/officeDocument/2006/relationships/slide" Target="slide113.xml"/><Relationship Id="rId9" Type="http://schemas.openxmlformats.org/officeDocument/2006/relationships/slide" Target="slide83.xml"/><Relationship Id="rId10" Type="http://schemas.openxmlformats.org/officeDocument/2006/relationships/slide" Target="slide85.xml"/><Relationship Id="rId11" Type="http://schemas.openxmlformats.org/officeDocument/2006/relationships/slide" Target="slide87.xml"/><Relationship Id="rId12" Type="http://schemas.openxmlformats.org/officeDocument/2006/relationships/slide" Target="slide89.xml"/><Relationship Id="rId13" Type="http://schemas.openxmlformats.org/officeDocument/2006/relationships/slide" Target="slide91.xml"/><Relationship Id="rId14" Type="http://schemas.openxmlformats.org/officeDocument/2006/relationships/slide" Target="slide93.xml"/><Relationship Id="rId15" Type="http://schemas.openxmlformats.org/officeDocument/2006/relationships/slide" Target="slide95.xml"/><Relationship Id="rId16" Type="http://schemas.openxmlformats.org/officeDocument/2006/relationships/slide" Target="slide97.xml"/><Relationship Id="rId17" Type="http://schemas.openxmlformats.org/officeDocument/2006/relationships/slide" Target="slide67.xml"/><Relationship Id="rId18" Type="http://schemas.openxmlformats.org/officeDocument/2006/relationships/slide" Target="slide69.xml"/><Relationship Id="rId19" Type="http://schemas.openxmlformats.org/officeDocument/2006/relationships/slide" Target="slide71.xml"/><Relationship Id="rId20" Type="http://schemas.openxmlformats.org/officeDocument/2006/relationships/slide" Target="slide73.xml"/><Relationship Id="rId21" Type="http://schemas.openxmlformats.org/officeDocument/2006/relationships/slide" Target="slide75.xml"/><Relationship Id="rId22" Type="http://schemas.openxmlformats.org/officeDocument/2006/relationships/slide" Target="slide77.xml"/><Relationship Id="rId23" Type="http://schemas.openxmlformats.org/officeDocument/2006/relationships/slide" Target="slide79.xml"/><Relationship Id="rId24" Type="http://schemas.openxmlformats.org/officeDocument/2006/relationships/slide" Target="slide81.xml"/><Relationship Id="rId25" Type="http://schemas.openxmlformats.org/officeDocument/2006/relationships/slide" Target="slide51.xml"/><Relationship Id="rId26" Type="http://schemas.openxmlformats.org/officeDocument/2006/relationships/slide" Target="slide53.xml"/><Relationship Id="rId27" Type="http://schemas.openxmlformats.org/officeDocument/2006/relationships/slide" Target="slide55.xml"/><Relationship Id="rId28" Type="http://schemas.openxmlformats.org/officeDocument/2006/relationships/slide" Target="slide57.xml"/><Relationship Id="rId29" Type="http://schemas.openxmlformats.org/officeDocument/2006/relationships/slide" Target="slide59.xml"/><Relationship Id="rId30" Type="http://schemas.openxmlformats.org/officeDocument/2006/relationships/slide" Target="slide61.xml"/><Relationship Id="rId31" Type="http://schemas.openxmlformats.org/officeDocument/2006/relationships/slide" Target="slide63.xml"/><Relationship Id="rId32" Type="http://schemas.openxmlformats.org/officeDocument/2006/relationships/slide" Target="slide65.xml"/><Relationship Id="rId33" Type="http://schemas.openxmlformats.org/officeDocument/2006/relationships/slide" Target="slide35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41.xml"/><Relationship Id="rId37" Type="http://schemas.openxmlformats.org/officeDocument/2006/relationships/slide" Target="slide43.xml"/><Relationship Id="rId38" Type="http://schemas.openxmlformats.org/officeDocument/2006/relationships/slide" Target="slide45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19.xml"/><Relationship Id="rId42" Type="http://schemas.openxmlformats.org/officeDocument/2006/relationships/slide" Target="slide21.xml"/><Relationship Id="rId43" Type="http://schemas.openxmlformats.org/officeDocument/2006/relationships/slide" Target="slide23.xml"/><Relationship Id="rId44" Type="http://schemas.openxmlformats.org/officeDocument/2006/relationships/slide" Target="slide25.xml"/><Relationship Id="rId45" Type="http://schemas.openxmlformats.org/officeDocument/2006/relationships/slide" Target="slide27.xml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slide" Target="slide33.xml"/><Relationship Id="rId49" Type="http://schemas.openxmlformats.org/officeDocument/2006/relationships/slide" Target="slide3.xml"/><Relationship Id="rId50" Type="http://schemas.openxmlformats.org/officeDocument/2006/relationships/slide" Target="slide5.xml"/><Relationship Id="rId51" Type="http://schemas.openxmlformats.org/officeDocument/2006/relationships/slide" Target="slide7.xml"/><Relationship Id="rId52" Type="http://schemas.openxmlformats.org/officeDocument/2006/relationships/slide" Target="slide17.xml"/><Relationship Id="rId5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4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4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8.xml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6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2.xml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4.xml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6.xml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8.xml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Showcard Gothic"/>
              </a:rPr>
              <a:t>Connect Fou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Travel Games: Connect Four"/>
          <p:cNvPicPr/>
          <p:nvPr/>
        </p:nvPicPr>
        <p:blipFill>
          <a:blip r:embed="rId1"/>
          <a:stretch/>
        </p:blipFill>
        <p:spPr>
          <a:xfrm>
            <a:off x="609480" y="3395520"/>
            <a:ext cx="3581640" cy="34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267080"/>
            <a:ext cx="3886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nt out a copy of the game board on the next slide and try to get four in a row: across, down or diagonally by answering the German questions correctly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Remember that you start on the bottom row and build on t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is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zu Fu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e come by mop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kommen mit dem Mop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You (singular) come by c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kommst mit dem Au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________ _______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They come by subw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 mit der U-Bah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oy) heisst Kar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From 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h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990720" y="2286000"/>
            <a:ext cx="7696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 do you get to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What is you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 Ju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 old are y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Where do you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komm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capital of Germ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say Switzerland in German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e Schwei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say Austria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81952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6002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ist (German) Lehrer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Österreich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utsch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Das ist _________ Bru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2286000"/>
            <a:ext cx="7696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How do you say &amp; spell 12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wöl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3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915240"/>
        </p:xfrm>
        <a:graphic>
          <a:graphicData uri="http://schemas.openxmlformats.org/drawingml/2006/table">
            <a:tbl>
              <a:tblPr/>
              <a:tblGrid>
                <a:gridCol w="1066680"/>
                <a:gridCol w="1109880"/>
                <a:gridCol w="1057320"/>
                <a:gridCol w="1166760"/>
                <a:gridCol w="1166760"/>
                <a:gridCol w="1166760"/>
                <a:gridCol w="1166760"/>
                <a:gridCol w="1243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" action="ppaction://hlinksldjump"/>
                        </a:rPr>
                        <a:t>4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" action="ppaction://hlinksldjump"/>
                        </a:rPr>
                        <a:t>5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" action="ppaction://hlinksldjump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" action="ppaction://hlinksldjump"/>
                        </a:rPr>
                        <a:t>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6" action="ppaction://hlinksldjump"/>
                        </a:rPr>
                        <a:t>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7" action="ppaction://hlinksldjump"/>
                        </a:rPr>
                        <a:t>5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8" action="ppaction://hlinksldjump"/>
                        </a:rPr>
                        <a:t>5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9" action="ppaction://hlinksldjump"/>
                        </a:rPr>
                        <a:t>4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0" action="ppaction://hlinksldjump"/>
                        </a:rPr>
                        <a:t>4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1" action="ppaction://hlinksldjump"/>
                        </a:rPr>
                        <a:t>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2" action="ppaction://hlinksldjump"/>
                        </a:rPr>
                        <a:t>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3" action="ppaction://hlinksldjump"/>
                        </a:rPr>
                        <a:t>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4" action="ppaction://hlinksldjump"/>
                        </a:rPr>
                        <a:t>4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5" action="ppaction://hlinksldjump"/>
                        </a:rPr>
                        <a:t>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6" action="ppaction://hlinksldjump"/>
                        </a:rPr>
                        <a:t>4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7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8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9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0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1" action="ppaction://hlinksldjump"/>
                        </a:rPr>
                        <a:t>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2" action="ppaction://hlinksldjump"/>
                        </a:rPr>
                        <a:t>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3" action="ppaction://hlinksldjump"/>
                        </a:rPr>
                        <a:t>3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3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4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5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7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8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9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0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1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3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4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5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6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7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8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9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0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1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2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ei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2286000"/>
            <a:ext cx="769608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7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b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7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b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20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wanz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8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ht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1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6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hze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 alt ist 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_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 Franz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Ich heisse (Nam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 er 16?  (Ja. and then a complete sentence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.  Er ist sechzeh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scha und Marlene ____________ 15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, but it should be:  Ich bin ________ (Jahre al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28040"/>
            <a:ext cx="1371600" cy="1124640"/>
            <a:chOff x="1523880" y="2228040"/>
            <a:chExt cx="1371600" cy="1124640"/>
          </a:xfrm>
        </p:grpSpPr>
        <p:grpSp>
          <p:nvGrpSpPr>
            <p:cNvPr id="135" name=""/>
            <p:cNvGrpSpPr/>
            <p:nvPr/>
          </p:nvGrpSpPr>
          <p:grpSpPr>
            <a:xfrm>
              <a:off x="1523880" y="2435400"/>
              <a:ext cx="719640" cy="808560"/>
              <a:chOff x="1523880" y="2435400"/>
              <a:chExt cx="719640" cy="808560"/>
            </a:xfrm>
          </p:grpSpPr>
          <p:sp>
            <p:nvSpPr>
              <p:cNvPr id="136" name=""/>
              <p:cNvSpPr/>
              <p:nvPr/>
            </p:nvSpPr>
            <p:spPr>
              <a:xfrm rot="3711600">
                <a:off x="1927080" y="2493360"/>
                <a:ext cx="281160" cy="2487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23880" y="2526840"/>
                <a:ext cx="199440" cy="37296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29080" y="2496960"/>
                <a:ext cx="208080" cy="3333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9320" y="2763360"/>
                <a:ext cx="271800" cy="42768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03080" y="2786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066760" y="2602080"/>
              <a:ext cx="696960" cy="663480"/>
            </a:xfrm>
            <a:custGeom>
              <a:avLst/>
              <a:gdLst/>
              <a:ahLst/>
              <a:rect l="l" t="t" r="r" b="b"/>
              <a:pathLst>
                <a:path w="1395" h="1737">
                  <a:moveTo>
                    <a:pt x="1377" y="379"/>
                  </a:moveTo>
                  <a:lnTo>
                    <a:pt x="1367" y="379"/>
                  </a:lnTo>
                  <a:lnTo>
                    <a:pt x="1357" y="379"/>
                  </a:lnTo>
                  <a:lnTo>
                    <a:pt x="1347" y="379"/>
                  </a:lnTo>
                  <a:lnTo>
                    <a:pt x="1338" y="379"/>
                  </a:lnTo>
                  <a:lnTo>
                    <a:pt x="1327" y="379"/>
                  </a:lnTo>
                  <a:lnTo>
                    <a:pt x="1318" y="379"/>
                  </a:lnTo>
                  <a:lnTo>
                    <a:pt x="1308" y="379"/>
                  </a:lnTo>
                  <a:lnTo>
                    <a:pt x="1299" y="379"/>
                  </a:lnTo>
                  <a:lnTo>
                    <a:pt x="1304" y="374"/>
                  </a:lnTo>
                  <a:lnTo>
                    <a:pt x="1309" y="370"/>
                  </a:lnTo>
                  <a:lnTo>
                    <a:pt x="1316" y="364"/>
                  </a:lnTo>
                  <a:lnTo>
                    <a:pt x="1321" y="359"/>
                  </a:lnTo>
                  <a:lnTo>
                    <a:pt x="1327" y="355"/>
                  </a:lnTo>
                  <a:lnTo>
                    <a:pt x="1333" y="351"/>
                  </a:lnTo>
                  <a:lnTo>
                    <a:pt x="1339" y="348"/>
                  </a:lnTo>
                  <a:lnTo>
                    <a:pt x="1346" y="344"/>
                  </a:lnTo>
                  <a:lnTo>
                    <a:pt x="1353" y="341"/>
                  </a:lnTo>
                  <a:lnTo>
                    <a:pt x="1357" y="335"/>
                  </a:lnTo>
                  <a:lnTo>
                    <a:pt x="1359" y="328"/>
                  </a:lnTo>
                  <a:lnTo>
                    <a:pt x="1358" y="321"/>
                  </a:lnTo>
                  <a:lnTo>
                    <a:pt x="1355" y="315"/>
                  </a:lnTo>
                  <a:lnTo>
                    <a:pt x="1348" y="310"/>
                  </a:lnTo>
                  <a:lnTo>
                    <a:pt x="1342" y="309"/>
                  </a:lnTo>
                  <a:lnTo>
                    <a:pt x="1335" y="309"/>
                  </a:lnTo>
                  <a:lnTo>
                    <a:pt x="1325" y="314"/>
                  </a:lnTo>
                  <a:lnTo>
                    <a:pt x="1317" y="318"/>
                  </a:lnTo>
                  <a:lnTo>
                    <a:pt x="1308" y="324"/>
                  </a:lnTo>
                  <a:lnTo>
                    <a:pt x="1301" y="330"/>
                  </a:lnTo>
                  <a:lnTo>
                    <a:pt x="1293" y="336"/>
                  </a:lnTo>
                  <a:lnTo>
                    <a:pt x="1286" y="343"/>
                  </a:lnTo>
                  <a:lnTo>
                    <a:pt x="1278" y="350"/>
                  </a:lnTo>
                  <a:lnTo>
                    <a:pt x="1270" y="356"/>
                  </a:lnTo>
                  <a:lnTo>
                    <a:pt x="1271" y="339"/>
                  </a:lnTo>
                  <a:lnTo>
                    <a:pt x="1275" y="322"/>
                  </a:lnTo>
                  <a:lnTo>
                    <a:pt x="1281" y="305"/>
                  </a:lnTo>
                  <a:lnTo>
                    <a:pt x="1284" y="288"/>
                  </a:lnTo>
                  <a:lnTo>
                    <a:pt x="1285" y="281"/>
                  </a:lnTo>
                  <a:lnTo>
                    <a:pt x="1283" y="274"/>
                  </a:lnTo>
                  <a:lnTo>
                    <a:pt x="1278" y="270"/>
                  </a:lnTo>
                  <a:lnTo>
                    <a:pt x="1271" y="267"/>
                  </a:lnTo>
                  <a:lnTo>
                    <a:pt x="1264" y="267"/>
                  </a:lnTo>
                  <a:lnTo>
                    <a:pt x="1257" y="269"/>
                  </a:lnTo>
                  <a:lnTo>
                    <a:pt x="1252" y="273"/>
                  </a:lnTo>
                  <a:lnTo>
                    <a:pt x="1249" y="280"/>
                  </a:lnTo>
                  <a:lnTo>
                    <a:pt x="1244" y="302"/>
                  </a:lnTo>
                  <a:lnTo>
                    <a:pt x="1238" y="323"/>
                  </a:lnTo>
                  <a:lnTo>
                    <a:pt x="1235" y="345"/>
                  </a:lnTo>
                  <a:lnTo>
                    <a:pt x="1236" y="369"/>
                  </a:lnTo>
                  <a:lnTo>
                    <a:pt x="1214" y="369"/>
                  </a:lnTo>
                  <a:lnTo>
                    <a:pt x="1192" y="371"/>
                  </a:lnTo>
                  <a:lnTo>
                    <a:pt x="1170" y="373"/>
                  </a:lnTo>
                  <a:lnTo>
                    <a:pt x="1147" y="377"/>
                  </a:lnTo>
                  <a:lnTo>
                    <a:pt x="1125" y="381"/>
                  </a:lnTo>
                  <a:lnTo>
                    <a:pt x="1103" y="388"/>
                  </a:lnTo>
                  <a:lnTo>
                    <a:pt x="1082" y="394"/>
                  </a:lnTo>
                  <a:lnTo>
                    <a:pt x="1060" y="400"/>
                  </a:lnTo>
                  <a:lnTo>
                    <a:pt x="1038" y="409"/>
                  </a:lnTo>
                  <a:lnTo>
                    <a:pt x="1016" y="416"/>
                  </a:lnTo>
                  <a:lnTo>
                    <a:pt x="995" y="425"/>
                  </a:lnTo>
                  <a:lnTo>
                    <a:pt x="974" y="433"/>
                  </a:lnTo>
                  <a:lnTo>
                    <a:pt x="953" y="442"/>
                  </a:lnTo>
                  <a:lnTo>
                    <a:pt x="931" y="450"/>
                  </a:lnTo>
                  <a:lnTo>
                    <a:pt x="910" y="459"/>
                  </a:lnTo>
                  <a:lnTo>
                    <a:pt x="889" y="467"/>
                  </a:lnTo>
                  <a:lnTo>
                    <a:pt x="886" y="460"/>
                  </a:lnTo>
                  <a:lnTo>
                    <a:pt x="883" y="452"/>
                  </a:lnTo>
                  <a:lnTo>
                    <a:pt x="880" y="446"/>
                  </a:lnTo>
                  <a:lnTo>
                    <a:pt x="876" y="439"/>
                  </a:lnTo>
                  <a:lnTo>
                    <a:pt x="875" y="438"/>
                  </a:lnTo>
                  <a:lnTo>
                    <a:pt x="875" y="436"/>
                  </a:lnTo>
                  <a:lnTo>
                    <a:pt x="874" y="435"/>
                  </a:lnTo>
                  <a:lnTo>
                    <a:pt x="873" y="434"/>
                  </a:lnTo>
                  <a:lnTo>
                    <a:pt x="879" y="424"/>
                  </a:lnTo>
                  <a:lnTo>
                    <a:pt x="884" y="413"/>
                  </a:lnTo>
                  <a:lnTo>
                    <a:pt x="888" y="403"/>
                  </a:lnTo>
                  <a:lnTo>
                    <a:pt x="893" y="392"/>
                  </a:lnTo>
                  <a:lnTo>
                    <a:pt x="901" y="370"/>
                  </a:lnTo>
                  <a:lnTo>
                    <a:pt x="906" y="345"/>
                  </a:lnTo>
                  <a:lnTo>
                    <a:pt x="909" y="322"/>
                  </a:lnTo>
                  <a:lnTo>
                    <a:pt x="910" y="298"/>
                  </a:lnTo>
                  <a:lnTo>
                    <a:pt x="908" y="274"/>
                  </a:lnTo>
                  <a:lnTo>
                    <a:pt x="904" y="251"/>
                  </a:lnTo>
                  <a:lnTo>
                    <a:pt x="897" y="229"/>
                  </a:lnTo>
                  <a:lnTo>
                    <a:pt x="886" y="208"/>
                  </a:lnTo>
                  <a:lnTo>
                    <a:pt x="890" y="201"/>
                  </a:lnTo>
                  <a:lnTo>
                    <a:pt x="895" y="196"/>
                  </a:lnTo>
                  <a:lnTo>
                    <a:pt x="902" y="194"/>
                  </a:lnTo>
                  <a:lnTo>
                    <a:pt x="909" y="192"/>
                  </a:lnTo>
                  <a:lnTo>
                    <a:pt x="917" y="193"/>
                  </a:lnTo>
                  <a:lnTo>
                    <a:pt x="924" y="195"/>
                  </a:lnTo>
                  <a:lnTo>
                    <a:pt x="930" y="198"/>
                  </a:lnTo>
                  <a:lnTo>
                    <a:pt x="937" y="202"/>
                  </a:lnTo>
                  <a:lnTo>
                    <a:pt x="947" y="211"/>
                  </a:lnTo>
                  <a:lnTo>
                    <a:pt x="949" y="212"/>
                  </a:lnTo>
                  <a:lnTo>
                    <a:pt x="952" y="213"/>
                  </a:lnTo>
                  <a:lnTo>
                    <a:pt x="954" y="214"/>
                  </a:lnTo>
                  <a:lnTo>
                    <a:pt x="957" y="214"/>
                  </a:lnTo>
                  <a:lnTo>
                    <a:pt x="961" y="214"/>
                  </a:lnTo>
                  <a:lnTo>
                    <a:pt x="964" y="214"/>
                  </a:lnTo>
                  <a:lnTo>
                    <a:pt x="966" y="213"/>
                  </a:lnTo>
                  <a:lnTo>
                    <a:pt x="970" y="211"/>
                  </a:lnTo>
                  <a:lnTo>
                    <a:pt x="972" y="210"/>
                  </a:lnTo>
                  <a:lnTo>
                    <a:pt x="977" y="206"/>
                  </a:lnTo>
                  <a:lnTo>
                    <a:pt x="984" y="198"/>
                  </a:lnTo>
                  <a:lnTo>
                    <a:pt x="990" y="190"/>
                  </a:lnTo>
                  <a:lnTo>
                    <a:pt x="994" y="181"/>
                  </a:lnTo>
                  <a:lnTo>
                    <a:pt x="1001" y="175"/>
                  </a:lnTo>
                  <a:lnTo>
                    <a:pt x="1007" y="174"/>
                  </a:lnTo>
                  <a:lnTo>
                    <a:pt x="1011" y="174"/>
                  </a:lnTo>
                  <a:lnTo>
                    <a:pt x="1015" y="175"/>
                  </a:lnTo>
                  <a:lnTo>
                    <a:pt x="1019" y="177"/>
                  </a:lnTo>
                  <a:lnTo>
                    <a:pt x="1024" y="180"/>
                  </a:lnTo>
                  <a:lnTo>
                    <a:pt x="1028" y="183"/>
                  </a:lnTo>
                  <a:lnTo>
                    <a:pt x="1033" y="185"/>
                  </a:lnTo>
                  <a:lnTo>
                    <a:pt x="1037" y="187"/>
                  </a:lnTo>
                  <a:lnTo>
                    <a:pt x="1051" y="193"/>
                  </a:lnTo>
                  <a:lnTo>
                    <a:pt x="1054" y="194"/>
                  </a:lnTo>
                  <a:lnTo>
                    <a:pt x="1057" y="194"/>
                  </a:lnTo>
                  <a:lnTo>
                    <a:pt x="1061" y="194"/>
                  </a:lnTo>
                  <a:lnTo>
                    <a:pt x="1064" y="193"/>
                  </a:lnTo>
                  <a:lnTo>
                    <a:pt x="1073" y="190"/>
                  </a:lnTo>
                  <a:lnTo>
                    <a:pt x="1076" y="189"/>
                  </a:lnTo>
                  <a:lnTo>
                    <a:pt x="1079" y="188"/>
                  </a:lnTo>
                  <a:lnTo>
                    <a:pt x="1080" y="185"/>
                  </a:lnTo>
                  <a:lnTo>
                    <a:pt x="1082" y="183"/>
                  </a:lnTo>
                  <a:lnTo>
                    <a:pt x="1089" y="175"/>
                  </a:lnTo>
                  <a:lnTo>
                    <a:pt x="1091" y="171"/>
                  </a:lnTo>
                  <a:lnTo>
                    <a:pt x="1093" y="167"/>
                  </a:lnTo>
                  <a:lnTo>
                    <a:pt x="1094" y="164"/>
                  </a:lnTo>
                  <a:lnTo>
                    <a:pt x="1097" y="160"/>
                  </a:lnTo>
                  <a:lnTo>
                    <a:pt x="1101" y="158"/>
                  </a:lnTo>
                  <a:lnTo>
                    <a:pt x="1104" y="157"/>
                  </a:lnTo>
                  <a:lnTo>
                    <a:pt x="1110" y="157"/>
                  </a:lnTo>
                  <a:lnTo>
                    <a:pt x="1117" y="158"/>
                  </a:lnTo>
                  <a:lnTo>
                    <a:pt x="1123" y="160"/>
                  </a:lnTo>
                  <a:lnTo>
                    <a:pt x="1130" y="162"/>
                  </a:lnTo>
                  <a:lnTo>
                    <a:pt x="1137" y="164"/>
                  </a:lnTo>
                  <a:lnTo>
                    <a:pt x="1143" y="166"/>
                  </a:lnTo>
                  <a:lnTo>
                    <a:pt x="1149" y="167"/>
                  </a:lnTo>
                  <a:lnTo>
                    <a:pt x="1156" y="167"/>
                  </a:lnTo>
                  <a:lnTo>
                    <a:pt x="1163" y="169"/>
                  </a:lnTo>
                  <a:lnTo>
                    <a:pt x="1167" y="169"/>
                  </a:lnTo>
                  <a:lnTo>
                    <a:pt x="1171" y="167"/>
                  </a:lnTo>
                  <a:lnTo>
                    <a:pt x="1175" y="165"/>
                  </a:lnTo>
                  <a:lnTo>
                    <a:pt x="1178" y="163"/>
                  </a:lnTo>
                  <a:lnTo>
                    <a:pt x="1183" y="156"/>
                  </a:lnTo>
                  <a:lnTo>
                    <a:pt x="1190" y="151"/>
                  </a:lnTo>
                  <a:lnTo>
                    <a:pt x="1195" y="146"/>
                  </a:lnTo>
                  <a:lnTo>
                    <a:pt x="1200" y="141"/>
                  </a:lnTo>
                  <a:lnTo>
                    <a:pt x="1206" y="137"/>
                  </a:lnTo>
                  <a:lnTo>
                    <a:pt x="1212" y="135"/>
                  </a:lnTo>
                  <a:lnTo>
                    <a:pt x="1212" y="135"/>
                  </a:lnTo>
                  <a:lnTo>
                    <a:pt x="1216" y="137"/>
                  </a:lnTo>
                  <a:lnTo>
                    <a:pt x="1220" y="140"/>
                  </a:lnTo>
                  <a:lnTo>
                    <a:pt x="1225" y="142"/>
                  </a:lnTo>
                  <a:lnTo>
                    <a:pt x="1230" y="143"/>
                  </a:lnTo>
                  <a:lnTo>
                    <a:pt x="1234" y="145"/>
                  </a:lnTo>
                  <a:lnTo>
                    <a:pt x="1239" y="146"/>
                  </a:lnTo>
                  <a:lnTo>
                    <a:pt x="1244" y="146"/>
                  </a:lnTo>
                  <a:lnTo>
                    <a:pt x="1249" y="147"/>
                  </a:lnTo>
                  <a:lnTo>
                    <a:pt x="1256" y="146"/>
                  </a:lnTo>
                  <a:lnTo>
                    <a:pt x="1263" y="143"/>
                  </a:lnTo>
                  <a:lnTo>
                    <a:pt x="1267" y="138"/>
                  </a:lnTo>
                  <a:lnTo>
                    <a:pt x="1269" y="131"/>
                  </a:lnTo>
                  <a:lnTo>
                    <a:pt x="1268" y="124"/>
                  </a:lnTo>
                  <a:lnTo>
                    <a:pt x="1265" y="118"/>
                  </a:lnTo>
                  <a:lnTo>
                    <a:pt x="1260" y="113"/>
                  </a:lnTo>
                  <a:lnTo>
                    <a:pt x="1252" y="111"/>
                  </a:lnTo>
                  <a:lnTo>
                    <a:pt x="1250" y="111"/>
                  </a:lnTo>
                  <a:lnTo>
                    <a:pt x="1247" y="110"/>
                  </a:lnTo>
                  <a:lnTo>
                    <a:pt x="1245" y="110"/>
                  </a:lnTo>
                  <a:lnTo>
                    <a:pt x="1242" y="109"/>
                  </a:lnTo>
                  <a:lnTo>
                    <a:pt x="1220" y="100"/>
                  </a:lnTo>
                  <a:lnTo>
                    <a:pt x="1218" y="99"/>
                  </a:lnTo>
                  <a:lnTo>
                    <a:pt x="1216" y="98"/>
                  </a:lnTo>
                  <a:lnTo>
                    <a:pt x="1213" y="98"/>
                  </a:lnTo>
                  <a:lnTo>
                    <a:pt x="1211" y="99"/>
                  </a:lnTo>
                  <a:lnTo>
                    <a:pt x="1195" y="102"/>
                  </a:lnTo>
                  <a:lnTo>
                    <a:pt x="1190" y="105"/>
                  </a:lnTo>
                  <a:lnTo>
                    <a:pt x="1184" y="108"/>
                  </a:lnTo>
                  <a:lnTo>
                    <a:pt x="1180" y="111"/>
                  </a:lnTo>
                  <a:lnTo>
                    <a:pt x="1176" y="115"/>
                  </a:lnTo>
                  <a:lnTo>
                    <a:pt x="1159" y="131"/>
                  </a:lnTo>
                  <a:lnTo>
                    <a:pt x="1157" y="131"/>
                  </a:lnTo>
                  <a:lnTo>
                    <a:pt x="1157" y="131"/>
                  </a:lnTo>
                  <a:lnTo>
                    <a:pt x="1153" y="131"/>
                  </a:lnTo>
                  <a:lnTo>
                    <a:pt x="1147" y="130"/>
                  </a:lnTo>
                  <a:lnTo>
                    <a:pt x="1143" y="128"/>
                  </a:lnTo>
                  <a:lnTo>
                    <a:pt x="1139" y="127"/>
                  </a:lnTo>
                  <a:lnTo>
                    <a:pt x="1135" y="125"/>
                  </a:lnTo>
                  <a:lnTo>
                    <a:pt x="1130" y="124"/>
                  </a:lnTo>
                  <a:lnTo>
                    <a:pt x="1125" y="123"/>
                  </a:lnTo>
                  <a:lnTo>
                    <a:pt x="1121" y="122"/>
                  </a:lnTo>
                  <a:lnTo>
                    <a:pt x="1088" y="123"/>
                  </a:lnTo>
                  <a:lnTo>
                    <a:pt x="1086" y="124"/>
                  </a:lnTo>
                  <a:lnTo>
                    <a:pt x="1084" y="125"/>
                  </a:lnTo>
                  <a:lnTo>
                    <a:pt x="1082" y="127"/>
                  </a:lnTo>
                  <a:lnTo>
                    <a:pt x="1080" y="128"/>
                  </a:lnTo>
                  <a:lnTo>
                    <a:pt x="1075" y="134"/>
                  </a:lnTo>
                  <a:lnTo>
                    <a:pt x="1072" y="137"/>
                  </a:lnTo>
                  <a:lnTo>
                    <a:pt x="1069" y="140"/>
                  </a:lnTo>
                  <a:lnTo>
                    <a:pt x="1067" y="144"/>
                  </a:lnTo>
                  <a:lnTo>
                    <a:pt x="1065" y="147"/>
                  </a:lnTo>
                  <a:lnTo>
                    <a:pt x="1057" y="156"/>
                  </a:lnTo>
                  <a:lnTo>
                    <a:pt x="1051" y="154"/>
                  </a:lnTo>
                  <a:lnTo>
                    <a:pt x="1039" y="147"/>
                  </a:lnTo>
                  <a:lnTo>
                    <a:pt x="1027" y="143"/>
                  </a:lnTo>
                  <a:lnTo>
                    <a:pt x="1014" y="141"/>
                  </a:lnTo>
                  <a:lnTo>
                    <a:pt x="1001" y="140"/>
                  </a:lnTo>
                  <a:lnTo>
                    <a:pt x="990" y="142"/>
                  </a:lnTo>
                  <a:lnTo>
                    <a:pt x="978" y="147"/>
                  </a:lnTo>
                  <a:lnTo>
                    <a:pt x="969" y="156"/>
                  </a:lnTo>
                  <a:lnTo>
                    <a:pt x="960" y="167"/>
                  </a:lnTo>
                  <a:lnTo>
                    <a:pt x="957" y="173"/>
                  </a:lnTo>
                  <a:lnTo>
                    <a:pt x="956" y="173"/>
                  </a:lnTo>
                  <a:lnTo>
                    <a:pt x="945" y="164"/>
                  </a:lnTo>
                  <a:lnTo>
                    <a:pt x="934" y="159"/>
                  </a:lnTo>
                  <a:lnTo>
                    <a:pt x="921" y="156"/>
                  </a:lnTo>
                  <a:lnTo>
                    <a:pt x="907" y="156"/>
                  </a:lnTo>
                  <a:lnTo>
                    <a:pt x="894" y="158"/>
                  </a:lnTo>
                  <a:lnTo>
                    <a:pt x="882" y="162"/>
                  </a:lnTo>
                  <a:lnTo>
                    <a:pt x="871" y="170"/>
                  </a:lnTo>
                  <a:lnTo>
                    <a:pt x="862" y="178"/>
                  </a:lnTo>
                  <a:lnTo>
                    <a:pt x="857" y="174"/>
                  </a:lnTo>
                  <a:lnTo>
                    <a:pt x="854" y="171"/>
                  </a:lnTo>
                  <a:lnTo>
                    <a:pt x="850" y="166"/>
                  </a:lnTo>
                  <a:lnTo>
                    <a:pt x="846" y="163"/>
                  </a:lnTo>
                  <a:lnTo>
                    <a:pt x="833" y="155"/>
                  </a:lnTo>
                  <a:lnTo>
                    <a:pt x="820" y="146"/>
                  </a:lnTo>
                  <a:lnTo>
                    <a:pt x="808" y="139"/>
                  </a:lnTo>
                  <a:lnTo>
                    <a:pt x="794" y="133"/>
                  </a:lnTo>
                  <a:lnTo>
                    <a:pt x="780" y="126"/>
                  </a:lnTo>
                  <a:lnTo>
                    <a:pt x="766" y="122"/>
                  </a:lnTo>
                  <a:lnTo>
                    <a:pt x="753" y="118"/>
                  </a:lnTo>
                  <a:lnTo>
                    <a:pt x="738" y="116"/>
                  </a:lnTo>
                  <a:lnTo>
                    <a:pt x="734" y="115"/>
                  </a:lnTo>
                  <a:lnTo>
                    <a:pt x="729" y="113"/>
                  </a:lnTo>
                  <a:lnTo>
                    <a:pt x="725" y="112"/>
                  </a:lnTo>
                  <a:lnTo>
                    <a:pt x="722" y="111"/>
                  </a:lnTo>
                  <a:lnTo>
                    <a:pt x="718" y="110"/>
                  </a:lnTo>
                  <a:lnTo>
                    <a:pt x="713" y="108"/>
                  </a:lnTo>
                  <a:lnTo>
                    <a:pt x="709" y="107"/>
                  </a:lnTo>
                  <a:lnTo>
                    <a:pt x="705" y="106"/>
                  </a:lnTo>
                  <a:lnTo>
                    <a:pt x="707" y="105"/>
                  </a:lnTo>
                  <a:lnTo>
                    <a:pt x="710" y="105"/>
                  </a:lnTo>
                  <a:lnTo>
                    <a:pt x="712" y="104"/>
                  </a:lnTo>
                  <a:lnTo>
                    <a:pt x="716" y="104"/>
                  </a:lnTo>
                  <a:lnTo>
                    <a:pt x="722" y="104"/>
                  </a:lnTo>
                  <a:lnTo>
                    <a:pt x="727" y="105"/>
                  </a:lnTo>
                  <a:lnTo>
                    <a:pt x="734" y="106"/>
                  </a:lnTo>
                  <a:lnTo>
                    <a:pt x="740" y="107"/>
                  </a:lnTo>
                  <a:lnTo>
                    <a:pt x="746" y="108"/>
                  </a:lnTo>
                  <a:lnTo>
                    <a:pt x="753" y="109"/>
                  </a:lnTo>
                  <a:lnTo>
                    <a:pt x="759" y="109"/>
                  </a:lnTo>
                  <a:lnTo>
                    <a:pt x="765" y="110"/>
                  </a:lnTo>
                  <a:lnTo>
                    <a:pt x="772" y="110"/>
                  </a:lnTo>
                  <a:lnTo>
                    <a:pt x="777" y="109"/>
                  </a:lnTo>
                  <a:lnTo>
                    <a:pt x="782" y="107"/>
                  </a:lnTo>
                  <a:lnTo>
                    <a:pt x="786" y="103"/>
                  </a:lnTo>
                  <a:lnTo>
                    <a:pt x="789" y="98"/>
                  </a:lnTo>
                  <a:lnTo>
                    <a:pt x="789" y="97"/>
                  </a:lnTo>
                  <a:lnTo>
                    <a:pt x="791" y="94"/>
                  </a:lnTo>
                  <a:lnTo>
                    <a:pt x="793" y="91"/>
                  </a:lnTo>
                  <a:lnTo>
                    <a:pt x="794" y="88"/>
                  </a:lnTo>
                  <a:lnTo>
                    <a:pt x="796" y="84"/>
                  </a:lnTo>
                  <a:lnTo>
                    <a:pt x="801" y="84"/>
                  </a:lnTo>
                  <a:lnTo>
                    <a:pt x="808" y="84"/>
                  </a:lnTo>
                  <a:lnTo>
                    <a:pt x="813" y="85"/>
                  </a:lnTo>
                  <a:lnTo>
                    <a:pt x="818" y="86"/>
                  </a:lnTo>
                  <a:lnTo>
                    <a:pt x="824" y="87"/>
                  </a:lnTo>
                  <a:lnTo>
                    <a:pt x="830" y="87"/>
                  </a:lnTo>
                  <a:lnTo>
                    <a:pt x="835" y="88"/>
                  </a:lnTo>
                  <a:lnTo>
                    <a:pt x="840" y="89"/>
                  </a:lnTo>
                  <a:lnTo>
                    <a:pt x="854" y="91"/>
                  </a:lnTo>
                  <a:lnTo>
                    <a:pt x="858" y="91"/>
                  </a:lnTo>
                  <a:lnTo>
                    <a:pt x="863" y="90"/>
                  </a:lnTo>
                  <a:lnTo>
                    <a:pt x="867" y="89"/>
                  </a:lnTo>
                  <a:lnTo>
                    <a:pt x="870" y="86"/>
                  </a:lnTo>
                  <a:lnTo>
                    <a:pt x="879" y="74"/>
                  </a:lnTo>
                  <a:lnTo>
                    <a:pt x="879" y="72"/>
                  </a:lnTo>
                  <a:lnTo>
                    <a:pt x="880" y="70"/>
                  </a:lnTo>
                  <a:lnTo>
                    <a:pt x="880" y="67"/>
                  </a:lnTo>
                  <a:lnTo>
                    <a:pt x="880" y="66"/>
                  </a:lnTo>
                  <a:lnTo>
                    <a:pt x="887" y="66"/>
                  </a:lnTo>
                  <a:lnTo>
                    <a:pt x="894" y="66"/>
                  </a:lnTo>
                  <a:lnTo>
                    <a:pt x="901" y="66"/>
                  </a:lnTo>
                  <a:lnTo>
                    <a:pt x="908" y="66"/>
                  </a:lnTo>
                  <a:lnTo>
                    <a:pt x="916" y="66"/>
                  </a:lnTo>
                  <a:lnTo>
                    <a:pt x="923" y="66"/>
                  </a:lnTo>
                  <a:lnTo>
                    <a:pt x="929" y="66"/>
                  </a:lnTo>
                  <a:lnTo>
                    <a:pt x="937" y="66"/>
                  </a:lnTo>
                  <a:lnTo>
                    <a:pt x="942" y="66"/>
                  </a:lnTo>
                  <a:lnTo>
                    <a:pt x="946" y="65"/>
                  </a:lnTo>
                  <a:lnTo>
                    <a:pt x="949" y="64"/>
                  </a:lnTo>
                  <a:lnTo>
                    <a:pt x="953" y="62"/>
                  </a:lnTo>
                  <a:lnTo>
                    <a:pt x="956" y="58"/>
                  </a:lnTo>
                  <a:lnTo>
                    <a:pt x="963" y="50"/>
                  </a:lnTo>
                  <a:lnTo>
                    <a:pt x="964" y="48"/>
                  </a:lnTo>
                  <a:lnTo>
                    <a:pt x="965" y="45"/>
                  </a:lnTo>
                  <a:lnTo>
                    <a:pt x="966" y="44"/>
                  </a:lnTo>
                  <a:lnTo>
                    <a:pt x="966" y="42"/>
                  </a:lnTo>
                  <a:lnTo>
                    <a:pt x="974" y="42"/>
                  </a:lnTo>
                  <a:lnTo>
                    <a:pt x="981" y="44"/>
                  </a:lnTo>
                  <a:lnTo>
                    <a:pt x="990" y="44"/>
                  </a:lnTo>
                  <a:lnTo>
                    <a:pt x="997" y="45"/>
                  </a:lnTo>
                  <a:lnTo>
                    <a:pt x="1004" y="45"/>
                  </a:lnTo>
                  <a:lnTo>
                    <a:pt x="1012" y="42"/>
                  </a:lnTo>
                  <a:lnTo>
                    <a:pt x="1019" y="38"/>
                  </a:lnTo>
                  <a:lnTo>
                    <a:pt x="1027" y="31"/>
                  </a:lnTo>
                  <a:lnTo>
                    <a:pt x="1031" y="24"/>
                  </a:lnTo>
                  <a:lnTo>
                    <a:pt x="1032" y="18"/>
                  </a:lnTo>
                  <a:lnTo>
                    <a:pt x="1030" y="11"/>
                  </a:lnTo>
                  <a:lnTo>
                    <a:pt x="1026" y="5"/>
                  </a:lnTo>
                  <a:lnTo>
                    <a:pt x="1020" y="1"/>
                  </a:lnTo>
                  <a:lnTo>
                    <a:pt x="1013" y="0"/>
                  </a:lnTo>
                  <a:lnTo>
                    <a:pt x="1007" y="2"/>
                  </a:lnTo>
                  <a:lnTo>
                    <a:pt x="1000" y="6"/>
                  </a:lnTo>
                  <a:lnTo>
                    <a:pt x="1002" y="8"/>
                  </a:lnTo>
                  <a:lnTo>
                    <a:pt x="1004" y="9"/>
                  </a:lnTo>
                  <a:lnTo>
                    <a:pt x="1007" y="10"/>
                  </a:lnTo>
                  <a:lnTo>
                    <a:pt x="1009" y="11"/>
                  </a:lnTo>
                  <a:lnTo>
                    <a:pt x="1002" y="10"/>
                  </a:lnTo>
                  <a:lnTo>
                    <a:pt x="997" y="9"/>
                  </a:lnTo>
                  <a:lnTo>
                    <a:pt x="991" y="8"/>
                  </a:lnTo>
                  <a:lnTo>
                    <a:pt x="985" y="8"/>
                  </a:lnTo>
                  <a:lnTo>
                    <a:pt x="980" y="6"/>
                  </a:lnTo>
                  <a:lnTo>
                    <a:pt x="974" y="6"/>
                  </a:lnTo>
                  <a:lnTo>
                    <a:pt x="969" y="8"/>
                  </a:lnTo>
                  <a:lnTo>
                    <a:pt x="962" y="8"/>
                  </a:lnTo>
                  <a:lnTo>
                    <a:pt x="946" y="13"/>
                  </a:lnTo>
                  <a:lnTo>
                    <a:pt x="943" y="14"/>
                  </a:lnTo>
                  <a:lnTo>
                    <a:pt x="941" y="16"/>
                  </a:lnTo>
                  <a:lnTo>
                    <a:pt x="940" y="18"/>
                  </a:lnTo>
                  <a:lnTo>
                    <a:pt x="938" y="21"/>
                  </a:lnTo>
                  <a:lnTo>
                    <a:pt x="934" y="30"/>
                  </a:lnTo>
                  <a:lnTo>
                    <a:pt x="927" y="30"/>
                  </a:lnTo>
                  <a:lnTo>
                    <a:pt x="922" y="30"/>
                  </a:lnTo>
                  <a:lnTo>
                    <a:pt x="917" y="30"/>
                  </a:lnTo>
                  <a:lnTo>
                    <a:pt x="911" y="30"/>
                  </a:lnTo>
                  <a:lnTo>
                    <a:pt x="907" y="30"/>
                  </a:lnTo>
                  <a:lnTo>
                    <a:pt x="902" y="30"/>
                  </a:lnTo>
                  <a:lnTo>
                    <a:pt x="897" y="30"/>
                  </a:lnTo>
                  <a:lnTo>
                    <a:pt x="892" y="30"/>
                  </a:lnTo>
                  <a:lnTo>
                    <a:pt x="887" y="30"/>
                  </a:lnTo>
                  <a:lnTo>
                    <a:pt x="869" y="31"/>
                  </a:lnTo>
                  <a:lnTo>
                    <a:pt x="866" y="31"/>
                  </a:lnTo>
                  <a:lnTo>
                    <a:pt x="863" y="32"/>
                  </a:lnTo>
                  <a:lnTo>
                    <a:pt x="860" y="34"/>
                  </a:lnTo>
                  <a:lnTo>
                    <a:pt x="857" y="35"/>
                  </a:lnTo>
                  <a:lnTo>
                    <a:pt x="852" y="40"/>
                  </a:lnTo>
                  <a:lnTo>
                    <a:pt x="850" y="42"/>
                  </a:lnTo>
                  <a:lnTo>
                    <a:pt x="848" y="46"/>
                  </a:lnTo>
                  <a:lnTo>
                    <a:pt x="847" y="49"/>
                  </a:lnTo>
                  <a:lnTo>
                    <a:pt x="847" y="52"/>
                  </a:lnTo>
                  <a:lnTo>
                    <a:pt x="846" y="54"/>
                  </a:lnTo>
                  <a:lnTo>
                    <a:pt x="846" y="54"/>
                  </a:lnTo>
                  <a:lnTo>
                    <a:pt x="839" y="53"/>
                  </a:lnTo>
                  <a:lnTo>
                    <a:pt x="834" y="52"/>
                  </a:lnTo>
                  <a:lnTo>
                    <a:pt x="828" y="51"/>
                  </a:lnTo>
                  <a:lnTo>
                    <a:pt x="821" y="50"/>
                  </a:lnTo>
                  <a:lnTo>
                    <a:pt x="816" y="49"/>
                  </a:lnTo>
                  <a:lnTo>
                    <a:pt x="810" y="49"/>
                  </a:lnTo>
                  <a:lnTo>
                    <a:pt x="803" y="48"/>
                  </a:lnTo>
                  <a:lnTo>
                    <a:pt x="797" y="48"/>
                  </a:lnTo>
                  <a:lnTo>
                    <a:pt x="782" y="49"/>
                  </a:lnTo>
                  <a:lnTo>
                    <a:pt x="779" y="50"/>
                  </a:lnTo>
                  <a:lnTo>
                    <a:pt x="776" y="52"/>
                  </a:lnTo>
                  <a:lnTo>
                    <a:pt x="773" y="54"/>
                  </a:lnTo>
                  <a:lnTo>
                    <a:pt x="771" y="57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5" y="67"/>
                  </a:lnTo>
                  <a:lnTo>
                    <a:pt x="762" y="74"/>
                  </a:lnTo>
                  <a:lnTo>
                    <a:pt x="761" y="73"/>
                  </a:lnTo>
                  <a:lnTo>
                    <a:pt x="761" y="73"/>
                  </a:lnTo>
                  <a:lnTo>
                    <a:pt x="746" y="70"/>
                  </a:lnTo>
                  <a:lnTo>
                    <a:pt x="731" y="69"/>
                  </a:lnTo>
                  <a:lnTo>
                    <a:pt x="717" y="69"/>
                  </a:lnTo>
                  <a:lnTo>
                    <a:pt x="703" y="71"/>
                  </a:lnTo>
                  <a:lnTo>
                    <a:pt x="688" y="75"/>
                  </a:lnTo>
                  <a:lnTo>
                    <a:pt x="675" y="82"/>
                  </a:lnTo>
                  <a:lnTo>
                    <a:pt x="664" y="91"/>
                  </a:lnTo>
                  <a:lnTo>
                    <a:pt x="653" y="103"/>
                  </a:lnTo>
                  <a:lnTo>
                    <a:pt x="633" y="109"/>
                  </a:lnTo>
                  <a:lnTo>
                    <a:pt x="614" y="118"/>
                  </a:lnTo>
                  <a:lnTo>
                    <a:pt x="597" y="128"/>
                  </a:lnTo>
                  <a:lnTo>
                    <a:pt x="580" y="142"/>
                  </a:lnTo>
                  <a:lnTo>
                    <a:pt x="565" y="157"/>
                  </a:lnTo>
                  <a:lnTo>
                    <a:pt x="550" y="172"/>
                  </a:lnTo>
                  <a:lnTo>
                    <a:pt x="537" y="189"/>
                  </a:lnTo>
                  <a:lnTo>
                    <a:pt x="523" y="205"/>
                  </a:lnTo>
                  <a:lnTo>
                    <a:pt x="510" y="221"/>
                  </a:lnTo>
                  <a:lnTo>
                    <a:pt x="500" y="238"/>
                  </a:lnTo>
                  <a:lnTo>
                    <a:pt x="491" y="257"/>
                  </a:lnTo>
                  <a:lnTo>
                    <a:pt x="484" y="277"/>
                  </a:lnTo>
                  <a:lnTo>
                    <a:pt x="479" y="296"/>
                  </a:lnTo>
                  <a:lnTo>
                    <a:pt x="475" y="315"/>
                  </a:lnTo>
                  <a:lnTo>
                    <a:pt x="473" y="335"/>
                  </a:lnTo>
                  <a:lnTo>
                    <a:pt x="472" y="355"/>
                  </a:lnTo>
                  <a:lnTo>
                    <a:pt x="476" y="367"/>
                  </a:lnTo>
                  <a:lnTo>
                    <a:pt x="481" y="378"/>
                  </a:lnTo>
                  <a:lnTo>
                    <a:pt x="486" y="389"/>
                  </a:lnTo>
                  <a:lnTo>
                    <a:pt x="492" y="399"/>
                  </a:lnTo>
                  <a:lnTo>
                    <a:pt x="500" y="410"/>
                  </a:lnTo>
                  <a:lnTo>
                    <a:pt x="506" y="418"/>
                  </a:lnTo>
                  <a:lnTo>
                    <a:pt x="515" y="428"/>
                  </a:lnTo>
                  <a:lnTo>
                    <a:pt x="523" y="436"/>
                  </a:lnTo>
                  <a:lnTo>
                    <a:pt x="522" y="439"/>
                  </a:lnTo>
                  <a:lnTo>
                    <a:pt x="522" y="440"/>
                  </a:lnTo>
                  <a:lnTo>
                    <a:pt x="521" y="442"/>
                  </a:lnTo>
                  <a:lnTo>
                    <a:pt x="520" y="444"/>
                  </a:lnTo>
                  <a:lnTo>
                    <a:pt x="520" y="451"/>
                  </a:lnTo>
                  <a:lnTo>
                    <a:pt x="520" y="459"/>
                  </a:lnTo>
                  <a:lnTo>
                    <a:pt x="520" y="467"/>
                  </a:lnTo>
                  <a:lnTo>
                    <a:pt x="519" y="475"/>
                  </a:lnTo>
                  <a:lnTo>
                    <a:pt x="505" y="471"/>
                  </a:lnTo>
                  <a:lnTo>
                    <a:pt x="492" y="468"/>
                  </a:lnTo>
                  <a:lnTo>
                    <a:pt x="479" y="465"/>
                  </a:lnTo>
                  <a:lnTo>
                    <a:pt x="466" y="462"/>
                  </a:lnTo>
                  <a:lnTo>
                    <a:pt x="452" y="460"/>
                  </a:lnTo>
                  <a:lnTo>
                    <a:pt x="438" y="457"/>
                  </a:lnTo>
                  <a:lnTo>
                    <a:pt x="425" y="455"/>
                  </a:lnTo>
                  <a:lnTo>
                    <a:pt x="412" y="452"/>
                  </a:lnTo>
                  <a:lnTo>
                    <a:pt x="398" y="451"/>
                  </a:lnTo>
                  <a:lnTo>
                    <a:pt x="384" y="449"/>
                  </a:lnTo>
                  <a:lnTo>
                    <a:pt x="371" y="448"/>
                  </a:lnTo>
                  <a:lnTo>
                    <a:pt x="358" y="448"/>
                  </a:lnTo>
                  <a:lnTo>
                    <a:pt x="344" y="448"/>
                  </a:lnTo>
                  <a:lnTo>
                    <a:pt x="330" y="448"/>
                  </a:lnTo>
                  <a:lnTo>
                    <a:pt x="317" y="448"/>
                  </a:lnTo>
                  <a:lnTo>
                    <a:pt x="303" y="449"/>
                  </a:lnTo>
                  <a:lnTo>
                    <a:pt x="282" y="452"/>
                  </a:lnTo>
                  <a:lnTo>
                    <a:pt x="262" y="457"/>
                  </a:lnTo>
                  <a:lnTo>
                    <a:pt x="241" y="464"/>
                  </a:lnTo>
                  <a:lnTo>
                    <a:pt x="222" y="471"/>
                  </a:lnTo>
                  <a:lnTo>
                    <a:pt x="204" y="481"/>
                  </a:lnTo>
                  <a:lnTo>
                    <a:pt x="185" y="491"/>
                  </a:lnTo>
                  <a:lnTo>
                    <a:pt x="167" y="500"/>
                  </a:lnTo>
                  <a:lnTo>
                    <a:pt x="148" y="510"/>
                  </a:lnTo>
                  <a:lnTo>
                    <a:pt x="135" y="503"/>
                  </a:lnTo>
                  <a:lnTo>
                    <a:pt x="121" y="497"/>
                  </a:lnTo>
                  <a:lnTo>
                    <a:pt x="107" y="493"/>
                  </a:lnTo>
                  <a:lnTo>
                    <a:pt x="92" y="488"/>
                  </a:lnTo>
                  <a:lnTo>
                    <a:pt x="76" y="486"/>
                  </a:lnTo>
                  <a:lnTo>
                    <a:pt x="62" y="487"/>
                  </a:lnTo>
                  <a:lnTo>
                    <a:pt x="46" y="491"/>
                  </a:lnTo>
                  <a:lnTo>
                    <a:pt x="30" y="497"/>
                  </a:lnTo>
                  <a:lnTo>
                    <a:pt x="26" y="502"/>
                  </a:lnTo>
                  <a:lnTo>
                    <a:pt x="23" y="509"/>
                  </a:lnTo>
                  <a:lnTo>
                    <a:pt x="23" y="516"/>
                  </a:lnTo>
                  <a:lnTo>
                    <a:pt x="26" y="522"/>
                  </a:lnTo>
                  <a:lnTo>
                    <a:pt x="31" y="527"/>
                  </a:lnTo>
                  <a:lnTo>
                    <a:pt x="38" y="529"/>
                  </a:lnTo>
                  <a:lnTo>
                    <a:pt x="45" y="529"/>
                  </a:lnTo>
                  <a:lnTo>
                    <a:pt x="51" y="525"/>
                  </a:lnTo>
                  <a:lnTo>
                    <a:pt x="58" y="524"/>
                  </a:lnTo>
                  <a:lnTo>
                    <a:pt x="66" y="524"/>
                  </a:lnTo>
                  <a:lnTo>
                    <a:pt x="73" y="524"/>
                  </a:lnTo>
                  <a:lnTo>
                    <a:pt x="81" y="524"/>
                  </a:lnTo>
                  <a:lnTo>
                    <a:pt x="88" y="525"/>
                  </a:lnTo>
                  <a:lnTo>
                    <a:pt x="95" y="527"/>
                  </a:lnTo>
                  <a:lnTo>
                    <a:pt x="103" y="529"/>
                  </a:lnTo>
                  <a:lnTo>
                    <a:pt x="109" y="531"/>
                  </a:lnTo>
                  <a:lnTo>
                    <a:pt x="96" y="535"/>
                  </a:lnTo>
                  <a:lnTo>
                    <a:pt x="84" y="539"/>
                  </a:lnTo>
                  <a:lnTo>
                    <a:pt x="71" y="543"/>
                  </a:lnTo>
                  <a:lnTo>
                    <a:pt x="58" y="548"/>
                  </a:lnTo>
                  <a:lnTo>
                    <a:pt x="47" y="553"/>
                  </a:lnTo>
                  <a:lnTo>
                    <a:pt x="34" y="558"/>
                  </a:lnTo>
                  <a:lnTo>
                    <a:pt x="22" y="564"/>
                  </a:lnTo>
                  <a:lnTo>
                    <a:pt x="11" y="570"/>
                  </a:lnTo>
                  <a:lnTo>
                    <a:pt x="4" y="574"/>
                  </a:lnTo>
                  <a:lnTo>
                    <a:pt x="1" y="579"/>
                  </a:lnTo>
                  <a:lnTo>
                    <a:pt x="0" y="587"/>
                  </a:lnTo>
                  <a:lnTo>
                    <a:pt x="2" y="593"/>
                  </a:lnTo>
                  <a:lnTo>
                    <a:pt x="7" y="600"/>
                  </a:lnTo>
                  <a:lnTo>
                    <a:pt x="13" y="603"/>
                  </a:lnTo>
                  <a:lnTo>
                    <a:pt x="19" y="604"/>
                  </a:lnTo>
                  <a:lnTo>
                    <a:pt x="26" y="602"/>
                  </a:lnTo>
                  <a:lnTo>
                    <a:pt x="35" y="596"/>
                  </a:lnTo>
                  <a:lnTo>
                    <a:pt x="46" y="592"/>
                  </a:lnTo>
                  <a:lnTo>
                    <a:pt x="55" y="588"/>
                  </a:lnTo>
                  <a:lnTo>
                    <a:pt x="66" y="584"/>
                  </a:lnTo>
                  <a:lnTo>
                    <a:pt x="76" y="579"/>
                  </a:lnTo>
                  <a:lnTo>
                    <a:pt x="87" y="575"/>
                  </a:lnTo>
                  <a:lnTo>
                    <a:pt x="96" y="572"/>
                  </a:lnTo>
                  <a:lnTo>
                    <a:pt x="107" y="569"/>
                  </a:lnTo>
                  <a:lnTo>
                    <a:pt x="101" y="578"/>
                  </a:lnTo>
                  <a:lnTo>
                    <a:pt x="94" y="589"/>
                  </a:lnTo>
                  <a:lnTo>
                    <a:pt x="87" y="599"/>
                  </a:lnTo>
                  <a:lnTo>
                    <a:pt x="81" y="609"/>
                  </a:lnTo>
                  <a:lnTo>
                    <a:pt x="74" y="620"/>
                  </a:lnTo>
                  <a:lnTo>
                    <a:pt x="69" y="630"/>
                  </a:lnTo>
                  <a:lnTo>
                    <a:pt x="64" y="641"/>
                  </a:lnTo>
                  <a:lnTo>
                    <a:pt x="59" y="653"/>
                  </a:lnTo>
                  <a:lnTo>
                    <a:pt x="58" y="660"/>
                  </a:lnTo>
                  <a:lnTo>
                    <a:pt x="59" y="666"/>
                  </a:lnTo>
                  <a:lnTo>
                    <a:pt x="64" y="673"/>
                  </a:lnTo>
                  <a:lnTo>
                    <a:pt x="69" y="676"/>
                  </a:lnTo>
                  <a:lnTo>
                    <a:pt x="76" y="678"/>
                  </a:lnTo>
                  <a:lnTo>
                    <a:pt x="83" y="676"/>
                  </a:lnTo>
                  <a:lnTo>
                    <a:pt x="89" y="673"/>
                  </a:lnTo>
                  <a:lnTo>
                    <a:pt x="92" y="666"/>
                  </a:lnTo>
                  <a:lnTo>
                    <a:pt x="98" y="654"/>
                  </a:lnTo>
                  <a:lnTo>
                    <a:pt x="103" y="641"/>
                  </a:lnTo>
                  <a:lnTo>
                    <a:pt x="110" y="629"/>
                  </a:lnTo>
                  <a:lnTo>
                    <a:pt x="118" y="618"/>
                  </a:lnTo>
                  <a:lnTo>
                    <a:pt x="125" y="607"/>
                  </a:lnTo>
                  <a:lnTo>
                    <a:pt x="132" y="595"/>
                  </a:lnTo>
                  <a:lnTo>
                    <a:pt x="140" y="584"/>
                  </a:lnTo>
                  <a:lnTo>
                    <a:pt x="147" y="572"/>
                  </a:lnTo>
                  <a:lnTo>
                    <a:pt x="149" y="568"/>
                  </a:lnTo>
                  <a:lnTo>
                    <a:pt x="150" y="563"/>
                  </a:lnTo>
                  <a:lnTo>
                    <a:pt x="149" y="558"/>
                  </a:lnTo>
                  <a:lnTo>
                    <a:pt x="147" y="553"/>
                  </a:lnTo>
                  <a:lnTo>
                    <a:pt x="148" y="551"/>
                  </a:lnTo>
                  <a:lnTo>
                    <a:pt x="149" y="550"/>
                  </a:lnTo>
                  <a:lnTo>
                    <a:pt x="150" y="548"/>
                  </a:lnTo>
                  <a:lnTo>
                    <a:pt x="152" y="546"/>
                  </a:lnTo>
                  <a:lnTo>
                    <a:pt x="153" y="546"/>
                  </a:lnTo>
                  <a:lnTo>
                    <a:pt x="154" y="546"/>
                  </a:lnTo>
                  <a:lnTo>
                    <a:pt x="155" y="546"/>
                  </a:lnTo>
                  <a:lnTo>
                    <a:pt x="156" y="546"/>
                  </a:lnTo>
                  <a:lnTo>
                    <a:pt x="174" y="537"/>
                  </a:lnTo>
                  <a:lnTo>
                    <a:pt x="192" y="528"/>
                  </a:lnTo>
                  <a:lnTo>
                    <a:pt x="210" y="519"/>
                  </a:lnTo>
                  <a:lnTo>
                    <a:pt x="228" y="510"/>
                  </a:lnTo>
                  <a:lnTo>
                    <a:pt x="246" y="501"/>
                  </a:lnTo>
                  <a:lnTo>
                    <a:pt x="264" y="495"/>
                  </a:lnTo>
                  <a:lnTo>
                    <a:pt x="283" y="488"/>
                  </a:lnTo>
                  <a:lnTo>
                    <a:pt x="303" y="485"/>
                  </a:lnTo>
                  <a:lnTo>
                    <a:pt x="316" y="484"/>
                  </a:lnTo>
                  <a:lnTo>
                    <a:pt x="329" y="483"/>
                  </a:lnTo>
                  <a:lnTo>
                    <a:pt x="342" y="483"/>
                  </a:lnTo>
                  <a:lnTo>
                    <a:pt x="355" y="483"/>
                  </a:lnTo>
                  <a:lnTo>
                    <a:pt x="368" y="484"/>
                  </a:lnTo>
                  <a:lnTo>
                    <a:pt x="381" y="485"/>
                  </a:lnTo>
                  <a:lnTo>
                    <a:pt x="394" y="486"/>
                  </a:lnTo>
                  <a:lnTo>
                    <a:pt x="408" y="488"/>
                  </a:lnTo>
                  <a:lnTo>
                    <a:pt x="420" y="491"/>
                  </a:lnTo>
                  <a:lnTo>
                    <a:pt x="433" y="493"/>
                  </a:lnTo>
                  <a:lnTo>
                    <a:pt x="446" y="495"/>
                  </a:lnTo>
                  <a:lnTo>
                    <a:pt x="459" y="498"/>
                  </a:lnTo>
                  <a:lnTo>
                    <a:pt x="472" y="500"/>
                  </a:lnTo>
                  <a:lnTo>
                    <a:pt x="485" y="503"/>
                  </a:lnTo>
                  <a:lnTo>
                    <a:pt x="498" y="505"/>
                  </a:lnTo>
                  <a:lnTo>
                    <a:pt x="510" y="509"/>
                  </a:lnTo>
                  <a:lnTo>
                    <a:pt x="512" y="510"/>
                  </a:lnTo>
                  <a:lnTo>
                    <a:pt x="513" y="510"/>
                  </a:lnTo>
                  <a:lnTo>
                    <a:pt x="516" y="510"/>
                  </a:lnTo>
                  <a:lnTo>
                    <a:pt x="517" y="510"/>
                  </a:lnTo>
                  <a:lnTo>
                    <a:pt x="509" y="652"/>
                  </a:lnTo>
                  <a:lnTo>
                    <a:pt x="503" y="797"/>
                  </a:lnTo>
                  <a:lnTo>
                    <a:pt x="497" y="942"/>
                  </a:lnTo>
                  <a:lnTo>
                    <a:pt x="491" y="1079"/>
                  </a:lnTo>
                  <a:lnTo>
                    <a:pt x="498" y="1108"/>
                  </a:lnTo>
                  <a:lnTo>
                    <a:pt x="501" y="1112"/>
                  </a:lnTo>
                  <a:lnTo>
                    <a:pt x="505" y="1115"/>
                  </a:lnTo>
                  <a:lnTo>
                    <a:pt x="510" y="1118"/>
                  </a:lnTo>
                  <a:lnTo>
                    <a:pt x="516" y="1118"/>
                  </a:lnTo>
                  <a:lnTo>
                    <a:pt x="536" y="1115"/>
                  </a:lnTo>
                  <a:lnTo>
                    <a:pt x="543" y="1113"/>
                  </a:lnTo>
                  <a:lnTo>
                    <a:pt x="550" y="1110"/>
                  </a:lnTo>
                  <a:lnTo>
                    <a:pt x="558" y="1109"/>
                  </a:lnTo>
                  <a:lnTo>
                    <a:pt x="565" y="1109"/>
                  </a:lnTo>
                  <a:lnTo>
                    <a:pt x="576" y="1110"/>
                  </a:lnTo>
                  <a:lnTo>
                    <a:pt x="588" y="1110"/>
                  </a:lnTo>
                  <a:lnTo>
                    <a:pt x="598" y="1110"/>
                  </a:lnTo>
                  <a:lnTo>
                    <a:pt x="610" y="1110"/>
                  </a:lnTo>
                  <a:lnTo>
                    <a:pt x="620" y="1110"/>
                  </a:lnTo>
                  <a:lnTo>
                    <a:pt x="632" y="1109"/>
                  </a:lnTo>
                  <a:lnTo>
                    <a:pt x="643" y="1109"/>
                  </a:lnTo>
                  <a:lnTo>
                    <a:pt x="653" y="1108"/>
                  </a:lnTo>
                  <a:lnTo>
                    <a:pt x="659" y="1154"/>
                  </a:lnTo>
                  <a:lnTo>
                    <a:pt x="668" y="1198"/>
                  </a:lnTo>
                  <a:lnTo>
                    <a:pt x="675" y="1243"/>
                  </a:lnTo>
                  <a:lnTo>
                    <a:pt x="682" y="1287"/>
                  </a:lnTo>
                  <a:lnTo>
                    <a:pt x="675" y="1303"/>
                  </a:lnTo>
                  <a:lnTo>
                    <a:pt x="669" y="1318"/>
                  </a:lnTo>
                  <a:lnTo>
                    <a:pt x="662" y="1334"/>
                  </a:lnTo>
                  <a:lnTo>
                    <a:pt x="654" y="1350"/>
                  </a:lnTo>
                  <a:lnTo>
                    <a:pt x="634" y="1356"/>
                  </a:lnTo>
                  <a:lnTo>
                    <a:pt x="614" y="1362"/>
                  </a:lnTo>
                  <a:lnTo>
                    <a:pt x="594" y="1369"/>
                  </a:lnTo>
                  <a:lnTo>
                    <a:pt x="574" y="1375"/>
                  </a:lnTo>
                  <a:lnTo>
                    <a:pt x="555" y="1382"/>
                  </a:lnTo>
                  <a:lnTo>
                    <a:pt x="535" y="1390"/>
                  </a:lnTo>
                  <a:lnTo>
                    <a:pt x="515" y="1396"/>
                  </a:lnTo>
                  <a:lnTo>
                    <a:pt x="494" y="1404"/>
                  </a:lnTo>
                  <a:lnTo>
                    <a:pt x="474" y="1412"/>
                  </a:lnTo>
                  <a:lnTo>
                    <a:pt x="454" y="1419"/>
                  </a:lnTo>
                  <a:lnTo>
                    <a:pt x="434" y="1428"/>
                  </a:lnTo>
                  <a:lnTo>
                    <a:pt x="415" y="1436"/>
                  </a:lnTo>
                  <a:lnTo>
                    <a:pt x="395" y="1445"/>
                  </a:lnTo>
                  <a:lnTo>
                    <a:pt x="375" y="1453"/>
                  </a:lnTo>
                  <a:lnTo>
                    <a:pt x="355" y="1462"/>
                  </a:lnTo>
                  <a:lnTo>
                    <a:pt x="335" y="1471"/>
                  </a:lnTo>
                  <a:lnTo>
                    <a:pt x="322" y="1480"/>
                  </a:lnTo>
                  <a:lnTo>
                    <a:pt x="321" y="1482"/>
                  </a:lnTo>
                  <a:lnTo>
                    <a:pt x="319" y="1484"/>
                  </a:lnTo>
                  <a:lnTo>
                    <a:pt x="318" y="1486"/>
                  </a:lnTo>
                  <a:lnTo>
                    <a:pt x="316" y="1488"/>
                  </a:lnTo>
                  <a:lnTo>
                    <a:pt x="311" y="1503"/>
                  </a:lnTo>
                  <a:lnTo>
                    <a:pt x="311" y="1512"/>
                  </a:lnTo>
                  <a:lnTo>
                    <a:pt x="311" y="1520"/>
                  </a:lnTo>
                  <a:lnTo>
                    <a:pt x="311" y="1529"/>
                  </a:lnTo>
                  <a:lnTo>
                    <a:pt x="313" y="1537"/>
                  </a:lnTo>
                  <a:lnTo>
                    <a:pt x="317" y="1554"/>
                  </a:lnTo>
                  <a:lnTo>
                    <a:pt x="318" y="1558"/>
                  </a:lnTo>
                  <a:lnTo>
                    <a:pt x="320" y="1561"/>
                  </a:lnTo>
                  <a:lnTo>
                    <a:pt x="323" y="1563"/>
                  </a:lnTo>
                  <a:lnTo>
                    <a:pt x="326" y="1566"/>
                  </a:lnTo>
                  <a:lnTo>
                    <a:pt x="335" y="1571"/>
                  </a:lnTo>
                  <a:lnTo>
                    <a:pt x="346" y="1580"/>
                  </a:lnTo>
                  <a:lnTo>
                    <a:pt x="358" y="1590"/>
                  </a:lnTo>
                  <a:lnTo>
                    <a:pt x="370" y="1599"/>
                  </a:lnTo>
                  <a:lnTo>
                    <a:pt x="382" y="1608"/>
                  </a:lnTo>
                  <a:lnTo>
                    <a:pt x="394" y="1616"/>
                  </a:lnTo>
                  <a:lnTo>
                    <a:pt x="407" y="1624"/>
                  </a:lnTo>
                  <a:lnTo>
                    <a:pt x="419" y="1632"/>
                  </a:lnTo>
                  <a:lnTo>
                    <a:pt x="433" y="1639"/>
                  </a:lnTo>
                  <a:lnTo>
                    <a:pt x="446" y="1646"/>
                  </a:lnTo>
                  <a:lnTo>
                    <a:pt x="459" y="1652"/>
                  </a:lnTo>
                  <a:lnTo>
                    <a:pt x="473" y="1659"/>
                  </a:lnTo>
                  <a:lnTo>
                    <a:pt x="487" y="1664"/>
                  </a:lnTo>
                  <a:lnTo>
                    <a:pt x="501" y="1669"/>
                  </a:lnTo>
                  <a:lnTo>
                    <a:pt x="516" y="1674"/>
                  </a:lnTo>
                  <a:lnTo>
                    <a:pt x="529" y="1678"/>
                  </a:lnTo>
                  <a:lnTo>
                    <a:pt x="544" y="1682"/>
                  </a:lnTo>
                  <a:lnTo>
                    <a:pt x="558" y="1681"/>
                  </a:lnTo>
                  <a:lnTo>
                    <a:pt x="572" y="1681"/>
                  </a:lnTo>
                  <a:lnTo>
                    <a:pt x="584" y="1680"/>
                  </a:lnTo>
                  <a:lnTo>
                    <a:pt x="598" y="1678"/>
                  </a:lnTo>
                  <a:lnTo>
                    <a:pt x="612" y="1677"/>
                  </a:lnTo>
                  <a:lnTo>
                    <a:pt x="626" y="1676"/>
                  </a:lnTo>
                  <a:lnTo>
                    <a:pt x="638" y="1674"/>
                  </a:lnTo>
                  <a:lnTo>
                    <a:pt x="652" y="1672"/>
                  </a:lnTo>
                  <a:lnTo>
                    <a:pt x="652" y="1675"/>
                  </a:lnTo>
                  <a:lnTo>
                    <a:pt x="653" y="1678"/>
                  </a:lnTo>
                  <a:lnTo>
                    <a:pt x="653" y="1681"/>
                  </a:lnTo>
                  <a:lnTo>
                    <a:pt x="653" y="1685"/>
                  </a:lnTo>
                  <a:lnTo>
                    <a:pt x="652" y="1693"/>
                  </a:lnTo>
                  <a:lnTo>
                    <a:pt x="652" y="1695"/>
                  </a:lnTo>
                  <a:lnTo>
                    <a:pt x="653" y="1697"/>
                  </a:lnTo>
                  <a:lnTo>
                    <a:pt x="654" y="1699"/>
                  </a:lnTo>
                  <a:lnTo>
                    <a:pt x="655" y="1701"/>
                  </a:lnTo>
                  <a:lnTo>
                    <a:pt x="663" y="1713"/>
                  </a:lnTo>
                  <a:lnTo>
                    <a:pt x="673" y="1721"/>
                  </a:lnTo>
                  <a:lnTo>
                    <a:pt x="686" y="1729"/>
                  </a:lnTo>
                  <a:lnTo>
                    <a:pt x="700" y="1733"/>
                  </a:lnTo>
                  <a:lnTo>
                    <a:pt x="713" y="1736"/>
                  </a:lnTo>
                  <a:lnTo>
                    <a:pt x="727" y="1737"/>
                  </a:lnTo>
                  <a:lnTo>
                    <a:pt x="741" y="1736"/>
                  </a:lnTo>
                  <a:lnTo>
                    <a:pt x="754" y="1732"/>
                  </a:lnTo>
                  <a:lnTo>
                    <a:pt x="765" y="1724"/>
                  </a:lnTo>
                  <a:lnTo>
                    <a:pt x="778" y="1710"/>
                  </a:lnTo>
                  <a:lnTo>
                    <a:pt x="784" y="1691"/>
                  </a:lnTo>
                  <a:lnTo>
                    <a:pt x="784" y="1670"/>
                  </a:lnTo>
                  <a:lnTo>
                    <a:pt x="778" y="1651"/>
                  </a:lnTo>
                  <a:lnTo>
                    <a:pt x="778" y="1650"/>
                  </a:lnTo>
                  <a:lnTo>
                    <a:pt x="777" y="1649"/>
                  </a:lnTo>
                  <a:lnTo>
                    <a:pt x="777" y="1648"/>
                  </a:lnTo>
                  <a:lnTo>
                    <a:pt x="776" y="1647"/>
                  </a:lnTo>
                  <a:lnTo>
                    <a:pt x="790" y="1644"/>
                  </a:lnTo>
                  <a:lnTo>
                    <a:pt x="802" y="1640"/>
                  </a:lnTo>
                  <a:lnTo>
                    <a:pt x="816" y="1637"/>
                  </a:lnTo>
                  <a:lnTo>
                    <a:pt x="830" y="1632"/>
                  </a:lnTo>
                  <a:lnTo>
                    <a:pt x="843" y="1629"/>
                  </a:lnTo>
                  <a:lnTo>
                    <a:pt x="856" y="1625"/>
                  </a:lnTo>
                  <a:lnTo>
                    <a:pt x="870" y="1621"/>
                  </a:lnTo>
                  <a:lnTo>
                    <a:pt x="883" y="1616"/>
                  </a:lnTo>
                  <a:lnTo>
                    <a:pt x="897" y="1612"/>
                  </a:lnTo>
                  <a:lnTo>
                    <a:pt x="909" y="1608"/>
                  </a:lnTo>
                  <a:lnTo>
                    <a:pt x="923" y="1603"/>
                  </a:lnTo>
                  <a:lnTo>
                    <a:pt x="936" y="1598"/>
                  </a:lnTo>
                  <a:lnTo>
                    <a:pt x="949" y="1593"/>
                  </a:lnTo>
                  <a:lnTo>
                    <a:pt x="962" y="1589"/>
                  </a:lnTo>
                  <a:lnTo>
                    <a:pt x="976" y="1584"/>
                  </a:lnTo>
                  <a:lnTo>
                    <a:pt x="989" y="1578"/>
                  </a:lnTo>
                  <a:lnTo>
                    <a:pt x="1002" y="1572"/>
                  </a:lnTo>
                  <a:lnTo>
                    <a:pt x="1016" y="1567"/>
                  </a:lnTo>
                  <a:lnTo>
                    <a:pt x="1030" y="1560"/>
                  </a:lnTo>
                  <a:lnTo>
                    <a:pt x="1044" y="1555"/>
                  </a:lnTo>
                  <a:lnTo>
                    <a:pt x="1057" y="1550"/>
                  </a:lnTo>
                  <a:lnTo>
                    <a:pt x="1071" y="1543"/>
                  </a:lnTo>
                  <a:lnTo>
                    <a:pt x="1085" y="1538"/>
                  </a:lnTo>
                  <a:lnTo>
                    <a:pt x="1099" y="1532"/>
                  </a:lnTo>
                  <a:lnTo>
                    <a:pt x="1104" y="1543"/>
                  </a:lnTo>
                  <a:lnTo>
                    <a:pt x="1110" y="1554"/>
                  </a:lnTo>
                  <a:lnTo>
                    <a:pt x="1120" y="1563"/>
                  </a:lnTo>
                  <a:lnTo>
                    <a:pt x="1130" y="1571"/>
                  </a:lnTo>
                  <a:lnTo>
                    <a:pt x="1141" y="1576"/>
                  </a:lnTo>
                  <a:lnTo>
                    <a:pt x="1154" y="1580"/>
                  </a:lnTo>
                  <a:lnTo>
                    <a:pt x="1166" y="1583"/>
                  </a:lnTo>
                  <a:lnTo>
                    <a:pt x="1180" y="1581"/>
                  </a:lnTo>
                  <a:lnTo>
                    <a:pt x="1201" y="1574"/>
                  </a:lnTo>
                  <a:lnTo>
                    <a:pt x="1205" y="1572"/>
                  </a:lnTo>
                  <a:lnTo>
                    <a:pt x="1208" y="1570"/>
                  </a:lnTo>
                  <a:lnTo>
                    <a:pt x="1211" y="1567"/>
                  </a:lnTo>
                  <a:lnTo>
                    <a:pt x="1213" y="1562"/>
                  </a:lnTo>
                  <a:lnTo>
                    <a:pt x="1215" y="1553"/>
                  </a:lnTo>
                  <a:lnTo>
                    <a:pt x="1222" y="1534"/>
                  </a:lnTo>
                  <a:lnTo>
                    <a:pt x="1225" y="1514"/>
                  </a:lnTo>
                  <a:lnTo>
                    <a:pt x="1219" y="1494"/>
                  </a:lnTo>
                  <a:lnTo>
                    <a:pt x="1207" y="1478"/>
                  </a:lnTo>
                  <a:lnTo>
                    <a:pt x="1217" y="1471"/>
                  </a:lnTo>
                  <a:lnTo>
                    <a:pt x="1229" y="1465"/>
                  </a:lnTo>
                  <a:lnTo>
                    <a:pt x="1239" y="1458"/>
                  </a:lnTo>
                  <a:lnTo>
                    <a:pt x="1251" y="1451"/>
                  </a:lnTo>
                  <a:lnTo>
                    <a:pt x="1262" y="1444"/>
                  </a:lnTo>
                  <a:lnTo>
                    <a:pt x="1272" y="1436"/>
                  </a:lnTo>
                  <a:lnTo>
                    <a:pt x="1282" y="1429"/>
                  </a:lnTo>
                  <a:lnTo>
                    <a:pt x="1292" y="1422"/>
                  </a:lnTo>
                  <a:lnTo>
                    <a:pt x="1308" y="1410"/>
                  </a:lnTo>
                  <a:lnTo>
                    <a:pt x="1310" y="1408"/>
                  </a:lnTo>
                  <a:lnTo>
                    <a:pt x="1312" y="1405"/>
                  </a:lnTo>
                  <a:lnTo>
                    <a:pt x="1314" y="1401"/>
                  </a:lnTo>
                  <a:lnTo>
                    <a:pt x="1315" y="1397"/>
                  </a:lnTo>
                  <a:lnTo>
                    <a:pt x="1316" y="1381"/>
                  </a:lnTo>
                  <a:lnTo>
                    <a:pt x="1307" y="1364"/>
                  </a:lnTo>
                  <a:lnTo>
                    <a:pt x="1298" y="1350"/>
                  </a:lnTo>
                  <a:lnTo>
                    <a:pt x="1286" y="1336"/>
                  </a:lnTo>
                  <a:lnTo>
                    <a:pt x="1273" y="1323"/>
                  </a:lnTo>
                  <a:lnTo>
                    <a:pt x="1261" y="1311"/>
                  </a:lnTo>
                  <a:lnTo>
                    <a:pt x="1246" y="1302"/>
                  </a:lnTo>
                  <a:lnTo>
                    <a:pt x="1231" y="1292"/>
                  </a:lnTo>
                  <a:lnTo>
                    <a:pt x="1215" y="1284"/>
                  </a:lnTo>
                  <a:lnTo>
                    <a:pt x="1198" y="1277"/>
                  </a:lnTo>
                  <a:lnTo>
                    <a:pt x="1181" y="1271"/>
                  </a:lnTo>
                  <a:lnTo>
                    <a:pt x="1163" y="1265"/>
                  </a:lnTo>
                  <a:lnTo>
                    <a:pt x="1146" y="1261"/>
                  </a:lnTo>
                  <a:lnTo>
                    <a:pt x="1128" y="1256"/>
                  </a:lnTo>
                  <a:lnTo>
                    <a:pt x="1110" y="1252"/>
                  </a:lnTo>
                  <a:lnTo>
                    <a:pt x="1092" y="1249"/>
                  </a:lnTo>
                  <a:lnTo>
                    <a:pt x="1075" y="1247"/>
                  </a:lnTo>
                  <a:lnTo>
                    <a:pt x="1074" y="1247"/>
                  </a:lnTo>
                  <a:lnTo>
                    <a:pt x="1072" y="1247"/>
                  </a:lnTo>
                  <a:lnTo>
                    <a:pt x="1071" y="1247"/>
                  </a:lnTo>
                  <a:lnTo>
                    <a:pt x="1069" y="1248"/>
                  </a:lnTo>
                  <a:lnTo>
                    <a:pt x="1069" y="1248"/>
                  </a:lnTo>
                  <a:lnTo>
                    <a:pt x="1058" y="1250"/>
                  </a:lnTo>
                  <a:lnTo>
                    <a:pt x="1048" y="1252"/>
                  </a:lnTo>
                  <a:lnTo>
                    <a:pt x="1037" y="1254"/>
                  </a:lnTo>
                  <a:lnTo>
                    <a:pt x="1028" y="1256"/>
                  </a:lnTo>
                  <a:lnTo>
                    <a:pt x="1017" y="1258"/>
                  </a:lnTo>
                  <a:lnTo>
                    <a:pt x="1007" y="1261"/>
                  </a:lnTo>
                  <a:lnTo>
                    <a:pt x="996" y="1263"/>
                  </a:lnTo>
                  <a:lnTo>
                    <a:pt x="987" y="1265"/>
                  </a:lnTo>
                  <a:lnTo>
                    <a:pt x="991" y="1258"/>
                  </a:lnTo>
                  <a:lnTo>
                    <a:pt x="995" y="1252"/>
                  </a:lnTo>
                  <a:lnTo>
                    <a:pt x="1000" y="1246"/>
                  </a:lnTo>
                  <a:lnTo>
                    <a:pt x="1007" y="1240"/>
                  </a:lnTo>
                  <a:lnTo>
                    <a:pt x="1027" y="1215"/>
                  </a:lnTo>
                  <a:lnTo>
                    <a:pt x="1028" y="1213"/>
                  </a:lnTo>
                  <a:lnTo>
                    <a:pt x="1029" y="1210"/>
                  </a:lnTo>
                  <a:lnTo>
                    <a:pt x="1029" y="1208"/>
                  </a:lnTo>
                  <a:lnTo>
                    <a:pt x="1029" y="1205"/>
                  </a:lnTo>
                  <a:lnTo>
                    <a:pt x="1026" y="1187"/>
                  </a:lnTo>
                  <a:lnTo>
                    <a:pt x="1015" y="1146"/>
                  </a:lnTo>
                  <a:lnTo>
                    <a:pt x="1007" y="1105"/>
                  </a:lnTo>
                  <a:lnTo>
                    <a:pt x="1000" y="1062"/>
                  </a:lnTo>
                  <a:lnTo>
                    <a:pt x="999" y="1020"/>
                  </a:lnTo>
                  <a:lnTo>
                    <a:pt x="1003" y="1019"/>
                  </a:lnTo>
                  <a:lnTo>
                    <a:pt x="1008" y="1018"/>
                  </a:lnTo>
                  <a:lnTo>
                    <a:pt x="1012" y="1017"/>
                  </a:lnTo>
                  <a:lnTo>
                    <a:pt x="1017" y="1015"/>
                  </a:lnTo>
                  <a:lnTo>
                    <a:pt x="1021" y="1014"/>
                  </a:lnTo>
                  <a:lnTo>
                    <a:pt x="1026" y="1013"/>
                  </a:lnTo>
                  <a:lnTo>
                    <a:pt x="1030" y="1012"/>
                  </a:lnTo>
                  <a:lnTo>
                    <a:pt x="1034" y="1011"/>
                  </a:lnTo>
                  <a:lnTo>
                    <a:pt x="1089" y="981"/>
                  </a:lnTo>
                  <a:lnTo>
                    <a:pt x="1090" y="981"/>
                  </a:lnTo>
                  <a:lnTo>
                    <a:pt x="1090" y="980"/>
                  </a:lnTo>
                  <a:lnTo>
                    <a:pt x="1090" y="980"/>
                  </a:lnTo>
                  <a:lnTo>
                    <a:pt x="1091" y="980"/>
                  </a:lnTo>
                  <a:lnTo>
                    <a:pt x="1096" y="975"/>
                  </a:lnTo>
                  <a:lnTo>
                    <a:pt x="1098" y="967"/>
                  </a:lnTo>
                  <a:lnTo>
                    <a:pt x="1098" y="961"/>
                  </a:lnTo>
                  <a:lnTo>
                    <a:pt x="1094" y="954"/>
                  </a:lnTo>
                  <a:lnTo>
                    <a:pt x="1087" y="945"/>
                  </a:lnTo>
                  <a:lnTo>
                    <a:pt x="1084" y="933"/>
                  </a:lnTo>
                  <a:lnTo>
                    <a:pt x="1073" y="909"/>
                  </a:lnTo>
                  <a:lnTo>
                    <a:pt x="1063" y="885"/>
                  </a:lnTo>
                  <a:lnTo>
                    <a:pt x="1052" y="858"/>
                  </a:lnTo>
                  <a:lnTo>
                    <a:pt x="1040" y="832"/>
                  </a:lnTo>
                  <a:lnTo>
                    <a:pt x="1030" y="805"/>
                  </a:lnTo>
                  <a:lnTo>
                    <a:pt x="1018" y="776"/>
                  </a:lnTo>
                  <a:lnTo>
                    <a:pt x="1007" y="749"/>
                  </a:lnTo>
                  <a:lnTo>
                    <a:pt x="995" y="720"/>
                  </a:lnTo>
                  <a:lnTo>
                    <a:pt x="983" y="692"/>
                  </a:lnTo>
                  <a:lnTo>
                    <a:pt x="972" y="663"/>
                  </a:lnTo>
                  <a:lnTo>
                    <a:pt x="960" y="635"/>
                  </a:lnTo>
                  <a:lnTo>
                    <a:pt x="948" y="607"/>
                  </a:lnTo>
                  <a:lnTo>
                    <a:pt x="937" y="579"/>
                  </a:lnTo>
                  <a:lnTo>
                    <a:pt x="926" y="552"/>
                  </a:lnTo>
                  <a:lnTo>
                    <a:pt x="915" y="525"/>
                  </a:lnTo>
                  <a:lnTo>
                    <a:pt x="903" y="499"/>
                  </a:lnTo>
                  <a:lnTo>
                    <a:pt x="923" y="491"/>
                  </a:lnTo>
                  <a:lnTo>
                    <a:pt x="943" y="482"/>
                  </a:lnTo>
                  <a:lnTo>
                    <a:pt x="963" y="474"/>
                  </a:lnTo>
                  <a:lnTo>
                    <a:pt x="983" y="466"/>
                  </a:lnTo>
                  <a:lnTo>
                    <a:pt x="1003" y="459"/>
                  </a:lnTo>
                  <a:lnTo>
                    <a:pt x="1025" y="451"/>
                  </a:lnTo>
                  <a:lnTo>
                    <a:pt x="1045" y="444"/>
                  </a:lnTo>
                  <a:lnTo>
                    <a:pt x="1066" y="438"/>
                  </a:lnTo>
                  <a:lnTo>
                    <a:pt x="1078" y="433"/>
                  </a:lnTo>
                  <a:lnTo>
                    <a:pt x="1090" y="430"/>
                  </a:lnTo>
                  <a:lnTo>
                    <a:pt x="1102" y="426"/>
                  </a:lnTo>
                  <a:lnTo>
                    <a:pt x="1113" y="423"/>
                  </a:lnTo>
                  <a:lnTo>
                    <a:pt x="1126" y="418"/>
                  </a:lnTo>
                  <a:lnTo>
                    <a:pt x="1138" y="415"/>
                  </a:lnTo>
                  <a:lnTo>
                    <a:pt x="1151" y="412"/>
                  </a:lnTo>
                  <a:lnTo>
                    <a:pt x="1162" y="410"/>
                  </a:lnTo>
                  <a:lnTo>
                    <a:pt x="1175" y="407"/>
                  </a:lnTo>
                  <a:lnTo>
                    <a:pt x="1187" y="405"/>
                  </a:lnTo>
                  <a:lnTo>
                    <a:pt x="1199" y="404"/>
                  </a:lnTo>
                  <a:lnTo>
                    <a:pt x="1212" y="403"/>
                  </a:lnTo>
                  <a:lnTo>
                    <a:pt x="1224" y="403"/>
                  </a:lnTo>
                  <a:lnTo>
                    <a:pt x="1236" y="403"/>
                  </a:lnTo>
                  <a:lnTo>
                    <a:pt x="1248" y="403"/>
                  </a:lnTo>
                  <a:lnTo>
                    <a:pt x="1261" y="405"/>
                  </a:lnTo>
                  <a:lnTo>
                    <a:pt x="1263" y="409"/>
                  </a:lnTo>
                  <a:lnTo>
                    <a:pt x="1267" y="412"/>
                  </a:lnTo>
                  <a:lnTo>
                    <a:pt x="1271" y="414"/>
                  </a:lnTo>
                  <a:lnTo>
                    <a:pt x="1276" y="415"/>
                  </a:lnTo>
                  <a:lnTo>
                    <a:pt x="1289" y="415"/>
                  </a:lnTo>
                  <a:lnTo>
                    <a:pt x="1302" y="415"/>
                  </a:lnTo>
                  <a:lnTo>
                    <a:pt x="1315" y="415"/>
                  </a:lnTo>
                  <a:lnTo>
                    <a:pt x="1327" y="415"/>
                  </a:lnTo>
                  <a:lnTo>
                    <a:pt x="1339" y="415"/>
                  </a:lnTo>
                  <a:lnTo>
                    <a:pt x="1352" y="415"/>
                  </a:lnTo>
                  <a:lnTo>
                    <a:pt x="1364" y="415"/>
                  </a:lnTo>
                  <a:lnTo>
                    <a:pt x="1377" y="415"/>
                  </a:lnTo>
                  <a:lnTo>
                    <a:pt x="1383" y="414"/>
                  </a:lnTo>
                  <a:lnTo>
                    <a:pt x="1390" y="410"/>
                  </a:lnTo>
                  <a:lnTo>
                    <a:pt x="1394" y="405"/>
                  </a:lnTo>
                  <a:lnTo>
                    <a:pt x="1395" y="397"/>
                  </a:lnTo>
                  <a:lnTo>
                    <a:pt x="1394" y="391"/>
                  </a:lnTo>
                  <a:lnTo>
                    <a:pt x="1390" y="385"/>
                  </a:lnTo>
                  <a:lnTo>
                    <a:pt x="1383" y="380"/>
                  </a:lnTo>
                  <a:lnTo>
                    <a:pt x="1377" y="37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76560" y="3114720"/>
              <a:ext cx="695160" cy="237960"/>
            </a:xfrm>
            <a:prstGeom prst="rect">
              <a:avLst/>
            </a:prstGeom>
            <a:gradFill rotWithShape="0">
              <a:gsLst>
                <a:gs pos="0">
                  <a:srgbClr val="5373d9"/>
                </a:gs>
                <a:gs pos="100000">
                  <a:srgbClr val="263564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5000" y="2781360"/>
              <a:ext cx="52200" cy="6804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6" y="164"/>
                  </a:moveTo>
                  <a:lnTo>
                    <a:pt x="98" y="169"/>
                  </a:lnTo>
                  <a:lnTo>
                    <a:pt x="91" y="172"/>
                  </a:lnTo>
                  <a:lnTo>
                    <a:pt x="83" y="176"/>
                  </a:lnTo>
                  <a:lnTo>
                    <a:pt x="75" y="179"/>
                  </a:lnTo>
                  <a:lnTo>
                    <a:pt x="66" y="181"/>
                  </a:lnTo>
                  <a:lnTo>
                    <a:pt x="65" y="180"/>
                  </a:lnTo>
                  <a:lnTo>
                    <a:pt x="61" y="175"/>
                  </a:lnTo>
                  <a:lnTo>
                    <a:pt x="53" y="157"/>
                  </a:lnTo>
                  <a:lnTo>
                    <a:pt x="46" y="140"/>
                  </a:lnTo>
                  <a:lnTo>
                    <a:pt x="38" y="122"/>
                  </a:lnTo>
                  <a:lnTo>
                    <a:pt x="31" y="103"/>
                  </a:lnTo>
                  <a:lnTo>
                    <a:pt x="23" y="85"/>
                  </a:lnTo>
                  <a:lnTo>
                    <a:pt x="16" y="67"/>
                  </a:lnTo>
                  <a:lnTo>
                    <a:pt x="9" y="50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5" y="0"/>
                  </a:lnTo>
                  <a:lnTo>
                    <a:pt x="43" y="19"/>
                  </a:lnTo>
                  <a:lnTo>
                    <a:pt x="52" y="38"/>
                  </a:lnTo>
                  <a:lnTo>
                    <a:pt x="60" y="59"/>
                  </a:lnTo>
                  <a:lnTo>
                    <a:pt x="70" y="79"/>
                  </a:lnTo>
                  <a:lnTo>
                    <a:pt x="78" y="100"/>
                  </a:lnTo>
                  <a:lnTo>
                    <a:pt x="88" y="121"/>
                  </a:lnTo>
                  <a:lnTo>
                    <a:pt x="96" y="142"/>
                  </a:lnTo>
                  <a:lnTo>
                    <a:pt x="106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6360" y="2790720"/>
              <a:ext cx="108000" cy="47880"/>
            </a:xfrm>
            <a:custGeom>
              <a:avLst/>
              <a:gdLst/>
              <a:ahLst/>
              <a:rect l="l" t="t" r="r" b="b"/>
              <a:pathLst>
                <a:path w="218" h="125">
                  <a:moveTo>
                    <a:pt x="0" y="0"/>
                  </a:moveTo>
                  <a:lnTo>
                    <a:pt x="19" y="6"/>
                  </a:lnTo>
                  <a:lnTo>
                    <a:pt x="37" y="11"/>
                  </a:lnTo>
                  <a:lnTo>
                    <a:pt x="57" y="16"/>
                  </a:lnTo>
                  <a:lnTo>
                    <a:pt x="76" y="20"/>
                  </a:lnTo>
                  <a:lnTo>
                    <a:pt x="95" y="23"/>
                  </a:lnTo>
                  <a:lnTo>
                    <a:pt x="115" y="25"/>
                  </a:lnTo>
                  <a:lnTo>
                    <a:pt x="134" y="27"/>
                  </a:lnTo>
                  <a:lnTo>
                    <a:pt x="152" y="28"/>
                  </a:lnTo>
                  <a:lnTo>
                    <a:pt x="159" y="26"/>
                  </a:lnTo>
                  <a:lnTo>
                    <a:pt x="167" y="23"/>
                  </a:lnTo>
                  <a:lnTo>
                    <a:pt x="175" y="20"/>
                  </a:lnTo>
                  <a:lnTo>
                    <a:pt x="182" y="17"/>
                  </a:lnTo>
                  <a:lnTo>
                    <a:pt x="186" y="27"/>
                  </a:lnTo>
                  <a:lnTo>
                    <a:pt x="192" y="38"/>
                  </a:lnTo>
                  <a:lnTo>
                    <a:pt x="196" y="48"/>
                  </a:lnTo>
                  <a:lnTo>
                    <a:pt x="200" y="59"/>
                  </a:lnTo>
                  <a:lnTo>
                    <a:pt x="206" y="70"/>
                  </a:lnTo>
                  <a:lnTo>
                    <a:pt x="210" y="81"/>
                  </a:lnTo>
                  <a:lnTo>
                    <a:pt x="214" y="92"/>
                  </a:lnTo>
                  <a:lnTo>
                    <a:pt x="218" y="102"/>
                  </a:lnTo>
                  <a:lnTo>
                    <a:pt x="204" y="104"/>
                  </a:lnTo>
                  <a:lnTo>
                    <a:pt x="191" y="107"/>
                  </a:lnTo>
                  <a:lnTo>
                    <a:pt x="178" y="109"/>
                  </a:lnTo>
                  <a:lnTo>
                    <a:pt x="164" y="111"/>
                  </a:lnTo>
                  <a:lnTo>
                    <a:pt x="150" y="113"/>
                  </a:lnTo>
                  <a:lnTo>
                    <a:pt x="137" y="114"/>
                  </a:lnTo>
                  <a:lnTo>
                    <a:pt x="123" y="116"/>
                  </a:lnTo>
                  <a:lnTo>
                    <a:pt x="109" y="117"/>
                  </a:lnTo>
                  <a:lnTo>
                    <a:pt x="95" y="118"/>
                  </a:lnTo>
                  <a:lnTo>
                    <a:pt x="83" y="119"/>
                  </a:lnTo>
                  <a:lnTo>
                    <a:pt x="69" y="120"/>
                  </a:lnTo>
                  <a:lnTo>
                    <a:pt x="55" y="121"/>
                  </a:lnTo>
                  <a:lnTo>
                    <a:pt x="41" y="123"/>
                  </a:lnTo>
                  <a:lnTo>
                    <a:pt x="28" y="123"/>
                  </a:lnTo>
                  <a:lnTo>
                    <a:pt x="14" y="124"/>
                  </a:lnTo>
                  <a:lnTo>
                    <a:pt x="0" y="125"/>
                  </a:lnTo>
                  <a:lnTo>
                    <a:pt x="0" y="94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20920" y="2654280"/>
              <a:ext cx="182520" cy="131760"/>
            </a:xfrm>
            <a:custGeom>
              <a:avLst/>
              <a:gdLst/>
              <a:ahLst/>
              <a:rect l="l" t="t" r="r" b="b"/>
              <a:pathLst>
                <a:path w="366" h="346">
                  <a:moveTo>
                    <a:pt x="0" y="221"/>
                  </a:moveTo>
                  <a:lnTo>
                    <a:pt x="1" y="192"/>
                  </a:lnTo>
                  <a:lnTo>
                    <a:pt x="5" y="164"/>
                  </a:lnTo>
                  <a:lnTo>
                    <a:pt x="15" y="138"/>
                  </a:lnTo>
                  <a:lnTo>
                    <a:pt x="28" y="113"/>
                  </a:lnTo>
                  <a:lnTo>
                    <a:pt x="42" y="90"/>
                  </a:lnTo>
                  <a:lnTo>
                    <a:pt x="60" y="67"/>
                  </a:lnTo>
                  <a:lnTo>
                    <a:pt x="81" y="47"/>
                  </a:lnTo>
                  <a:lnTo>
                    <a:pt x="102" y="28"/>
                  </a:lnTo>
                  <a:lnTo>
                    <a:pt x="107" y="24"/>
                  </a:lnTo>
                  <a:lnTo>
                    <a:pt x="113" y="19"/>
                  </a:lnTo>
                  <a:lnTo>
                    <a:pt x="120" y="15"/>
                  </a:lnTo>
                  <a:lnTo>
                    <a:pt x="126" y="11"/>
                  </a:lnTo>
                  <a:lnTo>
                    <a:pt x="132" y="7"/>
                  </a:lnTo>
                  <a:lnTo>
                    <a:pt x="139" y="5"/>
                  </a:lnTo>
                  <a:lnTo>
                    <a:pt x="145" y="2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1"/>
                  </a:lnTo>
                  <a:lnTo>
                    <a:pt x="167" y="6"/>
                  </a:lnTo>
                  <a:lnTo>
                    <a:pt x="172" y="10"/>
                  </a:lnTo>
                  <a:lnTo>
                    <a:pt x="176" y="13"/>
                  </a:lnTo>
                  <a:lnTo>
                    <a:pt x="182" y="15"/>
                  </a:lnTo>
                  <a:lnTo>
                    <a:pt x="201" y="13"/>
                  </a:lnTo>
                  <a:lnTo>
                    <a:pt x="220" y="15"/>
                  </a:lnTo>
                  <a:lnTo>
                    <a:pt x="239" y="18"/>
                  </a:lnTo>
                  <a:lnTo>
                    <a:pt x="257" y="23"/>
                  </a:lnTo>
                  <a:lnTo>
                    <a:pt x="275" y="30"/>
                  </a:lnTo>
                  <a:lnTo>
                    <a:pt x="292" y="39"/>
                  </a:lnTo>
                  <a:lnTo>
                    <a:pt x="308" y="49"/>
                  </a:lnTo>
                  <a:lnTo>
                    <a:pt x="323" y="62"/>
                  </a:lnTo>
                  <a:lnTo>
                    <a:pt x="340" y="81"/>
                  </a:lnTo>
                  <a:lnTo>
                    <a:pt x="353" y="102"/>
                  </a:lnTo>
                  <a:lnTo>
                    <a:pt x="361" y="125"/>
                  </a:lnTo>
                  <a:lnTo>
                    <a:pt x="365" y="149"/>
                  </a:lnTo>
                  <a:lnTo>
                    <a:pt x="366" y="173"/>
                  </a:lnTo>
                  <a:lnTo>
                    <a:pt x="364" y="199"/>
                  </a:lnTo>
                  <a:lnTo>
                    <a:pt x="359" y="223"/>
                  </a:lnTo>
                  <a:lnTo>
                    <a:pt x="350" y="246"/>
                  </a:lnTo>
                  <a:lnTo>
                    <a:pt x="343" y="263"/>
                  </a:lnTo>
                  <a:lnTo>
                    <a:pt x="335" y="280"/>
                  </a:lnTo>
                  <a:lnTo>
                    <a:pt x="325" y="297"/>
                  </a:lnTo>
                  <a:lnTo>
                    <a:pt x="313" y="312"/>
                  </a:lnTo>
                  <a:lnTo>
                    <a:pt x="301" y="325"/>
                  </a:lnTo>
                  <a:lnTo>
                    <a:pt x="287" y="335"/>
                  </a:lnTo>
                  <a:lnTo>
                    <a:pt x="270" y="343"/>
                  </a:lnTo>
                  <a:lnTo>
                    <a:pt x="251" y="346"/>
                  </a:lnTo>
                  <a:lnTo>
                    <a:pt x="233" y="346"/>
                  </a:lnTo>
                  <a:lnTo>
                    <a:pt x="215" y="345"/>
                  </a:lnTo>
                  <a:lnTo>
                    <a:pt x="197" y="343"/>
                  </a:lnTo>
                  <a:lnTo>
                    <a:pt x="179" y="340"/>
                  </a:lnTo>
                  <a:lnTo>
                    <a:pt x="160" y="337"/>
                  </a:lnTo>
                  <a:lnTo>
                    <a:pt x="142" y="331"/>
                  </a:lnTo>
                  <a:lnTo>
                    <a:pt x="125" y="325"/>
                  </a:lnTo>
                  <a:lnTo>
                    <a:pt x="107" y="319"/>
                  </a:lnTo>
                  <a:lnTo>
                    <a:pt x="90" y="310"/>
                  </a:lnTo>
                  <a:lnTo>
                    <a:pt x="74" y="300"/>
                  </a:lnTo>
                  <a:lnTo>
                    <a:pt x="59" y="290"/>
                  </a:lnTo>
                  <a:lnTo>
                    <a:pt x="45" y="279"/>
                  </a:lnTo>
                  <a:lnTo>
                    <a:pt x="32" y="267"/>
                  </a:lnTo>
                  <a:lnTo>
                    <a:pt x="20" y="253"/>
                  </a:lnTo>
                  <a:lnTo>
                    <a:pt x="10" y="23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1440" y="2778120"/>
              <a:ext cx="27000" cy="92160"/>
            </a:xfrm>
            <a:custGeom>
              <a:avLst/>
              <a:gdLst/>
              <a:ahLst/>
              <a:rect l="l" t="t" r="r" b="b"/>
              <a:pathLst>
                <a:path w="54" h="242">
                  <a:moveTo>
                    <a:pt x="54" y="25"/>
                  </a:moveTo>
                  <a:lnTo>
                    <a:pt x="53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2"/>
                  </a:lnTo>
                  <a:lnTo>
                    <a:pt x="51" y="64"/>
                  </a:lnTo>
                  <a:lnTo>
                    <a:pt x="51" y="96"/>
                  </a:lnTo>
                  <a:lnTo>
                    <a:pt x="51" y="128"/>
                  </a:lnTo>
                  <a:lnTo>
                    <a:pt x="51" y="161"/>
                  </a:lnTo>
                  <a:lnTo>
                    <a:pt x="50" y="163"/>
                  </a:lnTo>
                  <a:lnTo>
                    <a:pt x="50" y="166"/>
                  </a:lnTo>
                  <a:lnTo>
                    <a:pt x="50" y="168"/>
                  </a:lnTo>
                  <a:lnTo>
                    <a:pt x="51" y="170"/>
                  </a:lnTo>
                  <a:lnTo>
                    <a:pt x="51" y="200"/>
                  </a:lnTo>
                  <a:lnTo>
                    <a:pt x="51" y="222"/>
                  </a:lnTo>
                  <a:lnTo>
                    <a:pt x="51" y="236"/>
                  </a:lnTo>
                  <a:lnTo>
                    <a:pt x="51" y="241"/>
                  </a:lnTo>
                  <a:lnTo>
                    <a:pt x="49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2"/>
                  </a:lnTo>
                  <a:lnTo>
                    <a:pt x="25" y="242"/>
                  </a:lnTo>
                  <a:lnTo>
                    <a:pt x="18" y="242"/>
                  </a:lnTo>
                  <a:lnTo>
                    <a:pt x="12" y="242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1" y="180"/>
                  </a:lnTo>
                  <a:lnTo>
                    <a:pt x="1" y="117"/>
                  </a:lnTo>
                  <a:lnTo>
                    <a:pt x="3" y="57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7" y="7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5" y="17"/>
                  </a:lnTo>
                  <a:lnTo>
                    <a:pt x="42" y="20"/>
                  </a:lnTo>
                  <a:lnTo>
                    <a:pt x="48" y="22"/>
                  </a:lnTo>
                  <a:lnTo>
                    <a:pt x="5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1920" y="3233880"/>
              <a:ext cx="39600" cy="172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3" y="8"/>
                  </a:moveTo>
                  <a:lnTo>
                    <a:pt x="76" y="17"/>
                  </a:lnTo>
                  <a:lnTo>
                    <a:pt x="78" y="24"/>
                  </a:lnTo>
                  <a:lnTo>
                    <a:pt x="78" y="31"/>
                  </a:lnTo>
                  <a:lnTo>
                    <a:pt x="75" y="39"/>
                  </a:lnTo>
                  <a:lnTo>
                    <a:pt x="71" y="43"/>
                  </a:lnTo>
                  <a:lnTo>
                    <a:pt x="66" y="46"/>
                  </a:lnTo>
                  <a:lnTo>
                    <a:pt x="59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9" y="43"/>
                  </a:lnTo>
                  <a:lnTo>
                    <a:pt x="32" y="41"/>
                  </a:lnTo>
                  <a:lnTo>
                    <a:pt x="26" y="40"/>
                  </a:lnTo>
                  <a:lnTo>
                    <a:pt x="15" y="28"/>
                  </a:lnTo>
                  <a:lnTo>
                    <a:pt x="17" y="38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24" y="9"/>
                  </a:lnTo>
                  <a:lnTo>
                    <a:pt x="31" y="8"/>
                  </a:lnTo>
                  <a:lnTo>
                    <a:pt x="38" y="7"/>
                  </a:lnTo>
                  <a:lnTo>
                    <a:pt x="46" y="5"/>
                  </a:lnTo>
                  <a:lnTo>
                    <a:pt x="52" y="4"/>
                  </a:lnTo>
                  <a:lnTo>
                    <a:pt x="59" y="3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1960" y="3173400"/>
              <a:ext cx="30240" cy="190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8" y="4"/>
                  </a:moveTo>
                  <a:lnTo>
                    <a:pt x="53" y="6"/>
                  </a:lnTo>
                  <a:lnTo>
                    <a:pt x="58" y="10"/>
                  </a:lnTo>
                  <a:lnTo>
                    <a:pt x="61" y="17"/>
                  </a:lnTo>
                  <a:lnTo>
                    <a:pt x="61" y="27"/>
                  </a:lnTo>
                  <a:lnTo>
                    <a:pt x="52" y="46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8" y="47"/>
                  </a:lnTo>
                  <a:lnTo>
                    <a:pt x="13" y="43"/>
                  </a:lnTo>
                  <a:lnTo>
                    <a:pt x="9" y="39"/>
                  </a:lnTo>
                  <a:lnTo>
                    <a:pt x="5" y="34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3156120"/>
              <a:ext cx="79560" cy="2196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57" y="60"/>
                  </a:moveTo>
                  <a:lnTo>
                    <a:pt x="138" y="60"/>
                  </a:lnTo>
                  <a:lnTo>
                    <a:pt x="119" y="57"/>
                  </a:lnTo>
                  <a:lnTo>
                    <a:pt x="101" y="53"/>
                  </a:lnTo>
                  <a:lnTo>
                    <a:pt x="82" y="48"/>
                  </a:lnTo>
                  <a:lnTo>
                    <a:pt x="65" y="40"/>
                  </a:lnTo>
                  <a:lnTo>
                    <a:pt x="47" y="33"/>
                  </a:lnTo>
                  <a:lnTo>
                    <a:pt x="30" y="24"/>
                  </a:lnTo>
                  <a:lnTo>
                    <a:pt x="13" y="16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0" y="13"/>
                  </a:lnTo>
                  <a:lnTo>
                    <a:pt x="61" y="18"/>
                  </a:lnTo>
                  <a:lnTo>
                    <a:pt x="81" y="24"/>
                  </a:lnTo>
                  <a:lnTo>
                    <a:pt x="100" y="30"/>
                  </a:lnTo>
                  <a:lnTo>
                    <a:pt x="120" y="36"/>
                  </a:lnTo>
                  <a:lnTo>
                    <a:pt x="140" y="41"/>
                  </a:lnTo>
                  <a:lnTo>
                    <a:pt x="160" y="48"/>
                  </a:lnTo>
                  <a:lnTo>
                    <a:pt x="159" y="51"/>
                  </a:lnTo>
                  <a:lnTo>
                    <a:pt x="159" y="54"/>
                  </a:lnTo>
                  <a:lnTo>
                    <a:pt x="158" y="57"/>
                  </a:lnTo>
                  <a:lnTo>
                    <a:pt x="15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2240" y="3119400"/>
              <a:ext cx="52200" cy="2232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94" y="56"/>
                  </a:moveTo>
                  <a:lnTo>
                    <a:pt x="93" y="57"/>
                  </a:lnTo>
                  <a:lnTo>
                    <a:pt x="83" y="55"/>
                  </a:lnTo>
                  <a:lnTo>
                    <a:pt x="73" y="54"/>
                  </a:lnTo>
                  <a:lnTo>
                    <a:pt x="64" y="53"/>
                  </a:lnTo>
                  <a:lnTo>
                    <a:pt x="54" y="50"/>
                  </a:lnTo>
                  <a:lnTo>
                    <a:pt x="45" y="48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5" y="39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0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35" y="8"/>
                  </a:lnTo>
                  <a:lnTo>
                    <a:pt x="46" y="14"/>
                  </a:lnTo>
                  <a:lnTo>
                    <a:pt x="58" y="19"/>
                  </a:lnTo>
                  <a:lnTo>
                    <a:pt x="69" y="23"/>
                  </a:lnTo>
                  <a:lnTo>
                    <a:pt x="80" y="28"/>
                  </a:lnTo>
                  <a:lnTo>
                    <a:pt x="91" y="34"/>
                  </a:lnTo>
                  <a:lnTo>
                    <a:pt x="103" y="38"/>
                  </a:lnTo>
                  <a:lnTo>
                    <a:pt x="101" y="42"/>
                  </a:lnTo>
                  <a:lnTo>
                    <a:pt x="99" y="46"/>
                  </a:lnTo>
                  <a:lnTo>
                    <a:pt x="96" y="5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1280" y="2995560"/>
              <a:ext cx="152640" cy="115920"/>
            </a:xfrm>
            <a:custGeom>
              <a:avLst/>
              <a:gdLst/>
              <a:ahLst/>
              <a:rect l="l" t="t" r="r" b="b"/>
              <a:pathLst>
                <a:path w="305" h="303">
                  <a:moveTo>
                    <a:pt x="305" y="172"/>
                  </a:moveTo>
                  <a:lnTo>
                    <a:pt x="296" y="180"/>
                  </a:lnTo>
                  <a:lnTo>
                    <a:pt x="288" y="187"/>
                  </a:lnTo>
                  <a:lnTo>
                    <a:pt x="282" y="196"/>
                  </a:lnTo>
                  <a:lnTo>
                    <a:pt x="274" y="204"/>
                  </a:lnTo>
                  <a:lnTo>
                    <a:pt x="269" y="214"/>
                  </a:lnTo>
                  <a:lnTo>
                    <a:pt x="263" y="223"/>
                  </a:lnTo>
                  <a:lnTo>
                    <a:pt x="258" y="233"/>
                  </a:lnTo>
                  <a:lnTo>
                    <a:pt x="253" y="243"/>
                  </a:lnTo>
                  <a:lnTo>
                    <a:pt x="238" y="247"/>
                  </a:lnTo>
                  <a:lnTo>
                    <a:pt x="222" y="250"/>
                  </a:lnTo>
                  <a:lnTo>
                    <a:pt x="207" y="254"/>
                  </a:lnTo>
                  <a:lnTo>
                    <a:pt x="192" y="257"/>
                  </a:lnTo>
                  <a:lnTo>
                    <a:pt x="177" y="260"/>
                  </a:lnTo>
                  <a:lnTo>
                    <a:pt x="162" y="265"/>
                  </a:lnTo>
                  <a:lnTo>
                    <a:pt x="147" y="268"/>
                  </a:lnTo>
                  <a:lnTo>
                    <a:pt x="131" y="272"/>
                  </a:lnTo>
                  <a:lnTo>
                    <a:pt x="116" y="275"/>
                  </a:lnTo>
                  <a:lnTo>
                    <a:pt x="102" y="279"/>
                  </a:lnTo>
                  <a:lnTo>
                    <a:pt x="87" y="284"/>
                  </a:lnTo>
                  <a:lnTo>
                    <a:pt x="72" y="287"/>
                  </a:lnTo>
                  <a:lnTo>
                    <a:pt x="57" y="291"/>
                  </a:lnTo>
                  <a:lnTo>
                    <a:pt x="42" y="295"/>
                  </a:lnTo>
                  <a:lnTo>
                    <a:pt x="28" y="298"/>
                  </a:lnTo>
                  <a:lnTo>
                    <a:pt x="13" y="303"/>
                  </a:lnTo>
                  <a:lnTo>
                    <a:pt x="16" y="294"/>
                  </a:lnTo>
                  <a:lnTo>
                    <a:pt x="19" y="287"/>
                  </a:lnTo>
                  <a:lnTo>
                    <a:pt x="21" y="278"/>
                  </a:lnTo>
                  <a:lnTo>
                    <a:pt x="23" y="270"/>
                  </a:lnTo>
                  <a:lnTo>
                    <a:pt x="27" y="244"/>
                  </a:lnTo>
                  <a:lnTo>
                    <a:pt x="27" y="220"/>
                  </a:lnTo>
                  <a:lnTo>
                    <a:pt x="24" y="195"/>
                  </a:lnTo>
                  <a:lnTo>
                    <a:pt x="20" y="170"/>
                  </a:lnTo>
                  <a:lnTo>
                    <a:pt x="15" y="146"/>
                  </a:lnTo>
                  <a:lnTo>
                    <a:pt x="10" y="122"/>
                  </a:lnTo>
                  <a:lnTo>
                    <a:pt x="4" y="97"/>
                  </a:lnTo>
                  <a:lnTo>
                    <a:pt x="0" y="73"/>
                  </a:lnTo>
                  <a:lnTo>
                    <a:pt x="18" y="70"/>
                  </a:lnTo>
                  <a:lnTo>
                    <a:pt x="35" y="66"/>
                  </a:lnTo>
                  <a:lnTo>
                    <a:pt x="53" y="63"/>
                  </a:lnTo>
                  <a:lnTo>
                    <a:pt x="70" y="60"/>
                  </a:lnTo>
                  <a:lnTo>
                    <a:pt x="87" y="56"/>
                  </a:lnTo>
                  <a:lnTo>
                    <a:pt x="105" y="52"/>
                  </a:lnTo>
                  <a:lnTo>
                    <a:pt x="122" y="46"/>
                  </a:lnTo>
                  <a:lnTo>
                    <a:pt x="139" y="42"/>
                  </a:lnTo>
                  <a:lnTo>
                    <a:pt x="156" y="37"/>
                  </a:lnTo>
                  <a:lnTo>
                    <a:pt x="173" y="32"/>
                  </a:lnTo>
                  <a:lnTo>
                    <a:pt x="191" y="26"/>
                  </a:lnTo>
                  <a:lnTo>
                    <a:pt x="207" y="21"/>
                  </a:lnTo>
                  <a:lnTo>
                    <a:pt x="224" y="16"/>
                  </a:lnTo>
                  <a:lnTo>
                    <a:pt x="241" y="10"/>
                  </a:lnTo>
                  <a:lnTo>
                    <a:pt x="258" y="5"/>
                  </a:lnTo>
                  <a:lnTo>
                    <a:pt x="275" y="0"/>
                  </a:lnTo>
                  <a:lnTo>
                    <a:pt x="277" y="43"/>
                  </a:lnTo>
                  <a:lnTo>
                    <a:pt x="285" y="87"/>
                  </a:lnTo>
                  <a:lnTo>
                    <a:pt x="294" y="129"/>
                  </a:lnTo>
                  <a:lnTo>
                    <a:pt x="305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30280" y="2835360"/>
              <a:ext cx="263520" cy="179280"/>
            </a:xfrm>
            <a:custGeom>
              <a:avLst/>
              <a:gdLst/>
              <a:ahLst/>
              <a:rect l="l" t="t" r="r" b="b"/>
              <a:pathLst>
                <a:path w="527" h="468">
                  <a:moveTo>
                    <a:pt x="526" y="349"/>
                  </a:moveTo>
                  <a:lnTo>
                    <a:pt x="526" y="349"/>
                  </a:lnTo>
                  <a:lnTo>
                    <a:pt x="527" y="349"/>
                  </a:lnTo>
                  <a:lnTo>
                    <a:pt x="527" y="350"/>
                  </a:lnTo>
                  <a:lnTo>
                    <a:pt x="527" y="350"/>
                  </a:lnTo>
                  <a:lnTo>
                    <a:pt x="520" y="355"/>
                  </a:lnTo>
                  <a:lnTo>
                    <a:pt x="512" y="357"/>
                  </a:lnTo>
                  <a:lnTo>
                    <a:pt x="505" y="359"/>
                  </a:lnTo>
                  <a:lnTo>
                    <a:pt x="499" y="363"/>
                  </a:lnTo>
                  <a:lnTo>
                    <a:pt x="491" y="365"/>
                  </a:lnTo>
                  <a:lnTo>
                    <a:pt x="484" y="367"/>
                  </a:lnTo>
                  <a:lnTo>
                    <a:pt x="476" y="369"/>
                  </a:lnTo>
                  <a:lnTo>
                    <a:pt x="469" y="372"/>
                  </a:lnTo>
                  <a:lnTo>
                    <a:pt x="462" y="374"/>
                  </a:lnTo>
                  <a:lnTo>
                    <a:pt x="460" y="373"/>
                  </a:lnTo>
                  <a:lnTo>
                    <a:pt x="458" y="373"/>
                  </a:lnTo>
                  <a:lnTo>
                    <a:pt x="456" y="372"/>
                  </a:lnTo>
                  <a:lnTo>
                    <a:pt x="454" y="372"/>
                  </a:lnTo>
                  <a:lnTo>
                    <a:pt x="450" y="373"/>
                  </a:lnTo>
                  <a:lnTo>
                    <a:pt x="445" y="375"/>
                  </a:lnTo>
                  <a:lnTo>
                    <a:pt x="442" y="377"/>
                  </a:lnTo>
                  <a:lnTo>
                    <a:pt x="438" y="382"/>
                  </a:lnTo>
                  <a:lnTo>
                    <a:pt x="414" y="390"/>
                  </a:lnTo>
                  <a:lnTo>
                    <a:pt x="390" y="399"/>
                  </a:lnTo>
                  <a:lnTo>
                    <a:pt x="365" y="406"/>
                  </a:lnTo>
                  <a:lnTo>
                    <a:pt x="341" y="414"/>
                  </a:lnTo>
                  <a:lnTo>
                    <a:pt x="317" y="422"/>
                  </a:lnTo>
                  <a:lnTo>
                    <a:pt x="291" y="429"/>
                  </a:lnTo>
                  <a:lnTo>
                    <a:pt x="267" y="436"/>
                  </a:lnTo>
                  <a:lnTo>
                    <a:pt x="243" y="442"/>
                  </a:lnTo>
                  <a:lnTo>
                    <a:pt x="217" y="447"/>
                  </a:lnTo>
                  <a:lnTo>
                    <a:pt x="192" y="451"/>
                  </a:lnTo>
                  <a:lnTo>
                    <a:pt x="166" y="456"/>
                  </a:lnTo>
                  <a:lnTo>
                    <a:pt x="142" y="459"/>
                  </a:lnTo>
                  <a:lnTo>
                    <a:pt x="117" y="461"/>
                  </a:lnTo>
                  <a:lnTo>
                    <a:pt x="91" y="462"/>
                  </a:lnTo>
                  <a:lnTo>
                    <a:pt x="65" y="462"/>
                  </a:lnTo>
                  <a:lnTo>
                    <a:pt x="39" y="461"/>
                  </a:lnTo>
                  <a:lnTo>
                    <a:pt x="34" y="461"/>
                  </a:lnTo>
                  <a:lnTo>
                    <a:pt x="30" y="461"/>
                  </a:lnTo>
                  <a:lnTo>
                    <a:pt x="25" y="462"/>
                  </a:lnTo>
                  <a:lnTo>
                    <a:pt x="20" y="463"/>
                  </a:lnTo>
                  <a:lnTo>
                    <a:pt x="15" y="465"/>
                  </a:lnTo>
                  <a:lnTo>
                    <a:pt x="10" y="466"/>
                  </a:lnTo>
                  <a:lnTo>
                    <a:pt x="5" y="467"/>
                  </a:lnTo>
                  <a:lnTo>
                    <a:pt x="0" y="468"/>
                  </a:lnTo>
                  <a:lnTo>
                    <a:pt x="3" y="399"/>
                  </a:lnTo>
                  <a:lnTo>
                    <a:pt x="8" y="329"/>
                  </a:lnTo>
                  <a:lnTo>
                    <a:pt x="11" y="259"/>
                  </a:lnTo>
                  <a:lnTo>
                    <a:pt x="11" y="188"/>
                  </a:lnTo>
                  <a:lnTo>
                    <a:pt x="15" y="170"/>
                  </a:lnTo>
                  <a:lnTo>
                    <a:pt x="18" y="151"/>
                  </a:lnTo>
                  <a:lnTo>
                    <a:pt x="20" y="131"/>
                  </a:lnTo>
                  <a:lnTo>
                    <a:pt x="21" y="110"/>
                  </a:lnTo>
                  <a:lnTo>
                    <a:pt x="26" y="110"/>
                  </a:lnTo>
                  <a:lnTo>
                    <a:pt x="30" y="110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47" y="110"/>
                  </a:lnTo>
                  <a:lnTo>
                    <a:pt x="51" y="110"/>
                  </a:lnTo>
                  <a:lnTo>
                    <a:pt x="55" y="110"/>
                  </a:lnTo>
                  <a:lnTo>
                    <a:pt x="85" y="106"/>
                  </a:lnTo>
                  <a:lnTo>
                    <a:pt x="87" y="105"/>
                  </a:lnTo>
                  <a:lnTo>
                    <a:pt x="89" y="103"/>
                  </a:lnTo>
                  <a:lnTo>
                    <a:pt x="90" y="101"/>
                  </a:lnTo>
                  <a:lnTo>
                    <a:pt x="91" y="98"/>
                  </a:lnTo>
                  <a:lnTo>
                    <a:pt x="91" y="92"/>
                  </a:lnTo>
                  <a:lnTo>
                    <a:pt x="91" y="77"/>
                  </a:lnTo>
                  <a:lnTo>
                    <a:pt x="91" y="53"/>
                  </a:lnTo>
                  <a:lnTo>
                    <a:pt x="91" y="25"/>
                  </a:lnTo>
                  <a:lnTo>
                    <a:pt x="105" y="24"/>
                  </a:lnTo>
                  <a:lnTo>
                    <a:pt x="119" y="24"/>
                  </a:lnTo>
                  <a:lnTo>
                    <a:pt x="132" y="23"/>
                  </a:lnTo>
                  <a:lnTo>
                    <a:pt x="146" y="21"/>
                  </a:lnTo>
                  <a:lnTo>
                    <a:pt x="160" y="20"/>
                  </a:lnTo>
                  <a:lnTo>
                    <a:pt x="174" y="19"/>
                  </a:lnTo>
                  <a:lnTo>
                    <a:pt x="188" y="18"/>
                  </a:lnTo>
                  <a:lnTo>
                    <a:pt x="201" y="17"/>
                  </a:lnTo>
                  <a:lnTo>
                    <a:pt x="215" y="16"/>
                  </a:lnTo>
                  <a:lnTo>
                    <a:pt x="229" y="15"/>
                  </a:lnTo>
                  <a:lnTo>
                    <a:pt x="243" y="13"/>
                  </a:lnTo>
                  <a:lnTo>
                    <a:pt x="256" y="12"/>
                  </a:lnTo>
                  <a:lnTo>
                    <a:pt x="270" y="10"/>
                  </a:lnTo>
                  <a:lnTo>
                    <a:pt x="284" y="8"/>
                  </a:lnTo>
                  <a:lnTo>
                    <a:pt x="298" y="5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0"/>
                  </a:lnTo>
                  <a:lnTo>
                    <a:pt x="321" y="11"/>
                  </a:lnTo>
                  <a:lnTo>
                    <a:pt x="325" y="23"/>
                  </a:lnTo>
                  <a:lnTo>
                    <a:pt x="330" y="33"/>
                  </a:lnTo>
                  <a:lnTo>
                    <a:pt x="336" y="44"/>
                  </a:lnTo>
                  <a:lnTo>
                    <a:pt x="338" y="48"/>
                  </a:lnTo>
                  <a:lnTo>
                    <a:pt x="339" y="50"/>
                  </a:lnTo>
                  <a:lnTo>
                    <a:pt x="340" y="51"/>
                  </a:lnTo>
                  <a:lnTo>
                    <a:pt x="341" y="52"/>
                  </a:lnTo>
                  <a:lnTo>
                    <a:pt x="343" y="53"/>
                  </a:lnTo>
                  <a:lnTo>
                    <a:pt x="352" y="55"/>
                  </a:lnTo>
                  <a:lnTo>
                    <a:pt x="353" y="56"/>
                  </a:lnTo>
                  <a:lnTo>
                    <a:pt x="354" y="56"/>
                  </a:lnTo>
                  <a:lnTo>
                    <a:pt x="355" y="56"/>
                  </a:lnTo>
                  <a:lnTo>
                    <a:pt x="356" y="56"/>
                  </a:lnTo>
                  <a:lnTo>
                    <a:pt x="362" y="54"/>
                  </a:lnTo>
                  <a:lnTo>
                    <a:pt x="367" y="53"/>
                  </a:lnTo>
                  <a:lnTo>
                    <a:pt x="373" y="51"/>
                  </a:lnTo>
                  <a:lnTo>
                    <a:pt x="377" y="50"/>
                  </a:lnTo>
                  <a:lnTo>
                    <a:pt x="382" y="48"/>
                  </a:lnTo>
                  <a:lnTo>
                    <a:pt x="386" y="46"/>
                  </a:lnTo>
                  <a:lnTo>
                    <a:pt x="392" y="44"/>
                  </a:lnTo>
                  <a:lnTo>
                    <a:pt x="396" y="42"/>
                  </a:lnTo>
                  <a:lnTo>
                    <a:pt x="400" y="38"/>
                  </a:lnTo>
                  <a:lnTo>
                    <a:pt x="416" y="78"/>
                  </a:lnTo>
                  <a:lnTo>
                    <a:pt x="433" y="117"/>
                  </a:lnTo>
                  <a:lnTo>
                    <a:pt x="448" y="156"/>
                  </a:lnTo>
                  <a:lnTo>
                    <a:pt x="464" y="194"/>
                  </a:lnTo>
                  <a:lnTo>
                    <a:pt x="480" y="231"/>
                  </a:lnTo>
                  <a:lnTo>
                    <a:pt x="494" y="267"/>
                  </a:lnTo>
                  <a:lnTo>
                    <a:pt x="509" y="302"/>
                  </a:lnTo>
                  <a:lnTo>
                    <a:pt x="523" y="335"/>
                  </a:lnTo>
                  <a:lnTo>
                    <a:pt x="526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4680" y="2717640"/>
              <a:ext cx="120600" cy="3816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35" y="92"/>
                  </a:moveTo>
                  <a:lnTo>
                    <a:pt x="238" y="91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1" y="82"/>
                  </a:lnTo>
                  <a:lnTo>
                    <a:pt x="239" y="79"/>
                  </a:lnTo>
                  <a:lnTo>
                    <a:pt x="236" y="76"/>
                  </a:lnTo>
                  <a:lnTo>
                    <a:pt x="233" y="75"/>
                  </a:lnTo>
                  <a:lnTo>
                    <a:pt x="229" y="75"/>
                  </a:lnTo>
                  <a:lnTo>
                    <a:pt x="215" y="77"/>
                  </a:lnTo>
                  <a:lnTo>
                    <a:pt x="200" y="79"/>
                  </a:lnTo>
                  <a:lnTo>
                    <a:pt x="185" y="79"/>
                  </a:lnTo>
                  <a:lnTo>
                    <a:pt x="170" y="79"/>
                  </a:lnTo>
                  <a:lnTo>
                    <a:pt x="155" y="77"/>
                  </a:lnTo>
                  <a:lnTo>
                    <a:pt x="140" y="75"/>
                  </a:lnTo>
                  <a:lnTo>
                    <a:pt x="126" y="72"/>
                  </a:lnTo>
                  <a:lnTo>
                    <a:pt x="112" y="69"/>
                  </a:lnTo>
                  <a:lnTo>
                    <a:pt x="98" y="64"/>
                  </a:lnTo>
                  <a:lnTo>
                    <a:pt x="84" y="58"/>
                  </a:lnTo>
                  <a:lnTo>
                    <a:pt x="71" y="52"/>
                  </a:lnTo>
                  <a:lnTo>
                    <a:pt x="58" y="44"/>
                  </a:lnTo>
                  <a:lnTo>
                    <a:pt x="46" y="35"/>
                  </a:lnTo>
                  <a:lnTo>
                    <a:pt x="36" y="26"/>
                  </a:lnTo>
                  <a:lnTo>
                    <a:pt x="25" y="15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12" y="28"/>
                  </a:lnTo>
                  <a:lnTo>
                    <a:pt x="23" y="39"/>
                  </a:lnTo>
                  <a:lnTo>
                    <a:pt x="36" y="50"/>
                  </a:lnTo>
                  <a:lnTo>
                    <a:pt x="48" y="59"/>
                  </a:lnTo>
                  <a:lnTo>
                    <a:pt x="62" y="67"/>
                  </a:lnTo>
                  <a:lnTo>
                    <a:pt x="77" y="74"/>
                  </a:lnTo>
                  <a:lnTo>
                    <a:pt x="92" y="81"/>
                  </a:lnTo>
                  <a:lnTo>
                    <a:pt x="107" y="86"/>
                  </a:lnTo>
                  <a:lnTo>
                    <a:pt x="122" y="90"/>
                  </a:lnTo>
                  <a:lnTo>
                    <a:pt x="138" y="93"/>
                  </a:lnTo>
                  <a:lnTo>
                    <a:pt x="154" y="95"/>
                  </a:lnTo>
                  <a:lnTo>
                    <a:pt x="171" y="97"/>
                  </a:lnTo>
                  <a:lnTo>
                    <a:pt x="187" y="97"/>
                  </a:lnTo>
                  <a:lnTo>
                    <a:pt x="203" y="97"/>
                  </a:lnTo>
                  <a:lnTo>
                    <a:pt x="219" y="94"/>
                  </a:lnTo>
                  <a:lnTo>
                    <a:pt x="235" y="92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90760" y="2900520"/>
              <a:ext cx="119160" cy="6336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234" y="98"/>
                  </a:moveTo>
                  <a:lnTo>
                    <a:pt x="230" y="88"/>
                  </a:lnTo>
                  <a:lnTo>
                    <a:pt x="225" y="78"/>
                  </a:lnTo>
                  <a:lnTo>
                    <a:pt x="221" y="69"/>
                  </a:lnTo>
                  <a:lnTo>
                    <a:pt x="216" y="58"/>
                  </a:lnTo>
                  <a:lnTo>
                    <a:pt x="211" y="48"/>
                  </a:lnTo>
                  <a:lnTo>
                    <a:pt x="206" y="39"/>
                  </a:lnTo>
                  <a:lnTo>
                    <a:pt x="203" y="28"/>
                  </a:lnTo>
                  <a:lnTo>
                    <a:pt x="200" y="18"/>
                  </a:lnTo>
                  <a:lnTo>
                    <a:pt x="198" y="7"/>
                  </a:lnTo>
                  <a:lnTo>
                    <a:pt x="197" y="5"/>
                  </a:lnTo>
                  <a:lnTo>
                    <a:pt x="195" y="3"/>
                  </a:lnTo>
                  <a:lnTo>
                    <a:pt x="193" y="2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61" y="5"/>
                  </a:lnTo>
                  <a:lnTo>
                    <a:pt x="141" y="10"/>
                  </a:lnTo>
                  <a:lnTo>
                    <a:pt x="119" y="16"/>
                  </a:lnTo>
                  <a:lnTo>
                    <a:pt x="99" y="21"/>
                  </a:lnTo>
                  <a:lnTo>
                    <a:pt x="78" y="26"/>
                  </a:lnTo>
                  <a:lnTo>
                    <a:pt x="58" y="31"/>
                  </a:lnTo>
                  <a:lnTo>
                    <a:pt x="37" y="36"/>
                  </a:lnTo>
                  <a:lnTo>
                    <a:pt x="16" y="39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78"/>
                  </a:lnTo>
                  <a:lnTo>
                    <a:pt x="4" y="103"/>
                  </a:lnTo>
                  <a:lnTo>
                    <a:pt x="10" y="129"/>
                  </a:lnTo>
                  <a:lnTo>
                    <a:pt x="21" y="153"/>
                  </a:lnTo>
                  <a:lnTo>
                    <a:pt x="23" y="159"/>
                  </a:lnTo>
                  <a:lnTo>
                    <a:pt x="24" y="161"/>
                  </a:lnTo>
                  <a:lnTo>
                    <a:pt x="25" y="162"/>
                  </a:lnTo>
                  <a:lnTo>
                    <a:pt x="27" y="163"/>
                  </a:lnTo>
                  <a:lnTo>
                    <a:pt x="28" y="164"/>
                  </a:lnTo>
                  <a:lnTo>
                    <a:pt x="37" y="166"/>
                  </a:lnTo>
                  <a:lnTo>
                    <a:pt x="49" y="165"/>
                  </a:lnTo>
                  <a:lnTo>
                    <a:pt x="61" y="163"/>
                  </a:lnTo>
                  <a:lnTo>
                    <a:pt x="73" y="162"/>
                  </a:lnTo>
                  <a:lnTo>
                    <a:pt x="85" y="160"/>
                  </a:lnTo>
                  <a:lnTo>
                    <a:pt x="97" y="159"/>
                  </a:lnTo>
                  <a:lnTo>
                    <a:pt x="109" y="157"/>
                  </a:lnTo>
                  <a:lnTo>
                    <a:pt x="121" y="155"/>
                  </a:lnTo>
                  <a:lnTo>
                    <a:pt x="132" y="153"/>
                  </a:lnTo>
                  <a:lnTo>
                    <a:pt x="145" y="151"/>
                  </a:lnTo>
                  <a:lnTo>
                    <a:pt x="157" y="149"/>
                  </a:lnTo>
                  <a:lnTo>
                    <a:pt x="168" y="146"/>
                  </a:lnTo>
                  <a:lnTo>
                    <a:pt x="180" y="143"/>
                  </a:lnTo>
                  <a:lnTo>
                    <a:pt x="190" y="139"/>
                  </a:lnTo>
                  <a:lnTo>
                    <a:pt x="202" y="135"/>
                  </a:lnTo>
                  <a:lnTo>
                    <a:pt x="214" y="131"/>
                  </a:lnTo>
                  <a:lnTo>
                    <a:pt x="224" y="126"/>
                  </a:lnTo>
                  <a:lnTo>
                    <a:pt x="227" y="126"/>
                  </a:lnTo>
                  <a:lnTo>
                    <a:pt x="230" y="125"/>
                  </a:lnTo>
                  <a:lnTo>
                    <a:pt x="232" y="124"/>
                  </a:lnTo>
                  <a:lnTo>
                    <a:pt x="233" y="123"/>
                  </a:lnTo>
                  <a:lnTo>
                    <a:pt x="234" y="120"/>
                  </a:lnTo>
                  <a:lnTo>
                    <a:pt x="237" y="115"/>
                  </a:lnTo>
                  <a:lnTo>
                    <a:pt x="238" y="113"/>
                  </a:lnTo>
                  <a:lnTo>
                    <a:pt x="238" y="112"/>
                  </a:lnTo>
                  <a:lnTo>
                    <a:pt x="238" y="110"/>
                  </a:lnTo>
                  <a:lnTo>
                    <a:pt x="237" y="108"/>
                  </a:lnTo>
                  <a:lnTo>
                    <a:pt x="234" y="9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0480" y="2906640"/>
              <a:ext cx="99720" cy="493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31" y="130"/>
                  </a:moveTo>
                  <a:lnTo>
                    <a:pt x="19" y="129"/>
                  </a:lnTo>
                  <a:lnTo>
                    <a:pt x="17" y="124"/>
                  </a:lnTo>
                  <a:lnTo>
                    <a:pt x="8" y="103"/>
                  </a:lnTo>
                  <a:lnTo>
                    <a:pt x="3" y="82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22" y="34"/>
                  </a:lnTo>
                  <a:lnTo>
                    <a:pt x="42" y="30"/>
                  </a:lnTo>
                  <a:lnTo>
                    <a:pt x="61" y="26"/>
                  </a:lnTo>
                  <a:lnTo>
                    <a:pt x="80" y="22"/>
                  </a:lnTo>
                  <a:lnTo>
                    <a:pt x="100" y="17"/>
                  </a:lnTo>
                  <a:lnTo>
                    <a:pt x="119" y="11"/>
                  </a:lnTo>
                  <a:lnTo>
                    <a:pt x="139" y="6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5" y="5"/>
                  </a:lnTo>
                  <a:lnTo>
                    <a:pt x="170" y="24"/>
                  </a:lnTo>
                  <a:lnTo>
                    <a:pt x="179" y="42"/>
                  </a:lnTo>
                  <a:lnTo>
                    <a:pt x="187" y="59"/>
                  </a:lnTo>
                  <a:lnTo>
                    <a:pt x="196" y="76"/>
                  </a:lnTo>
                  <a:lnTo>
                    <a:pt x="201" y="91"/>
                  </a:lnTo>
                  <a:lnTo>
                    <a:pt x="193" y="93"/>
                  </a:lnTo>
                  <a:lnTo>
                    <a:pt x="173" y="102"/>
                  </a:lnTo>
                  <a:lnTo>
                    <a:pt x="153" y="109"/>
                  </a:lnTo>
                  <a:lnTo>
                    <a:pt x="133" y="114"/>
                  </a:lnTo>
                  <a:lnTo>
                    <a:pt x="113" y="117"/>
                  </a:lnTo>
                  <a:lnTo>
                    <a:pt x="92" y="120"/>
                  </a:lnTo>
                  <a:lnTo>
                    <a:pt x="72" y="123"/>
                  </a:lnTo>
                  <a:lnTo>
                    <a:pt x="51" y="126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5200" y="2684520"/>
              <a:ext cx="1908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2" y="35"/>
                  </a:lnTo>
                  <a:lnTo>
                    <a:pt x="18" y="36"/>
                  </a:lnTo>
                  <a:lnTo>
                    <a:pt x="26" y="35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37" y="18"/>
                  </a:lnTo>
                  <a:lnTo>
                    <a:pt x="36" y="11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57360" y="2709720"/>
              <a:ext cx="19080" cy="144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19"/>
                  </a:moveTo>
                  <a:lnTo>
                    <a:pt x="1" y="25"/>
                  </a:lnTo>
                  <a:lnTo>
                    <a:pt x="5" y="32"/>
                  </a:lnTo>
                  <a:lnTo>
                    <a:pt x="12" y="36"/>
                  </a:lnTo>
                  <a:lnTo>
                    <a:pt x="19" y="37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5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2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92200" y="3078000"/>
              <a:ext cx="503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16320" y="3132000"/>
              <a:ext cx="9504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58880" y="3114720"/>
              <a:ext cx="9684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6320" y="3100320"/>
              <a:ext cx="29880" cy="49320"/>
            </a:xfrm>
            <a:custGeom>
              <a:avLst/>
              <a:gdLst/>
              <a:ahLst/>
              <a:rect l="l" t="t" r="r" b="b"/>
              <a:pathLst>
                <a:path w="60" h="126">
                  <a:moveTo>
                    <a:pt x="0" y="0"/>
                  </a:moveTo>
                  <a:cubicBezTo>
                    <a:pt x="8" y="24"/>
                    <a:pt x="22" y="106"/>
                    <a:pt x="36" y="120"/>
                  </a:cubicBezTo>
                  <a:cubicBezTo>
                    <a:pt x="42" y="126"/>
                    <a:pt x="52" y="120"/>
                    <a:pt x="60" y="1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6920" y="3073320"/>
              <a:ext cx="71280" cy="4140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46" y="0"/>
                  </a:moveTo>
                  <a:cubicBezTo>
                    <a:pt x="45" y="1"/>
                    <a:pt x="0" y="62"/>
                    <a:pt x="10" y="72"/>
                  </a:cubicBezTo>
                  <a:cubicBezTo>
                    <a:pt x="30" y="92"/>
                    <a:pt x="106" y="108"/>
                    <a:pt x="142" y="1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8440" y="2876400"/>
              <a:ext cx="142920" cy="73080"/>
            </a:xfrm>
            <a:custGeom>
              <a:avLst/>
              <a:gdLst>
                <a:gd name="textAreaLeft" fmla="*/ 33480 w 142920"/>
                <a:gd name="textAreaRight" fmla="*/ 109440 w 142920"/>
                <a:gd name="textAreaTop" fmla="*/ 828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57400">
              <a:off x="1695240" y="2258640"/>
              <a:ext cx="257040" cy="20484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71600" y="2193480"/>
            <a:ext cx="1142640" cy="1057680"/>
            <a:chOff x="1371600" y="2193480"/>
            <a:chExt cx="1142640" cy="1057680"/>
          </a:xfrm>
        </p:grpSpPr>
        <p:grpSp>
          <p:nvGrpSpPr>
            <p:cNvPr id="168" name=""/>
            <p:cNvGrpSpPr/>
            <p:nvPr/>
          </p:nvGrpSpPr>
          <p:grpSpPr>
            <a:xfrm>
              <a:off x="1371600" y="2392920"/>
              <a:ext cx="650520" cy="858240"/>
              <a:chOff x="1371600" y="2392920"/>
              <a:chExt cx="650520" cy="858240"/>
            </a:xfrm>
          </p:grpSpPr>
          <p:sp>
            <p:nvSpPr>
              <p:cNvPr id="169" name=""/>
              <p:cNvSpPr/>
              <p:nvPr/>
            </p:nvSpPr>
            <p:spPr>
              <a:xfrm rot="3711600">
                <a:off x="1702440" y="2467800"/>
                <a:ext cx="302400" cy="22032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71600" y="2480400"/>
                <a:ext cx="176760" cy="4010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3760" y="244800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59960" y="2734560"/>
                <a:ext cx="240840" cy="459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1800" y="2759760"/>
                <a:ext cx="202680" cy="4914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000160" y="2527920"/>
              <a:ext cx="514080" cy="599040"/>
              <a:chOff x="2000160" y="2527920"/>
              <a:chExt cx="514080" cy="5990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000160" y="2527920"/>
                <a:ext cx="514080" cy="599040"/>
                <a:chOff x="2000160" y="2527920"/>
                <a:chExt cx="514080" cy="5990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396880" y="2821680"/>
                  <a:ext cx="35640" cy="32760"/>
                </a:xfrm>
                <a:custGeom>
                  <a:avLst/>
                  <a:gdLst/>
                  <a:ahLst/>
                  <a:rect l="l" t="t" r="r" b="b"/>
                  <a:pathLst>
                    <a:path w="139" h="89">
                      <a:moveTo>
                        <a:pt x="139" y="16"/>
                      </a:moveTo>
                      <a:lnTo>
                        <a:pt x="0" y="89"/>
                      </a:lnTo>
                      <a:lnTo>
                        <a:pt x="12" y="0"/>
                      </a:lnTo>
                      <a:lnTo>
                        <a:pt x="139" y="16"/>
                      </a:lnTo>
                      <a:close/>
                    </a:path>
                  </a:pathLst>
                </a:custGeom>
                <a:solidFill>
                  <a:srgbClr val="75b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00160" y="2875680"/>
                  <a:ext cx="1116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280">
                      <a:moveTo>
                        <a:pt x="426" y="90"/>
                      </a:moveTo>
                      <a:lnTo>
                        <a:pt x="428" y="89"/>
                      </a:lnTo>
                      <a:lnTo>
                        <a:pt x="429" y="86"/>
                      </a:lnTo>
                      <a:lnTo>
                        <a:pt x="431" y="80"/>
                      </a:lnTo>
                      <a:lnTo>
                        <a:pt x="432" y="73"/>
                      </a:lnTo>
                      <a:lnTo>
                        <a:pt x="434" y="64"/>
                      </a:lnTo>
                      <a:lnTo>
                        <a:pt x="434" y="55"/>
                      </a:lnTo>
                      <a:lnTo>
                        <a:pt x="432" y="45"/>
                      </a:lnTo>
                      <a:lnTo>
                        <a:pt x="429" y="36"/>
                      </a:lnTo>
                      <a:lnTo>
                        <a:pt x="422" y="27"/>
                      </a:lnTo>
                      <a:lnTo>
                        <a:pt x="411" y="18"/>
                      </a:lnTo>
                      <a:lnTo>
                        <a:pt x="398" y="11"/>
                      </a:lnTo>
                      <a:lnTo>
                        <a:pt x="379" y="5"/>
                      </a:lnTo>
                      <a:lnTo>
                        <a:pt x="355" y="2"/>
                      </a:lnTo>
                      <a:lnTo>
                        <a:pt x="326" y="0"/>
                      </a:lnTo>
                      <a:lnTo>
                        <a:pt x="290" y="2"/>
                      </a:lnTo>
                      <a:lnTo>
                        <a:pt x="249" y="6"/>
                      </a:lnTo>
                      <a:lnTo>
                        <a:pt x="244" y="8"/>
                      </a:lnTo>
                      <a:lnTo>
                        <a:pt x="232" y="13"/>
                      </a:lnTo>
                      <a:lnTo>
                        <a:pt x="212" y="22"/>
                      </a:lnTo>
                      <a:lnTo>
                        <a:pt x="188" y="34"/>
                      </a:lnTo>
                      <a:lnTo>
                        <a:pt x="160" y="48"/>
                      </a:lnTo>
                      <a:lnTo>
                        <a:pt x="130" y="64"/>
                      </a:lnTo>
                      <a:lnTo>
                        <a:pt x="100" y="82"/>
                      </a:lnTo>
                      <a:lnTo>
                        <a:pt x="71" y="102"/>
                      </a:lnTo>
                      <a:lnTo>
                        <a:pt x="46" y="123"/>
                      </a:lnTo>
                      <a:lnTo>
                        <a:pt x="24" y="144"/>
                      </a:lnTo>
                      <a:lnTo>
                        <a:pt x="9" y="166"/>
                      </a:lnTo>
                      <a:lnTo>
                        <a:pt x="0" y="189"/>
                      </a:lnTo>
                      <a:lnTo>
                        <a:pt x="1" y="212"/>
                      </a:lnTo>
                      <a:lnTo>
                        <a:pt x="13" y="234"/>
                      </a:lnTo>
                      <a:lnTo>
                        <a:pt x="37" y="255"/>
                      </a:lnTo>
                      <a:lnTo>
                        <a:pt x="74" y="276"/>
                      </a:lnTo>
                      <a:lnTo>
                        <a:pt x="77" y="276"/>
                      </a:lnTo>
                      <a:lnTo>
                        <a:pt x="86" y="278"/>
                      </a:lnTo>
                      <a:lnTo>
                        <a:pt x="100" y="279"/>
                      </a:lnTo>
                      <a:lnTo>
                        <a:pt x="119" y="280"/>
                      </a:lnTo>
                      <a:lnTo>
                        <a:pt x="141" y="280"/>
                      </a:lnTo>
                      <a:lnTo>
                        <a:pt x="166" y="280"/>
                      </a:lnTo>
                      <a:lnTo>
                        <a:pt x="194" y="277"/>
                      </a:lnTo>
                      <a:lnTo>
                        <a:pt x="222" y="272"/>
                      </a:lnTo>
                      <a:lnTo>
                        <a:pt x="252" y="264"/>
                      </a:lnTo>
                      <a:lnTo>
                        <a:pt x="282" y="254"/>
                      </a:lnTo>
                      <a:lnTo>
                        <a:pt x="312" y="239"/>
                      </a:lnTo>
                      <a:lnTo>
                        <a:pt x="340" y="219"/>
                      </a:lnTo>
                      <a:lnTo>
                        <a:pt x="366" y="196"/>
                      </a:lnTo>
                      <a:lnTo>
                        <a:pt x="390" y="166"/>
                      </a:lnTo>
                      <a:lnTo>
                        <a:pt x="410" y="132"/>
                      </a:lnTo>
                      <a:lnTo>
                        <a:pt x="4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19960" y="2898000"/>
                  <a:ext cx="71280" cy="67680"/>
                </a:xfrm>
                <a:custGeom>
                  <a:avLst/>
                  <a:gdLst/>
                  <a:ahLst/>
                  <a:rect l="l" t="t" r="r" b="b"/>
                  <a:pathLst>
                    <a:path w="278" h="180">
                      <a:moveTo>
                        <a:pt x="274" y="58"/>
                      </a:moveTo>
                      <a:lnTo>
                        <a:pt x="275" y="54"/>
                      </a:lnTo>
                      <a:lnTo>
                        <a:pt x="278" y="46"/>
                      </a:lnTo>
                      <a:lnTo>
                        <a:pt x="278" y="34"/>
                      </a:lnTo>
                      <a:lnTo>
                        <a:pt x="275" y="23"/>
                      </a:lnTo>
                      <a:lnTo>
                        <a:pt x="264" y="11"/>
                      </a:lnTo>
                      <a:lnTo>
                        <a:pt x="242" y="3"/>
                      </a:lnTo>
                      <a:lnTo>
                        <a:pt x="209" y="0"/>
                      </a:lnTo>
                      <a:lnTo>
                        <a:pt x="159" y="3"/>
                      </a:lnTo>
                      <a:lnTo>
                        <a:pt x="156" y="5"/>
                      </a:lnTo>
                      <a:lnTo>
                        <a:pt x="148" y="8"/>
                      </a:lnTo>
                      <a:lnTo>
                        <a:pt x="136" y="14"/>
                      </a:lnTo>
                      <a:lnTo>
                        <a:pt x="120" y="21"/>
                      </a:lnTo>
                      <a:lnTo>
                        <a:pt x="103" y="30"/>
                      </a:lnTo>
                      <a:lnTo>
                        <a:pt x="83" y="40"/>
                      </a:lnTo>
                      <a:lnTo>
                        <a:pt x="65" y="52"/>
                      </a:lnTo>
                      <a:lnTo>
                        <a:pt x="47" y="64"/>
                      </a:lnTo>
                      <a:lnTo>
                        <a:pt x="29" y="78"/>
                      </a:lnTo>
                      <a:lnTo>
                        <a:pt x="15" y="92"/>
                      </a:lnTo>
                      <a:lnTo>
                        <a:pt x="6" y="107"/>
                      </a:lnTo>
                      <a:lnTo>
                        <a:pt x="0" y="121"/>
                      </a:lnTo>
                      <a:lnTo>
                        <a:pt x="2" y="136"/>
                      </a:lnTo>
                      <a:lnTo>
                        <a:pt x="8" y="150"/>
                      </a:lnTo>
                      <a:lnTo>
                        <a:pt x="23" y="164"/>
                      </a:lnTo>
                      <a:lnTo>
                        <a:pt x="48" y="176"/>
                      </a:lnTo>
                      <a:lnTo>
                        <a:pt x="50" y="176"/>
                      </a:lnTo>
                      <a:lnTo>
                        <a:pt x="56" y="177"/>
                      </a:lnTo>
                      <a:lnTo>
                        <a:pt x="65" y="178"/>
                      </a:lnTo>
                      <a:lnTo>
                        <a:pt x="76" y="180"/>
                      </a:lnTo>
                      <a:lnTo>
                        <a:pt x="90" y="180"/>
                      </a:lnTo>
                      <a:lnTo>
                        <a:pt x="106" y="178"/>
                      </a:lnTo>
                      <a:lnTo>
                        <a:pt x="124" y="177"/>
                      </a:lnTo>
                      <a:lnTo>
                        <a:pt x="143" y="174"/>
                      </a:lnTo>
                      <a:lnTo>
                        <a:pt x="162" y="169"/>
                      </a:lnTo>
                      <a:lnTo>
                        <a:pt x="181" y="162"/>
                      </a:lnTo>
                      <a:lnTo>
                        <a:pt x="200" y="153"/>
                      </a:lnTo>
                      <a:lnTo>
                        <a:pt x="218" y="140"/>
                      </a:lnTo>
                      <a:lnTo>
                        <a:pt x="236" y="125"/>
                      </a:lnTo>
                      <a:lnTo>
                        <a:pt x="250" y="107"/>
                      </a:lnTo>
                      <a:lnTo>
                        <a:pt x="263" y="84"/>
                      </a:lnTo>
                      <a:lnTo>
                        <a:pt x="274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13120" y="2719440"/>
                  <a:ext cx="152280" cy="140040"/>
                </a:xfrm>
                <a:custGeom>
                  <a:avLst/>
                  <a:gdLst/>
                  <a:ahLst/>
                  <a:rect l="l" t="t" r="r" b="b"/>
                  <a:pathLst>
                    <a:path w="594" h="371">
                      <a:moveTo>
                        <a:pt x="594" y="223"/>
                      </a:moveTo>
                      <a:lnTo>
                        <a:pt x="528" y="371"/>
                      </a:lnTo>
                      <a:lnTo>
                        <a:pt x="209" y="284"/>
                      </a:lnTo>
                      <a:lnTo>
                        <a:pt x="207" y="286"/>
                      </a:lnTo>
                      <a:lnTo>
                        <a:pt x="201" y="289"/>
                      </a:lnTo>
                      <a:lnTo>
                        <a:pt x="193" y="292"/>
                      </a:lnTo>
                      <a:lnTo>
                        <a:pt x="180" y="297"/>
                      </a:lnTo>
                      <a:lnTo>
                        <a:pt x="166" y="303"/>
                      </a:lnTo>
                      <a:lnTo>
                        <a:pt x="151" y="306"/>
                      </a:lnTo>
                      <a:lnTo>
                        <a:pt x="134" y="309"/>
                      </a:lnTo>
                      <a:lnTo>
                        <a:pt x="116" y="309"/>
                      </a:lnTo>
                      <a:lnTo>
                        <a:pt x="97" y="306"/>
                      </a:lnTo>
                      <a:lnTo>
                        <a:pt x="80" y="300"/>
                      </a:lnTo>
                      <a:lnTo>
                        <a:pt x="63" y="291"/>
                      </a:lnTo>
                      <a:lnTo>
                        <a:pt x="45" y="276"/>
                      </a:lnTo>
                      <a:lnTo>
                        <a:pt x="30" y="257"/>
                      </a:lnTo>
                      <a:lnTo>
                        <a:pt x="18" y="230"/>
                      </a:lnTo>
                      <a:lnTo>
                        <a:pt x="7" y="198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3" y="131"/>
                      </a:lnTo>
                      <a:lnTo>
                        <a:pt x="7" y="104"/>
                      </a:lnTo>
                      <a:lnTo>
                        <a:pt x="15" y="74"/>
                      </a:lnTo>
                      <a:lnTo>
                        <a:pt x="26" y="44"/>
                      </a:lnTo>
                      <a:lnTo>
                        <a:pt x="42" y="18"/>
                      </a:lnTo>
                      <a:lnTo>
                        <a:pt x="63" y="2"/>
                      </a:lnTo>
                      <a:lnTo>
                        <a:pt x="89" y="0"/>
                      </a:lnTo>
                      <a:lnTo>
                        <a:pt x="98" y="2"/>
                      </a:lnTo>
                      <a:lnTo>
                        <a:pt x="107" y="6"/>
                      </a:lnTo>
                      <a:lnTo>
                        <a:pt x="118" y="11"/>
                      </a:lnTo>
                      <a:lnTo>
                        <a:pt x="128" y="18"/>
                      </a:lnTo>
                      <a:lnTo>
                        <a:pt x="140" y="26"/>
                      </a:lnTo>
                      <a:lnTo>
                        <a:pt x="151" y="38"/>
                      </a:lnTo>
                      <a:lnTo>
                        <a:pt x="164" y="51"/>
                      </a:lnTo>
                      <a:lnTo>
                        <a:pt x="177" y="65"/>
                      </a:lnTo>
                      <a:lnTo>
                        <a:pt x="179" y="65"/>
                      </a:lnTo>
                      <a:lnTo>
                        <a:pt x="186" y="67"/>
                      </a:lnTo>
                      <a:lnTo>
                        <a:pt x="196" y="67"/>
                      </a:lnTo>
                      <a:lnTo>
                        <a:pt x="209" y="69"/>
                      </a:lnTo>
                      <a:lnTo>
                        <a:pt x="224" y="71"/>
                      </a:lnTo>
                      <a:lnTo>
                        <a:pt x="240" y="74"/>
                      </a:lnTo>
                      <a:lnTo>
                        <a:pt x="257" y="78"/>
                      </a:lnTo>
                      <a:lnTo>
                        <a:pt x="273" y="83"/>
                      </a:lnTo>
                      <a:lnTo>
                        <a:pt x="290" y="90"/>
                      </a:lnTo>
                      <a:lnTo>
                        <a:pt x="303" y="98"/>
                      </a:lnTo>
                      <a:lnTo>
                        <a:pt x="314" y="107"/>
                      </a:lnTo>
                      <a:lnTo>
                        <a:pt x="322" y="117"/>
                      </a:lnTo>
                      <a:lnTo>
                        <a:pt x="326" y="130"/>
                      </a:lnTo>
                      <a:lnTo>
                        <a:pt x="325" y="145"/>
                      </a:lnTo>
                      <a:lnTo>
                        <a:pt x="318" y="161"/>
                      </a:lnTo>
                      <a:lnTo>
                        <a:pt x="306" y="180"/>
                      </a:lnTo>
                      <a:lnTo>
                        <a:pt x="59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135880" y="2630160"/>
                  <a:ext cx="227160" cy="240840"/>
                </a:xfrm>
                <a:custGeom>
                  <a:avLst/>
                  <a:gdLst/>
                  <a:ahLst/>
                  <a:rect l="l" t="t" r="r" b="b"/>
                  <a:pathLst>
                    <a:path w="883" h="641">
                      <a:moveTo>
                        <a:pt x="137" y="435"/>
                      </a:moveTo>
                      <a:lnTo>
                        <a:pt x="91" y="371"/>
                      </a:lnTo>
                      <a:lnTo>
                        <a:pt x="54" y="315"/>
                      </a:lnTo>
                      <a:lnTo>
                        <a:pt x="28" y="265"/>
                      </a:lnTo>
                      <a:lnTo>
                        <a:pt x="9" y="222"/>
                      </a:lnTo>
                      <a:lnTo>
                        <a:pt x="0" y="182"/>
                      </a:lnTo>
                      <a:lnTo>
                        <a:pt x="0" y="150"/>
                      </a:lnTo>
                      <a:lnTo>
                        <a:pt x="8" y="121"/>
                      </a:lnTo>
                      <a:lnTo>
                        <a:pt x="24" y="97"/>
                      </a:lnTo>
                      <a:lnTo>
                        <a:pt x="47" y="76"/>
                      </a:lnTo>
                      <a:lnTo>
                        <a:pt x="78" y="59"/>
                      </a:lnTo>
                      <a:lnTo>
                        <a:pt x="115" y="45"/>
                      </a:lnTo>
                      <a:lnTo>
                        <a:pt x="160" y="33"/>
                      </a:lnTo>
                      <a:lnTo>
                        <a:pt x="211" y="23"/>
                      </a:lnTo>
                      <a:lnTo>
                        <a:pt x="267" y="14"/>
                      </a:lnTo>
                      <a:lnTo>
                        <a:pt x="329" y="7"/>
                      </a:lnTo>
                      <a:lnTo>
                        <a:pt x="397" y="0"/>
                      </a:lnTo>
                      <a:lnTo>
                        <a:pt x="399" y="2"/>
                      </a:lnTo>
                      <a:lnTo>
                        <a:pt x="406" y="4"/>
                      </a:lnTo>
                      <a:lnTo>
                        <a:pt x="416" y="7"/>
                      </a:lnTo>
                      <a:lnTo>
                        <a:pt x="431" y="13"/>
                      </a:lnTo>
                      <a:lnTo>
                        <a:pt x="450" y="21"/>
                      </a:lnTo>
                      <a:lnTo>
                        <a:pt x="470" y="29"/>
                      </a:lnTo>
                      <a:lnTo>
                        <a:pt x="493" y="40"/>
                      </a:lnTo>
                      <a:lnTo>
                        <a:pt x="519" y="51"/>
                      </a:lnTo>
                      <a:lnTo>
                        <a:pt x="545" y="64"/>
                      </a:lnTo>
                      <a:lnTo>
                        <a:pt x="574" y="78"/>
                      </a:lnTo>
                      <a:lnTo>
                        <a:pt x="603" y="94"/>
                      </a:lnTo>
                      <a:lnTo>
                        <a:pt x="633" y="110"/>
                      </a:lnTo>
                      <a:lnTo>
                        <a:pt x="662" y="127"/>
                      </a:lnTo>
                      <a:lnTo>
                        <a:pt x="692" y="147"/>
                      </a:lnTo>
                      <a:lnTo>
                        <a:pt x="720" y="166"/>
                      </a:lnTo>
                      <a:lnTo>
                        <a:pt x="748" y="188"/>
                      </a:lnTo>
                      <a:lnTo>
                        <a:pt x="775" y="210"/>
                      </a:lnTo>
                      <a:lnTo>
                        <a:pt x="799" y="233"/>
                      </a:lnTo>
                      <a:lnTo>
                        <a:pt x="821" y="257"/>
                      </a:lnTo>
                      <a:lnTo>
                        <a:pt x="840" y="283"/>
                      </a:lnTo>
                      <a:lnTo>
                        <a:pt x="856" y="309"/>
                      </a:lnTo>
                      <a:lnTo>
                        <a:pt x="869" y="336"/>
                      </a:lnTo>
                      <a:lnTo>
                        <a:pt x="878" y="363"/>
                      </a:lnTo>
                      <a:lnTo>
                        <a:pt x="883" y="392"/>
                      </a:lnTo>
                      <a:lnTo>
                        <a:pt x="883" y="421"/>
                      </a:lnTo>
                      <a:lnTo>
                        <a:pt x="878" y="451"/>
                      </a:lnTo>
                      <a:lnTo>
                        <a:pt x="867" y="481"/>
                      </a:lnTo>
                      <a:lnTo>
                        <a:pt x="851" y="512"/>
                      </a:lnTo>
                      <a:lnTo>
                        <a:pt x="829" y="543"/>
                      </a:lnTo>
                      <a:lnTo>
                        <a:pt x="799" y="575"/>
                      </a:lnTo>
                      <a:lnTo>
                        <a:pt x="763" y="608"/>
                      </a:lnTo>
                      <a:lnTo>
                        <a:pt x="719" y="641"/>
                      </a:lnTo>
                      <a:lnTo>
                        <a:pt x="715" y="641"/>
                      </a:lnTo>
                      <a:lnTo>
                        <a:pt x="703" y="639"/>
                      </a:lnTo>
                      <a:lnTo>
                        <a:pt x="685" y="635"/>
                      </a:lnTo>
                      <a:lnTo>
                        <a:pt x="660" y="632"/>
                      </a:lnTo>
                      <a:lnTo>
                        <a:pt x="629" y="626"/>
                      </a:lnTo>
                      <a:lnTo>
                        <a:pt x="595" y="618"/>
                      </a:lnTo>
                      <a:lnTo>
                        <a:pt x="556" y="609"/>
                      </a:lnTo>
                      <a:lnTo>
                        <a:pt x="513" y="598"/>
                      </a:lnTo>
                      <a:lnTo>
                        <a:pt x="468" y="586"/>
                      </a:lnTo>
                      <a:lnTo>
                        <a:pt x="421" y="571"/>
                      </a:lnTo>
                      <a:lnTo>
                        <a:pt x="372" y="555"/>
                      </a:lnTo>
                      <a:lnTo>
                        <a:pt x="324" y="535"/>
                      </a:lnTo>
                      <a:lnTo>
                        <a:pt x="274" y="514"/>
                      </a:lnTo>
                      <a:lnTo>
                        <a:pt x="227" y="490"/>
                      </a:lnTo>
                      <a:lnTo>
                        <a:pt x="181" y="464"/>
                      </a:lnTo>
                      <a:lnTo>
                        <a:pt x="137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34520" y="2728440"/>
                  <a:ext cx="44280" cy="70560"/>
                </a:xfrm>
                <a:custGeom>
                  <a:avLst/>
                  <a:gdLst/>
                  <a:ahLst/>
                  <a:rect l="l" t="t" r="r" b="b"/>
                  <a:pathLst>
                    <a:path w="170" h="189">
                      <a:moveTo>
                        <a:pt x="139" y="0"/>
                      </a:moveTo>
                      <a:lnTo>
                        <a:pt x="141" y="7"/>
                      </a:lnTo>
                      <a:lnTo>
                        <a:pt x="148" y="26"/>
                      </a:lnTo>
                      <a:lnTo>
                        <a:pt x="158" y="53"/>
                      </a:lnTo>
                      <a:lnTo>
                        <a:pt x="166" y="85"/>
                      </a:lnTo>
                      <a:lnTo>
                        <a:pt x="170" y="119"/>
                      </a:lnTo>
                      <a:lnTo>
                        <a:pt x="170" y="150"/>
                      </a:lnTo>
                      <a:lnTo>
                        <a:pt x="163" y="174"/>
                      </a:lnTo>
                      <a:lnTo>
                        <a:pt x="146" y="189"/>
                      </a:lnTo>
                      <a:lnTo>
                        <a:pt x="0" y="146"/>
                      </a:lnTo>
                      <a:lnTo>
                        <a:pt x="128" y="12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80240" y="274320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40"/>
                      </a:moveTo>
                      <a:lnTo>
                        <a:pt x="3" y="55"/>
                      </a:lnTo>
                      <a:lnTo>
                        <a:pt x="10" y="68"/>
                      </a:lnTo>
                      <a:lnTo>
                        <a:pt x="19" y="76"/>
                      </a:lnTo>
                      <a:lnTo>
                        <a:pt x="32" y="80"/>
                      </a:lnTo>
                      <a:lnTo>
                        <a:pt x="43" y="76"/>
                      </a:lnTo>
                      <a:lnTo>
                        <a:pt x="52" y="68"/>
                      </a:lnTo>
                      <a:lnTo>
                        <a:pt x="59" y="55"/>
                      </a:lnTo>
                      <a:lnTo>
                        <a:pt x="62" y="40"/>
                      </a:lnTo>
                      <a:lnTo>
                        <a:pt x="59" y="25"/>
                      </a:lnTo>
                      <a:lnTo>
                        <a:pt x="52" y="12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19" y="4"/>
                      </a:lnTo>
                      <a:lnTo>
                        <a:pt x="10" y="12"/>
                      </a:lnTo>
                      <a:lnTo>
                        <a:pt x="3" y="25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2560" y="2527920"/>
                  <a:ext cx="284400" cy="351360"/>
                </a:xfrm>
                <a:custGeom>
                  <a:avLst/>
                  <a:gdLst/>
                  <a:ahLst/>
                  <a:rect l="l" t="t" r="r" b="b"/>
                  <a:pathLst>
                    <a:path w="1103" h="932">
                      <a:moveTo>
                        <a:pt x="11" y="365"/>
                      </a:moveTo>
                      <a:lnTo>
                        <a:pt x="15" y="356"/>
                      </a:lnTo>
                      <a:lnTo>
                        <a:pt x="20" y="347"/>
                      </a:lnTo>
                      <a:lnTo>
                        <a:pt x="24" y="339"/>
                      </a:lnTo>
                      <a:lnTo>
                        <a:pt x="30" y="331"/>
                      </a:lnTo>
                      <a:lnTo>
                        <a:pt x="36" y="323"/>
                      </a:lnTo>
                      <a:lnTo>
                        <a:pt x="41" y="315"/>
                      </a:lnTo>
                      <a:lnTo>
                        <a:pt x="48" y="308"/>
                      </a:lnTo>
                      <a:lnTo>
                        <a:pt x="55" y="301"/>
                      </a:lnTo>
                      <a:lnTo>
                        <a:pt x="62" y="295"/>
                      </a:lnTo>
                      <a:lnTo>
                        <a:pt x="70" y="288"/>
                      </a:lnTo>
                      <a:lnTo>
                        <a:pt x="79" y="282"/>
                      </a:lnTo>
                      <a:lnTo>
                        <a:pt x="88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90" y="276"/>
                      </a:lnTo>
                      <a:lnTo>
                        <a:pt x="132" y="234"/>
                      </a:lnTo>
                      <a:lnTo>
                        <a:pt x="83" y="83"/>
                      </a:lnTo>
                      <a:lnTo>
                        <a:pt x="200" y="0"/>
                      </a:lnTo>
                      <a:lnTo>
                        <a:pt x="245" y="96"/>
                      </a:lnTo>
                      <a:lnTo>
                        <a:pt x="177" y="132"/>
                      </a:lnTo>
                      <a:lnTo>
                        <a:pt x="210" y="214"/>
                      </a:lnTo>
                      <a:lnTo>
                        <a:pt x="225" y="209"/>
                      </a:lnTo>
                      <a:lnTo>
                        <a:pt x="243" y="203"/>
                      </a:lnTo>
                      <a:lnTo>
                        <a:pt x="265" y="199"/>
                      </a:lnTo>
                      <a:lnTo>
                        <a:pt x="287" y="197"/>
                      </a:lnTo>
                      <a:lnTo>
                        <a:pt x="307" y="195"/>
                      </a:lnTo>
                      <a:lnTo>
                        <a:pt x="324" y="195"/>
                      </a:lnTo>
                      <a:lnTo>
                        <a:pt x="335" y="194"/>
                      </a:lnTo>
                      <a:lnTo>
                        <a:pt x="340" y="194"/>
                      </a:lnTo>
                      <a:lnTo>
                        <a:pt x="332" y="38"/>
                      </a:lnTo>
                      <a:lnTo>
                        <a:pt x="460" y="22"/>
                      </a:lnTo>
                      <a:lnTo>
                        <a:pt x="467" y="118"/>
                      </a:lnTo>
                      <a:lnTo>
                        <a:pt x="396" y="112"/>
                      </a:lnTo>
                      <a:lnTo>
                        <a:pt x="407" y="204"/>
                      </a:lnTo>
                      <a:lnTo>
                        <a:pt x="418" y="198"/>
                      </a:lnTo>
                      <a:lnTo>
                        <a:pt x="438" y="197"/>
                      </a:lnTo>
                      <a:lnTo>
                        <a:pt x="462" y="198"/>
                      </a:lnTo>
                      <a:lnTo>
                        <a:pt x="487" y="202"/>
                      </a:lnTo>
                      <a:lnTo>
                        <a:pt x="513" y="208"/>
                      </a:lnTo>
                      <a:lnTo>
                        <a:pt x="534" y="212"/>
                      </a:lnTo>
                      <a:lnTo>
                        <a:pt x="549" y="216"/>
                      </a:lnTo>
                      <a:lnTo>
                        <a:pt x="554" y="217"/>
                      </a:lnTo>
                      <a:lnTo>
                        <a:pt x="574" y="98"/>
                      </a:lnTo>
                      <a:lnTo>
                        <a:pt x="727" y="140"/>
                      </a:lnTo>
                      <a:lnTo>
                        <a:pt x="702" y="220"/>
                      </a:lnTo>
                      <a:lnTo>
                        <a:pt x="630" y="189"/>
                      </a:lnTo>
                      <a:lnTo>
                        <a:pt x="613" y="252"/>
                      </a:lnTo>
                      <a:lnTo>
                        <a:pt x="630" y="256"/>
                      </a:lnTo>
                      <a:lnTo>
                        <a:pt x="652" y="266"/>
                      </a:lnTo>
                      <a:lnTo>
                        <a:pt x="676" y="281"/>
                      </a:lnTo>
                      <a:lnTo>
                        <a:pt x="701" y="299"/>
                      </a:lnTo>
                      <a:lnTo>
                        <a:pt x="724" y="315"/>
                      </a:lnTo>
                      <a:lnTo>
                        <a:pt x="742" y="330"/>
                      </a:lnTo>
                      <a:lnTo>
                        <a:pt x="755" y="341"/>
                      </a:lnTo>
                      <a:lnTo>
                        <a:pt x="759" y="345"/>
                      </a:lnTo>
                      <a:lnTo>
                        <a:pt x="841" y="250"/>
                      </a:lnTo>
                      <a:lnTo>
                        <a:pt x="952" y="323"/>
                      </a:lnTo>
                      <a:lnTo>
                        <a:pt x="912" y="395"/>
                      </a:lnTo>
                      <a:lnTo>
                        <a:pt x="845" y="342"/>
                      </a:lnTo>
                      <a:lnTo>
                        <a:pt x="815" y="402"/>
                      </a:lnTo>
                      <a:lnTo>
                        <a:pt x="834" y="415"/>
                      </a:lnTo>
                      <a:lnTo>
                        <a:pt x="855" y="433"/>
                      </a:lnTo>
                      <a:lnTo>
                        <a:pt x="875" y="453"/>
                      </a:lnTo>
                      <a:lnTo>
                        <a:pt x="894" y="474"/>
                      </a:lnTo>
                      <a:lnTo>
                        <a:pt x="910" y="493"/>
                      </a:lnTo>
                      <a:lnTo>
                        <a:pt x="923" y="511"/>
                      </a:lnTo>
                      <a:lnTo>
                        <a:pt x="931" y="521"/>
                      </a:lnTo>
                      <a:lnTo>
                        <a:pt x="935" y="525"/>
                      </a:lnTo>
                      <a:lnTo>
                        <a:pt x="1061" y="508"/>
                      </a:lnTo>
                      <a:lnTo>
                        <a:pt x="1103" y="591"/>
                      </a:lnTo>
                      <a:lnTo>
                        <a:pt x="1034" y="627"/>
                      </a:lnTo>
                      <a:lnTo>
                        <a:pt x="997" y="565"/>
                      </a:lnTo>
                      <a:lnTo>
                        <a:pt x="932" y="591"/>
                      </a:lnTo>
                      <a:lnTo>
                        <a:pt x="943" y="611"/>
                      </a:lnTo>
                      <a:lnTo>
                        <a:pt x="953" y="630"/>
                      </a:lnTo>
                      <a:lnTo>
                        <a:pt x="960" y="650"/>
                      </a:lnTo>
                      <a:lnTo>
                        <a:pt x="967" y="668"/>
                      </a:lnTo>
                      <a:lnTo>
                        <a:pt x="971" y="688"/>
                      </a:lnTo>
                      <a:lnTo>
                        <a:pt x="975" y="706"/>
                      </a:lnTo>
                      <a:lnTo>
                        <a:pt x="976" y="725"/>
                      </a:lnTo>
                      <a:lnTo>
                        <a:pt x="976" y="743"/>
                      </a:lnTo>
                      <a:lnTo>
                        <a:pt x="883" y="743"/>
                      </a:lnTo>
                      <a:lnTo>
                        <a:pt x="886" y="720"/>
                      </a:lnTo>
                      <a:lnTo>
                        <a:pt x="886" y="696"/>
                      </a:lnTo>
                      <a:lnTo>
                        <a:pt x="883" y="672"/>
                      </a:lnTo>
                      <a:lnTo>
                        <a:pt x="876" y="646"/>
                      </a:lnTo>
                      <a:lnTo>
                        <a:pt x="867" y="621"/>
                      </a:lnTo>
                      <a:lnTo>
                        <a:pt x="853" y="596"/>
                      </a:lnTo>
                      <a:lnTo>
                        <a:pt x="837" y="570"/>
                      </a:lnTo>
                      <a:lnTo>
                        <a:pt x="818" y="545"/>
                      </a:lnTo>
                      <a:lnTo>
                        <a:pt x="796" y="520"/>
                      </a:lnTo>
                      <a:lnTo>
                        <a:pt x="772" y="494"/>
                      </a:lnTo>
                      <a:lnTo>
                        <a:pt x="746" y="471"/>
                      </a:lnTo>
                      <a:lnTo>
                        <a:pt x="717" y="448"/>
                      </a:lnTo>
                      <a:lnTo>
                        <a:pt x="686" y="426"/>
                      </a:lnTo>
                      <a:lnTo>
                        <a:pt x="653" y="405"/>
                      </a:lnTo>
                      <a:lnTo>
                        <a:pt x="618" y="386"/>
                      </a:lnTo>
                      <a:lnTo>
                        <a:pt x="581" y="368"/>
                      </a:lnTo>
                      <a:lnTo>
                        <a:pt x="549" y="354"/>
                      </a:lnTo>
                      <a:lnTo>
                        <a:pt x="517" y="342"/>
                      </a:lnTo>
                      <a:lnTo>
                        <a:pt x="486" y="332"/>
                      </a:lnTo>
                      <a:lnTo>
                        <a:pt x="455" y="324"/>
                      </a:lnTo>
                      <a:lnTo>
                        <a:pt x="425" y="317"/>
                      </a:lnTo>
                      <a:lnTo>
                        <a:pt x="395" y="312"/>
                      </a:lnTo>
                      <a:lnTo>
                        <a:pt x="366" y="309"/>
                      </a:lnTo>
                      <a:lnTo>
                        <a:pt x="339" y="307"/>
                      </a:lnTo>
                      <a:lnTo>
                        <a:pt x="312" y="307"/>
                      </a:lnTo>
                      <a:lnTo>
                        <a:pt x="286" y="309"/>
                      </a:lnTo>
                      <a:lnTo>
                        <a:pt x="262" y="312"/>
                      </a:lnTo>
                      <a:lnTo>
                        <a:pt x="239" y="317"/>
                      </a:lnTo>
                      <a:lnTo>
                        <a:pt x="217" y="324"/>
                      </a:lnTo>
                      <a:lnTo>
                        <a:pt x="197" y="332"/>
                      </a:lnTo>
                      <a:lnTo>
                        <a:pt x="179" y="341"/>
                      </a:lnTo>
                      <a:lnTo>
                        <a:pt x="161" y="353"/>
                      </a:lnTo>
                      <a:lnTo>
                        <a:pt x="153" y="358"/>
                      </a:lnTo>
                      <a:lnTo>
                        <a:pt x="145" y="365"/>
                      </a:lnTo>
                      <a:lnTo>
                        <a:pt x="138" y="372"/>
                      </a:lnTo>
                      <a:lnTo>
                        <a:pt x="132" y="380"/>
                      </a:lnTo>
                      <a:lnTo>
                        <a:pt x="128" y="388"/>
                      </a:lnTo>
                      <a:lnTo>
                        <a:pt x="122" y="396"/>
                      </a:lnTo>
                      <a:lnTo>
                        <a:pt x="119" y="405"/>
                      </a:lnTo>
                      <a:lnTo>
                        <a:pt x="115" y="413"/>
                      </a:lnTo>
                      <a:lnTo>
                        <a:pt x="108" y="436"/>
                      </a:lnTo>
                      <a:lnTo>
                        <a:pt x="106" y="460"/>
                      </a:lnTo>
                      <a:lnTo>
                        <a:pt x="107" y="485"/>
                      </a:lnTo>
                      <a:lnTo>
                        <a:pt x="112" y="512"/>
                      </a:lnTo>
                      <a:lnTo>
                        <a:pt x="121" y="538"/>
                      </a:lnTo>
                      <a:lnTo>
                        <a:pt x="132" y="565"/>
                      </a:lnTo>
                      <a:lnTo>
                        <a:pt x="147" y="591"/>
                      </a:lnTo>
                      <a:lnTo>
                        <a:pt x="166" y="619"/>
                      </a:lnTo>
                      <a:lnTo>
                        <a:pt x="188" y="645"/>
                      </a:lnTo>
                      <a:lnTo>
                        <a:pt x="212" y="671"/>
                      </a:lnTo>
                      <a:lnTo>
                        <a:pt x="240" y="696"/>
                      </a:lnTo>
                      <a:lnTo>
                        <a:pt x="268" y="720"/>
                      </a:lnTo>
                      <a:lnTo>
                        <a:pt x="301" y="744"/>
                      </a:lnTo>
                      <a:lnTo>
                        <a:pt x="335" y="766"/>
                      </a:lnTo>
                      <a:lnTo>
                        <a:pt x="372" y="787"/>
                      </a:lnTo>
                      <a:lnTo>
                        <a:pt x="410" y="805"/>
                      </a:lnTo>
                      <a:lnTo>
                        <a:pt x="447" y="820"/>
                      </a:lnTo>
                      <a:lnTo>
                        <a:pt x="484" y="834"/>
                      </a:lnTo>
                      <a:lnTo>
                        <a:pt x="520" y="845"/>
                      </a:lnTo>
                      <a:lnTo>
                        <a:pt x="555" y="854"/>
                      </a:lnTo>
                      <a:lnTo>
                        <a:pt x="590" y="860"/>
                      </a:lnTo>
                      <a:lnTo>
                        <a:pt x="625" y="864"/>
                      </a:lnTo>
                      <a:lnTo>
                        <a:pt x="657" y="865"/>
                      </a:lnTo>
                      <a:lnTo>
                        <a:pt x="688" y="865"/>
                      </a:lnTo>
                      <a:lnTo>
                        <a:pt x="718" y="862"/>
                      </a:lnTo>
                      <a:lnTo>
                        <a:pt x="746" y="857"/>
                      </a:lnTo>
                      <a:lnTo>
                        <a:pt x="771" y="850"/>
                      </a:lnTo>
                      <a:lnTo>
                        <a:pt x="795" y="841"/>
                      </a:lnTo>
                      <a:lnTo>
                        <a:pt x="817" y="830"/>
                      </a:lnTo>
                      <a:lnTo>
                        <a:pt x="835" y="817"/>
                      </a:lnTo>
                      <a:lnTo>
                        <a:pt x="852" y="801"/>
                      </a:lnTo>
                      <a:lnTo>
                        <a:pt x="865" y="784"/>
                      </a:lnTo>
                      <a:lnTo>
                        <a:pt x="970" y="784"/>
                      </a:lnTo>
                      <a:lnTo>
                        <a:pt x="969" y="787"/>
                      </a:lnTo>
                      <a:lnTo>
                        <a:pt x="968" y="792"/>
                      </a:lnTo>
                      <a:lnTo>
                        <a:pt x="967" y="795"/>
                      </a:lnTo>
                      <a:lnTo>
                        <a:pt x="966" y="800"/>
                      </a:lnTo>
                      <a:lnTo>
                        <a:pt x="952" y="826"/>
                      </a:lnTo>
                      <a:lnTo>
                        <a:pt x="935" y="850"/>
                      </a:lnTo>
                      <a:lnTo>
                        <a:pt x="913" y="871"/>
                      </a:lnTo>
                      <a:lnTo>
                        <a:pt x="886" y="889"/>
                      </a:lnTo>
                      <a:lnTo>
                        <a:pt x="857" y="903"/>
                      </a:lnTo>
                      <a:lnTo>
                        <a:pt x="825" y="915"/>
                      </a:lnTo>
                      <a:lnTo>
                        <a:pt x="789" y="924"/>
                      </a:lnTo>
                      <a:lnTo>
                        <a:pt x="750" y="930"/>
                      </a:lnTo>
                      <a:lnTo>
                        <a:pt x="710" y="932"/>
                      </a:lnTo>
                      <a:lnTo>
                        <a:pt x="667" y="931"/>
                      </a:lnTo>
                      <a:lnTo>
                        <a:pt x="622" y="926"/>
                      </a:lnTo>
                      <a:lnTo>
                        <a:pt x="576" y="919"/>
                      </a:lnTo>
                      <a:lnTo>
                        <a:pt x="528" y="908"/>
                      </a:lnTo>
                      <a:lnTo>
                        <a:pt x="479" y="894"/>
                      </a:lnTo>
                      <a:lnTo>
                        <a:pt x="431" y="877"/>
                      </a:lnTo>
                      <a:lnTo>
                        <a:pt x="381" y="856"/>
                      </a:lnTo>
                      <a:lnTo>
                        <a:pt x="333" y="832"/>
                      </a:lnTo>
                      <a:lnTo>
                        <a:pt x="288" y="807"/>
                      </a:lnTo>
                      <a:lnTo>
                        <a:pt x="244" y="779"/>
                      </a:lnTo>
                      <a:lnTo>
                        <a:pt x="204" y="750"/>
                      </a:lnTo>
                      <a:lnTo>
                        <a:pt x="167" y="719"/>
                      </a:lnTo>
                      <a:lnTo>
                        <a:pt x="134" y="688"/>
                      </a:lnTo>
                      <a:lnTo>
                        <a:pt x="103" y="655"/>
                      </a:lnTo>
                      <a:lnTo>
                        <a:pt x="76" y="622"/>
                      </a:lnTo>
                      <a:lnTo>
                        <a:pt x="53" y="589"/>
                      </a:lnTo>
                      <a:lnTo>
                        <a:pt x="33" y="555"/>
                      </a:lnTo>
                      <a:lnTo>
                        <a:pt x="18" y="522"/>
                      </a:lnTo>
                      <a:lnTo>
                        <a:pt x="8" y="489"/>
                      </a:lnTo>
                      <a:lnTo>
                        <a:pt x="1" y="456"/>
                      </a:lnTo>
                      <a:lnTo>
                        <a:pt x="0" y="425"/>
                      </a:lnTo>
                      <a:lnTo>
                        <a:pt x="3" y="394"/>
                      </a:lnTo>
                      <a:lnTo>
                        <a:pt x="11" y="3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23800" y="2804760"/>
                  <a:ext cx="28440" cy="28080"/>
                </a:xfrm>
                <a:custGeom>
                  <a:avLst/>
                  <a:gdLst/>
                  <a:ahLst/>
                  <a:rect l="l" t="t" r="r" b="b"/>
                  <a:pathLst>
                    <a:path w="111" h="41">
                      <a:moveTo>
                        <a:pt x="13" y="16"/>
                      </a:moveTo>
                      <a:lnTo>
                        <a:pt x="14" y="13"/>
                      </a:lnTo>
                      <a:lnTo>
                        <a:pt x="15" y="8"/>
                      </a:lnTo>
                      <a:lnTo>
                        <a:pt x="17" y="5"/>
                      </a:lnTo>
                      <a:lnTo>
                        <a:pt x="18" y="0"/>
                      </a:lnTo>
                      <a:lnTo>
                        <a:pt x="111" y="0"/>
                      </a:lnTo>
                      <a:lnTo>
                        <a:pt x="111" y="11"/>
                      </a:lnTo>
                      <a:lnTo>
                        <a:pt x="110" y="20"/>
                      </a:lnTo>
                      <a:lnTo>
                        <a:pt x="108" y="30"/>
                      </a:lnTo>
                      <a:lnTo>
                        <a:pt x="105" y="41"/>
                      </a:lnTo>
                      <a:lnTo>
                        <a:pt x="0" y="41"/>
                      </a:lnTo>
                      <a:lnTo>
                        <a:pt x="4" y="35"/>
                      </a:lnTo>
                      <a:lnTo>
                        <a:pt x="7" y="29"/>
                      </a:lnTo>
                      <a:lnTo>
                        <a:pt x="11" y="23"/>
                      </a:lnTo>
                      <a:lnTo>
                        <a:pt x="1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85200" y="2778120"/>
                  <a:ext cx="32400" cy="2880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37"/>
                      </a:moveTo>
                      <a:lnTo>
                        <a:pt x="127" y="45"/>
                      </a:lnTo>
                      <a:lnTo>
                        <a:pt x="123" y="52"/>
                      </a:lnTo>
                      <a:lnTo>
                        <a:pt x="117" y="58"/>
                      </a:lnTo>
                      <a:lnTo>
                        <a:pt x="110" y="63"/>
                      </a:lnTo>
                      <a:lnTo>
                        <a:pt x="99" y="68"/>
                      </a:lnTo>
                      <a:lnTo>
                        <a:pt x="89" y="71"/>
                      </a:lnTo>
                      <a:lnTo>
                        <a:pt x="76" y="74"/>
                      </a:lnTo>
                      <a:lnTo>
                        <a:pt x="64" y="75"/>
                      </a:lnTo>
                      <a:lnTo>
                        <a:pt x="51" y="74"/>
                      </a:lnTo>
                      <a:lnTo>
                        <a:pt x="39" y="71"/>
                      </a:lnTo>
                      <a:lnTo>
                        <a:pt x="28" y="68"/>
                      </a:lnTo>
                      <a:lnTo>
                        <a:pt x="19" y="63"/>
                      </a:lnTo>
                      <a:lnTo>
                        <a:pt x="11" y="58"/>
                      </a:lnTo>
                      <a:lnTo>
                        <a:pt x="5" y="52"/>
                      </a:lnTo>
                      <a:lnTo>
                        <a:pt x="1" y="45"/>
                      </a:lnTo>
                      <a:lnTo>
                        <a:pt x="0" y="37"/>
                      </a:lnTo>
                      <a:lnTo>
                        <a:pt x="1" y="30"/>
                      </a:lnTo>
                      <a:lnTo>
                        <a:pt x="5" y="23"/>
                      </a:lnTo>
                      <a:lnTo>
                        <a:pt x="11" y="16"/>
                      </a:lnTo>
                      <a:lnTo>
                        <a:pt x="19" y="11"/>
                      </a:lnTo>
                      <a:lnTo>
                        <a:pt x="28" y="7"/>
                      </a:lnTo>
                      <a:lnTo>
                        <a:pt x="39" y="3"/>
                      </a:lnTo>
                      <a:lnTo>
                        <a:pt x="51" y="1"/>
                      </a:lnTo>
                      <a:lnTo>
                        <a:pt x="64" y="0"/>
                      </a:lnTo>
                      <a:lnTo>
                        <a:pt x="76" y="1"/>
                      </a:lnTo>
                      <a:lnTo>
                        <a:pt x="89" y="3"/>
                      </a:lnTo>
                      <a:lnTo>
                        <a:pt x="99" y="7"/>
                      </a:lnTo>
                      <a:lnTo>
                        <a:pt x="110" y="11"/>
                      </a:lnTo>
                      <a:lnTo>
                        <a:pt x="117" y="16"/>
                      </a:lnTo>
                      <a:lnTo>
                        <a:pt x="123" y="23"/>
                      </a:lnTo>
                      <a:lnTo>
                        <a:pt x="127" y="30"/>
                      </a:lnTo>
                      <a:lnTo>
                        <a:pt x="1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67480" y="2763000"/>
                  <a:ext cx="201960" cy="236520"/>
                </a:xfrm>
                <a:custGeom>
                  <a:avLst/>
                  <a:gdLst/>
                  <a:ahLst/>
                  <a:rect l="l" t="t" r="r" b="b"/>
                  <a:pathLst>
                    <a:path w="786" h="627">
                      <a:moveTo>
                        <a:pt x="387" y="0"/>
                      </a:moveTo>
                      <a:lnTo>
                        <a:pt x="0" y="506"/>
                      </a:lnTo>
                      <a:lnTo>
                        <a:pt x="672" y="627"/>
                      </a:lnTo>
                      <a:lnTo>
                        <a:pt x="786" y="228"/>
                      </a:lnTo>
                      <a:lnTo>
                        <a:pt x="701" y="228"/>
                      </a:lnTo>
                      <a:lnTo>
                        <a:pt x="623" y="549"/>
                      </a:lnTo>
                      <a:lnTo>
                        <a:pt x="143" y="435"/>
                      </a:lnTo>
                      <a:lnTo>
                        <a:pt x="423" y="77"/>
                      </a:lnTo>
                      <a:lnTo>
                        <a:pt x="3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23920" y="2742120"/>
                  <a:ext cx="124200" cy="101880"/>
                </a:xfrm>
                <a:custGeom>
                  <a:avLst/>
                  <a:gdLst/>
                  <a:ahLst/>
                  <a:rect l="l" t="t" r="r" b="b"/>
                  <a:pathLst>
                    <a:path w="480" h="271">
                      <a:moveTo>
                        <a:pt x="447" y="271"/>
                      </a:moveTo>
                      <a:lnTo>
                        <a:pt x="156" y="171"/>
                      </a:lnTo>
                      <a:lnTo>
                        <a:pt x="153" y="176"/>
                      </a:lnTo>
                      <a:lnTo>
                        <a:pt x="142" y="190"/>
                      </a:lnTo>
                      <a:lnTo>
                        <a:pt x="126" y="208"/>
                      </a:lnTo>
                      <a:lnTo>
                        <a:pt x="106" y="223"/>
                      </a:lnTo>
                      <a:lnTo>
                        <a:pt x="83" y="231"/>
                      </a:lnTo>
                      <a:lnTo>
                        <a:pt x="56" y="225"/>
                      </a:lnTo>
                      <a:lnTo>
                        <a:pt x="28" y="201"/>
                      </a:lnTo>
                      <a:lnTo>
                        <a:pt x="0" y="153"/>
                      </a:lnTo>
                      <a:lnTo>
                        <a:pt x="5" y="75"/>
                      </a:lnTo>
                      <a:lnTo>
                        <a:pt x="6" y="72"/>
                      </a:lnTo>
                      <a:lnTo>
                        <a:pt x="9" y="61"/>
                      </a:lnTo>
                      <a:lnTo>
                        <a:pt x="13" y="47"/>
                      </a:lnTo>
                      <a:lnTo>
                        <a:pt x="19" y="32"/>
                      </a:lnTo>
                      <a:lnTo>
                        <a:pt x="27" y="19"/>
                      </a:lnTo>
                      <a:lnTo>
                        <a:pt x="35" y="7"/>
                      </a:lnTo>
                      <a:lnTo>
                        <a:pt x="46" y="0"/>
                      </a:lnTo>
                      <a:lnTo>
                        <a:pt x="56" y="1"/>
                      </a:lnTo>
                      <a:lnTo>
                        <a:pt x="64" y="8"/>
                      </a:lnTo>
                      <a:lnTo>
                        <a:pt x="72" y="19"/>
                      </a:lnTo>
                      <a:lnTo>
                        <a:pt x="80" y="36"/>
                      </a:lnTo>
                      <a:lnTo>
                        <a:pt x="88" y="59"/>
                      </a:lnTo>
                      <a:lnTo>
                        <a:pt x="89" y="62"/>
                      </a:lnTo>
                      <a:lnTo>
                        <a:pt x="93" y="72"/>
                      </a:lnTo>
                      <a:lnTo>
                        <a:pt x="99" y="83"/>
                      </a:lnTo>
                      <a:lnTo>
                        <a:pt x="107" y="96"/>
                      </a:lnTo>
                      <a:lnTo>
                        <a:pt x="116" y="107"/>
                      </a:lnTo>
                      <a:lnTo>
                        <a:pt x="127" y="114"/>
                      </a:lnTo>
                      <a:lnTo>
                        <a:pt x="140" y="115"/>
                      </a:lnTo>
                      <a:lnTo>
                        <a:pt x="155" y="109"/>
                      </a:lnTo>
                      <a:lnTo>
                        <a:pt x="161" y="106"/>
                      </a:lnTo>
                      <a:lnTo>
                        <a:pt x="175" y="102"/>
                      </a:lnTo>
                      <a:lnTo>
                        <a:pt x="194" y="97"/>
                      </a:lnTo>
                      <a:lnTo>
                        <a:pt x="213" y="92"/>
                      </a:lnTo>
                      <a:lnTo>
                        <a:pt x="227" y="92"/>
                      </a:lnTo>
                      <a:lnTo>
                        <a:pt x="231" y="97"/>
                      </a:lnTo>
                      <a:lnTo>
                        <a:pt x="223" y="109"/>
                      </a:lnTo>
                      <a:lnTo>
                        <a:pt x="197" y="130"/>
                      </a:lnTo>
                      <a:lnTo>
                        <a:pt x="480" y="216"/>
                      </a:lnTo>
                      <a:lnTo>
                        <a:pt x="447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1240" y="2751120"/>
                  <a:ext cx="153000" cy="214560"/>
                </a:xfrm>
                <a:custGeom>
                  <a:avLst/>
                  <a:gdLst/>
                  <a:ahLst/>
                  <a:rect l="l" t="t" r="r" b="b"/>
                  <a:pathLst>
                    <a:path w="594" h="567">
                      <a:moveTo>
                        <a:pt x="0" y="271"/>
                      </a:moveTo>
                      <a:lnTo>
                        <a:pt x="143" y="0"/>
                      </a:lnTo>
                      <a:lnTo>
                        <a:pt x="286" y="44"/>
                      </a:lnTo>
                      <a:lnTo>
                        <a:pt x="265" y="199"/>
                      </a:lnTo>
                      <a:lnTo>
                        <a:pt x="522" y="63"/>
                      </a:lnTo>
                      <a:lnTo>
                        <a:pt x="526" y="68"/>
                      </a:lnTo>
                      <a:lnTo>
                        <a:pt x="540" y="81"/>
                      </a:lnTo>
                      <a:lnTo>
                        <a:pt x="556" y="99"/>
                      </a:lnTo>
                      <a:lnTo>
                        <a:pt x="574" y="124"/>
                      </a:lnTo>
                      <a:lnTo>
                        <a:pt x="588" y="153"/>
                      </a:lnTo>
                      <a:lnTo>
                        <a:pt x="594" y="184"/>
                      </a:lnTo>
                      <a:lnTo>
                        <a:pt x="591" y="218"/>
                      </a:lnTo>
                      <a:lnTo>
                        <a:pt x="573" y="250"/>
                      </a:lnTo>
                      <a:lnTo>
                        <a:pt x="571" y="256"/>
                      </a:lnTo>
                      <a:lnTo>
                        <a:pt x="567" y="272"/>
                      </a:lnTo>
                      <a:lnTo>
                        <a:pt x="559" y="296"/>
                      </a:lnTo>
                      <a:lnTo>
                        <a:pt x="548" y="327"/>
                      </a:lnTo>
                      <a:lnTo>
                        <a:pt x="533" y="362"/>
                      </a:lnTo>
                      <a:lnTo>
                        <a:pt x="514" y="400"/>
                      </a:lnTo>
                      <a:lnTo>
                        <a:pt x="491" y="438"/>
                      </a:lnTo>
                      <a:lnTo>
                        <a:pt x="462" y="474"/>
                      </a:lnTo>
                      <a:lnTo>
                        <a:pt x="430" y="508"/>
                      </a:lnTo>
                      <a:lnTo>
                        <a:pt x="390" y="536"/>
                      </a:lnTo>
                      <a:lnTo>
                        <a:pt x="347" y="555"/>
                      </a:lnTo>
                      <a:lnTo>
                        <a:pt x="297" y="567"/>
                      </a:lnTo>
                      <a:lnTo>
                        <a:pt x="242" y="567"/>
                      </a:lnTo>
                      <a:lnTo>
                        <a:pt x="180" y="553"/>
                      </a:lnTo>
                      <a:lnTo>
                        <a:pt x="112" y="525"/>
                      </a:lnTo>
                      <a:lnTo>
                        <a:pt x="36" y="479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78880" y="2781360"/>
                  <a:ext cx="116640" cy="171000"/>
                </a:xfrm>
                <a:custGeom>
                  <a:avLst/>
                  <a:gdLst/>
                  <a:ahLst/>
                  <a:rect l="l" t="t" r="r" b="b"/>
                  <a:pathLst>
                    <a:path w="452" h="455">
                      <a:moveTo>
                        <a:pt x="0" y="175"/>
                      </a:moveTo>
                      <a:lnTo>
                        <a:pt x="89" y="0"/>
                      </a:lnTo>
                      <a:lnTo>
                        <a:pt x="124" y="22"/>
                      </a:lnTo>
                      <a:lnTo>
                        <a:pt x="138" y="165"/>
                      </a:lnTo>
                      <a:lnTo>
                        <a:pt x="210" y="180"/>
                      </a:lnTo>
                      <a:lnTo>
                        <a:pt x="403" y="58"/>
                      </a:lnTo>
                      <a:lnTo>
                        <a:pt x="409" y="60"/>
                      </a:lnTo>
                      <a:lnTo>
                        <a:pt x="420" y="67"/>
                      </a:lnTo>
                      <a:lnTo>
                        <a:pt x="435" y="78"/>
                      </a:lnTo>
                      <a:lnTo>
                        <a:pt x="447" y="95"/>
                      </a:lnTo>
                      <a:lnTo>
                        <a:pt x="452" y="115"/>
                      </a:lnTo>
                      <a:lnTo>
                        <a:pt x="442" y="140"/>
                      </a:lnTo>
                      <a:lnTo>
                        <a:pt x="416" y="168"/>
                      </a:lnTo>
                      <a:lnTo>
                        <a:pt x="367" y="201"/>
                      </a:lnTo>
                      <a:lnTo>
                        <a:pt x="274" y="244"/>
                      </a:lnTo>
                      <a:lnTo>
                        <a:pt x="278" y="243"/>
                      </a:lnTo>
                      <a:lnTo>
                        <a:pt x="286" y="240"/>
                      </a:lnTo>
                      <a:lnTo>
                        <a:pt x="298" y="235"/>
                      </a:lnTo>
                      <a:lnTo>
                        <a:pt x="314" y="229"/>
                      </a:lnTo>
                      <a:lnTo>
                        <a:pt x="333" y="224"/>
                      </a:lnTo>
                      <a:lnTo>
                        <a:pt x="352" y="218"/>
                      </a:lnTo>
                      <a:lnTo>
                        <a:pt x="372" y="213"/>
                      </a:lnTo>
                      <a:lnTo>
                        <a:pt x="391" y="210"/>
                      </a:lnTo>
                      <a:lnTo>
                        <a:pt x="408" y="210"/>
                      </a:lnTo>
                      <a:lnTo>
                        <a:pt x="422" y="211"/>
                      </a:lnTo>
                      <a:lnTo>
                        <a:pt x="432" y="217"/>
                      </a:lnTo>
                      <a:lnTo>
                        <a:pt x="438" y="226"/>
                      </a:lnTo>
                      <a:lnTo>
                        <a:pt x="437" y="240"/>
                      </a:lnTo>
                      <a:lnTo>
                        <a:pt x="430" y="259"/>
                      </a:lnTo>
                      <a:lnTo>
                        <a:pt x="414" y="285"/>
                      </a:lnTo>
                      <a:lnTo>
                        <a:pt x="389" y="316"/>
                      </a:lnTo>
                      <a:lnTo>
                        <a:pt x="253" y="351"/>
                      </a:lnTo>
                      <a:lnTo>
                        <a:pt x="259" y="353"/>
                      </a:lnTo>
                      <a:lnTo>
                        <a:pt x="274" y="358"/>
                      </a:lnTo>
                      <a:lnTo>
                        <a:pt x="291" y="366"/>
                      </a:lnTo>
                      <a:lnTo>
                        <a:pt x="306" y="377"/>
                      </a:lnTo>
                      <a:lnTo>
                        <a:pt x="313" y="392"/>
                      </a:lnTo>
                      <a:lnTo>
                        <a:pt x="308" y="409"/>
                      </a:lnTo>
                      <a:lnTo>
                        <a:pt x="282" y="429"/>
                      </a:lnTo>
                      <a:lnTo>
                        <a:pt x="231" y="452"/>
                      </a:lnTo>
                      <a:lnTo>
                        <a:pt x="229" y="452"/>
                      </a:lnTo>
                      <a:lnTo>
                        <a:pt x="221" y="453"/>
                      </a:lnTo>
                      <a:lnTo>
                        <a:pt x="210" y="454"/>
                      </a:lnTo>
                      <a:lnTo>
                        <a:pt x="196" y="455"/>
                      </a:lnTo>
                      <a:lnTo>
                        <a:pt x="177" y="454"/>
                      </a:lnTo>
                      <a:lnTo>
                        <a:pt x="158" y="451"/>
                      </a:lnTo>
                      <a:lnTo>
                        <a:pt x="137" y="445"/>
                      </a:lnTo>
                      <a:lnTo>
                        <a:pt x="116" y="437"/>
                      </a:lnTo>
                      <a:lnTo>
                        <a:pt x="94" y="424"/>
                      </a:lnTo>
                      <a:lnTo>
                        <a:pt x="74" y="407"/>
                      </a:lnTo>
                      <a:lnTo>
                        <a:pt x="54" y="385"/>
                      </a:lnTo>
                      <a:lnTo>
                        <a:pt x="36" y="357"/>
                      </a:lnTo>
                      <a:lnTo>
                        <a:pt x="22" y="323"/>
                      </a:lnTo>
                      <a:lnTo>
                        <a:pt x="10" y="281"/>
                      </a:lnTo>
                      <a:lnTo>
                        <a:pt x="2" y="233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15960" y="2802960"/>
                  <a:ext cx="69840" cy="28800"/>
                </a:xfrm>
                <a:custGeom>
                  <a:avLst/>
                  <a:gdLst/>
                  <a:ahLst/>
                  <a:rect l="l" t="t" r="r" b="b"/>
                  <a:pathLst>
                    <a:path w="272" h="65">
                      <a:moveTo>
                        <a:pt x="0" y="0"/>
                      </a:moveTo>
                      <a:lnTo>
                        <a:pt x="272" y="29"/>
                      </a:lnTo>
                      <a:lnTo>
                        <a:pt x="179" y="65"/>
                      </a:lnTo>
                      <a:lnTo>
                        <a:pt x="14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96160" y="2875680"/>
                  <a:ext cx="40680" cy="43920"/>
                </a:xfrm>
                <a:custGeom>
                  <a:avLst/>
                  <a:gdLst/>
                  <a:ahLst/>
                  <a:rect l="l" t="t" r="r" b="b"/>
                  <a:pathLst>
                    <a:path w="157" h="116">
                      <a:moveTo>
                        <a:pt x="157" y="0"/>
                      </a:moveTo>
                      <a:lnTo>
                        <a:pt x="0" y="80"/>
                      </a:lnTo>
                      <a:lnTo>
                        <a:pt x="35" y="116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85720" y="286884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129" h="50">
                      <a:moveTo>
                        <a:pt x="129" y="0"/>
                      </a:moveTo>
                      <a:lnTo>
                        <a:pt x="0" y="22"/>
                      </a:lnTo>
                      <a:lnTo>
                        <a:pt x="36" y="50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69280" y="2924640"/>
                  <a:ext cx="189720" cy="156240"/>
                </a:xfrm>
                <a:custGeom>
                  <a:avLst/>
                  <a:gdLst/>
                  <a:ahLst/>
                  <a:rect l="l" t="t" r="r" b="b"/>
                  <a:pathLst>
                    <a:path w="737" h="417">
                      <a:moveTo>
                        <a:pt x="58" y="0"/>
                      </a:moveTo>
                      <a:lnTo>
                        <a:pt x="0" y="78"/>
                      </a:lnTo>
                      <a:lnTo>
                        <a:pt x="5" y="81"/>
                      </a:lnTo>
                      <a:lnTo>
                        <a:pt x="15" y="86"/>
                      </a:lnTo>
                      <a:lnTo>
                        <a:pt x="32" y="94"/>
                      </a:lnTo>
                      <a:lnTo>
                        <a:pt x="50" y="105"/>
                      </a:lnTo>
                      <a:lnTo>
                        <a:pt x="70" y="115"/>
                      </a:lnTo>
                      <a:lnTo>
                        <a:pt x="88" y="124"/>
                      </a:lnTo>
                      <a:lnTo>
                        <a:pt x="104" y="131"/>
                      </a:lnTo>
                      <a:lnTo>
                        <a:pt x="116" y="136"/>
                      </a:lnTo>
                      <a:lnTo>
                        <a:pt x="124" y="138"/>
                      </a:lnTo>
                      <a:lnTo>
                        <a:pt x="140" y="140"/>
                      </a:lnTo>
                      <a:lnTo>
                        <a:pt x="163" y="144"/>
                      </a:lnTo>
                      <a:lnTo>
                        <a:pt x="191" y="149"/>
                      </a:lnTo>
                      <a:lnTo>
                        <a:pt x="224" y="154"/>
                      </a:lnTo>
                      <a:lnTo>
                        <a:pt x="260" y="159"/>
                      </a:lnTo>
                      <a:lnTo>
                        <a:pt x="298" y="165"/>
                      </a:lnTo>
                      <a:lnTo>
                        <a:pt x="337" y="170"/>
                      </a:lnTo>
                      <a:lnTo>
                        <a:pt x="375" y="176"/>
                      </a:lnTo>
                      <a:lnTo>
                        <a:pt x="413" y="182"/>
                      </a:lnTo>
                      <a:lnTo>
                        <a:pt x="448" y="187"/>
                      </a:lnTo>
                      <a:lnTo>
                        <a:pt x="479" y="191"/>
                      </a:lnTo>
                      <a:lnTo>
                        <a:pt x="504" y="195"/>
                      </a:lnTo>
                      <a:lnTo>
                        <a:pt x="525" y="198"/>
                      </a:lnTo>
                      <a:lnTo>
                        <a:pt x="538" y="199"/>
                      </a:lnTo>
                      <a:lnTo>
                        <a:pt x="542" y="200"/>
                      </a:lnTo>
                      <a:lnTo>
                        <a:pt x="630" y="417"/>
                      </a:lnTo>
                      <a:lnTo>
                        <a:pt x="737" y="243"/>
                      </a:lnTo>
                      <a:lnTo>
                        <a:pt x="637" y="107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25520" y="3016800"/>
                  <a:ext cx="60480" cy="92160"/>
                </a:xfrm>
                <a:custGeom>
                  <a:avLst/>
                  <a:gdLst/>
                  <a:ahLst/>
                  <a:rect l="l" t="t" r="r" b="b"/>
                  <a:pathLst>
                    <a:path w="237" h="243">
                      <a:moveTo>
                        <a:pt x="0" y="13"/>
                      </a:moveTo>
                      <a:lnTo>
                        <a:pt x="223" y="243"/>
                      </a:lnTo>
                      <a:lnTo>
                        <a:pt x="237" y="171"/>
                      </a:lnTo>
                      <a:lnTo>
                        <a:pt x="4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52360" y="2915640"/>
                  <a:ext cx="29160" cy="42120"/>
                </a:xfrm>
                <a:custGeom>
                  <a:avLst/>
                  <a:gdLst/>
                  <a:ahLst/>
                  <a:rect l="l" t="t" r="r" b="b"/>
                  <a:pathLst>
                    <a:path w="114" h="111">
                      <a:moveTo>
                        <a:pt x="0" y="0"/>
                      </a:moveTo>
                      <a:lnTo>
                        <a:pt x="87" y="111"/>
                      </a:lnTo>
                      <a:lnTo>
                        <a:pt x="114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41360" y="2862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43">
                      <a:moveTo>
                        <a:pt x="0" y="95"/>
                      </a:moveTo>
                      <a:lnTo>
                        <a:pt x="145" y="143"/>
                      </a:lnTo>
                      <a:lnTo>
                        <a:pt x="201" y="0"/>
                      </a:lnTo>
                      <a:lnTo>
                        <a:pt x="116" y="0"/>
                      </a:lnTo>
                      <a:lnTo>
                        <a:pt x="116" y="76"/>
                      </a:lnTo>
                      <a:lnTo>
                        <a:pt x="36" y="1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87800" y="2861280"/>
                  <a:ext cx="71280" cy="50040"/>
                </a:xfrm>
                <a:custGeom>
                  <a:avLst/>
                  <a:gdLst/>
                  <a:ahLst/>
                  <a:rect l="l" t="t" r="r" b="b"/>
                  <a:pathLst>
                    <a:path w="278" h="130">
                      <a:moveTo>
                        <a:pt x="0" y="82"/>
                      </a:moveTo>
                      <a:lnTo>
                        <a:pt x="278" y="130"/>
                      </a:lnTo>
                      <a:lnTo>
                        <a:pt x="267" y="44"/>
                      </a:lnTo>
                      <a:lnTo>
                        <a:pt x="62" y="0"/>
                      </a:lnTo>
                      <a:lnTo>
                        <a:pt x="10" y="5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251080" y="2996640"/>
                  <a:ext cx="86400" cy="130320"/>
                </a:xfrm>
                <a:custGeom>
                  <a:avLst/>
                  <a:gdLst/>
                  <a:ahLst/>
                  <a:rect l="l" t="t" r="r" b="b"/>
                  <a:pathLst>
                    <a:path w="336" h="347">
                      <a:moveTo>
                        <a:pt x="334" y="108"/>
                      </a:moveTo>
                      <a:lnTo>
                        <a:pt x="331" y="125"/>
                      </a:lnTo>
                      <a:lnTo>
                        <a:pt x="325" y="144"/>
                      </a:lnTo>
                      <a:lnTo>
                        <a:pt x="317" y="162"/>
                      </a:lnTo>
                      <a:lnTo>
                        <a:pt x="308" y="181"/>
                      </a:lnTo>
                      <a:lnTo>
                        <a:pt x="297" y="199"/>
                      </a:lnTo>
                      <a:lnTo>
                        <a:pt x="284" y="218"/>
                      </a:lnTo>
                      <a:lnTo>
                        <a:pt x="271" y="236"/>
                      </a:lnTo>
                      <a:lnTo>
                        <a:pt x="255" y="255"/>
                      </a:lnTo>
                      <a:lnTo>
                        <a:pt x="236" y="273"/>
                      </a:lnTo>
                      <a:lnTo>
                        <a:pt x="218" y="289"/>
                      </a:lnTo>
                      <a:lnTo>
                        <a:pt x="198" y="303"/>
                      </a:lnTo>
                      <a:lnTo>
                        <a:pt x="178" y="316"/>
                      </a:lnTo>
                      <a:lnTo>
                        <a:pt x="159" y="327"/>
                      </a:lnTo>
                      <a:lnTo>
                        <a:pt x="139" y="335"/>
                      </a:lnTo>
                      <a:lnTo>
                        <a:pt x="121" y="341"/>
                      </a:lnTo>
                      <a:lnTo>
                        <a:pt x="102" y="346"/>
                      </a:lnTo>
                      <a:lnTo>
                        <a:pt x="91" y="347"/>
                      </a:lnTo>
                      <a:lnTo>
                        <a:pt x="79" y="347"/>
                      </a:lnTo>
                      <a:lnTo>
                        <a:pt x="69" y="347"/>
                      </a:lnTo>
                      <a:lnTo>
                        <a:pt x="59" y="344"/>
                      </a:lnTo>
                      <a:lnTo>
                        <a:pt x="48" y="342"/>
                      </a:lnTo>
                      <a:lnTo>
                        <a:pt x="40" y="339"/>
                      </a:lnTo>
                      <a:lnTo>
                        <a:pt x="31" y="333"/>
                      </a:lnTo>
                      <a:lnTo>
                        <a:pt x="24" y="327"/>
                      </a:lnTo>
                      <a:lnTo>
                        <a:pt x="9" y="307"/>
                      </a:lnTo>
                      <a:lnTo>
                        <a:pt x="1" y="283"/>
                      </a:lnTo>
                      <a:lnTo>
                        <a:pt x="0" y="256"/>
                      </a:lnTo>
                      <a:lnTo>
                        <a:pt x="6" y="225"/>
                      </a:lnTo>
                      <a:lnTo>
                        <a:pt x="16" y="192"/>
                      </a:lnTo>
                      <a:lnTo>
                        <a:pt x="33" y="159"/>
                      </a:lnTo>
                      <a:lnTo>
                        <a:pt x="55" y="124"/>
                      </a:lnTo>
                      <a:lnTo>
                        <a:pt x="83" y="92"/>
                      </a:lnTo>
                      <a:lnTo>
                        <a:pt x="101" y="74"/>
                      </a:lnTo>
                      <a:lnTo>
                        <a:pt x="120" y="58"/>
                      </a:lnTo>
                      <a:lnTo>
                        <a:pt x="139" y="44"/>
                      </a:lnTo>
                      <a:lnTo>
                        <a:pt x="159" y="31"/>
                      </a:lnTo>
                      <a:lnTo>
                        <a:pt x="177" y="21"/>
                      </a:lnTo>
                      <a:lnTo>
                        <a:pt x="197" y="13"/>
                      </a:lnTo>
                      <a:lnTo>
                        <a:pt x="215" y="6"/>
                      </a:lnTo>
                      <a:lnTo>
                        <a:pt x="234" y="1"/>
                      </a:lnTo>
                      <a:lnTo>
                        <a:pt x="245" y="0"/>
                      </a:lnTo>
                      <a:lnTo>
                        <a:pt x="257" y="0"/>
                      </a:lnTo>
                      <a:lnTo>
                        <a:pt x="268" y="0"/>
                      </a:lnTo>
                      <a:lnTo>
                        <a:pt x="279" y="1"/>
                      </a:lnTo>
                      <a:lnTo>
                        <a:pt x="288" y="5"/>
                      </a:lnTo>
                      <a:lnTo>
                        <a:pt x="297" y="8"/>
                      </a:lnTo>
                      <a:lnTo>
                        <a:pt x="305" y="14"/>
                      </a:lnTo>
                      <a:lnTo>
                        <a:pt x="313" y="20"/>
                      </a:lnTo>
                      <a:lnTo>
                        <a:pt x="326" y="37"/>
                      </a:lnTo>
                      <a:lnTo>
                        <a:pt x="334" y="58"/>
                      </a:lnTo>
                      <a:lnTo>
                        <a:pt x="336" y="82"/>
                      </a:lnTo>
                      <a:lnTo>
                        <a:pt x="334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65840" y="3022920"/>
                  <a:ext cx="55440" cy="83160"/>
                </a:xfrm>
                <a:custGeom>
                  <a:avLst/>
                  <a:gdLst/>
                  <a:ahLst/>
                  <a:rect l="l" t="t" r="r" b="b"/>
                  <a:pathLst>
                    <a:path w="216" h="223">
                      <a:moveTo>
                        <a:pt x="163" y="163"/>
                      </a:moveTo>
                      <a:lnTo>
                        <a:pt x="143" y="182"/>
                      </a:lnTo>
                      <a:lnTo>
                        <a:pt x="123" y="197"/>
                      </a:lnTo>
                      <a:lnTo>
                        <a:pt x="102" y="210"/>
                      </a:lnTo>
                      <a:lnTo>
                        <a:pt x="81" y="218"/>
                      </a:lnTo>
                      <a:lnTo>
                        <a:pt x="61" y="223"/>
                      </a:lnTo>
                      <a:lnTo>
                        <a:pt x="44" y="223"/>
                      </a:lnTo>
                      <a:lnTo>
                        <a:pt x="28" y="218"/>
                      </a:lnTo>
                      <a:lnTo>
                        <a:pt x="15" y="210"/>
                      </a:lnTo>
                      <a:lnTo>
                        <a:pt x="6" y="197"/>
                      </a:lnTo>
                      <a:lnTo>
                        <a:pt x="2" y="182"/>
                      </a:lnTo>
                      <a:lnTo>
                        <a:pt x="0" y="164"/>
                      </a:lnTo>
                      <a:lnTo>
                        <a:pt x="4" y="144"/>
                      </a:lnTo>
                      <a:lnTo>
                        <a:pt x="11" y="123"/>
                      </a:lnTo>
                      <a:lnTo>
                        <a:pt x="21" y="102"/>
                      </a:lnTo>
                      <a:lnTo>
                        <a:pt x="36" y="80"/>
                      </a:lnTo>
                      <a:lnTo>
                        <a:pt x="53" y="59"/>
                      </a:lnTo>
                      <a:lnTo>
                        <a:pt x="73" y="41"/>
                      </a:lnTo>
                      <a:lnTo>
                        <a:pt x="94" y="24"/>
                      </a:lnTo>
                      <a:lnTo>
                        <a:pt x="114" y="13"/>
                      </a:lnTo>
                      <a:lnTo>
                        <a:pt x="134" y="5"/>
                      </a:lnTo>
                      <a:lnTo>
                        <a:pt x="154" y="0"/>
                      </a:lnTo>
                      <a:lnTo>
                        <a:pt x="172" y="0"/>
                      </a:lnTo>
                      <a:lnTo>
                        <a:pt x="188" y="5"/>
                      </a:lnTo>
                      <a:lnTo>
                        <a:pt x="201" y="13"/>
                      </a:lnTo>
                      <a:lnTo>
                        <a:pt x="210" y="26"/>
                      </a:lnTo>
                      <a:lnTo>
                        <a:pt x="215" y="41"/>
                      </a:lnTo>
                      <a:lnTo>
                        <a:pt x="216" y="59"/>
                      </a:lnTo>
                      <a:lnTo>
                        <a:pt x="212" y="79"/>
                      </a:lnTo>
                      <a:lnTo>
                        <a:pt x="205" y="99"/>
                      </a:lnTo>
                      <a:lnTo>
                        <a:pt x="195" y="120"/>
                      </a:lnTo>
                      <a:lnTo>
                        <a:pt x="180" y="142"/>
                      </a:lnTo>
                      <a:lnTo>
                        <a:pt x="163" y="1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221560" y="2712600"/>
                <a:ext cx="190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21161400">
              <a:off x="1551960" y="2207160"/>
              <a:ext cx="227880" cy="2196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e heisst er?  (Mark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0200" y="2209680"/>
            <a:ext cx="730080" cy="992160"/>
            <a:chOff x="1600200" y="2209680"/>
            <a:chExt cx="730080" cy="992160"/>
          </a:xfrm>
        </p:grpSpPr>
        <p:grpSp>
          <p:nvGrpSpPr>
            <p:cNvPr id="207" name=""/>
            <p:cNvGrpSpPr/>
            <p:nvPr/>
          </p:nvGrpSpPr>
          <p:grpSpPr>
            <a:xfrm>
              <a:off x="1600200" y="2209680"/>
              <a:ext cx="730080" cy="992160"/>
              <a:chOff x="1600200" y="2209680"/>
              <a:chExt cx="730080" cy="992160"/>
            </a:xfrm>
          </p:grpSpPr>
          <p:sp>
            <p:nvSpPr>
              <p:cNvPr id="208" name=""/>
              <p:cNvSpPr/>
              <p:nvPr/>
            </p:nvSpPr>
            <p:spPr>
              <a:xfrm>
                <a:off x="1851840" y="2209680"/>
                <a:ext cx="262440" cy="22932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98560" y="2448720"/>
                <a:ext cx="210240" cy="39240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11360" y="2464920"/>
                <a:ext cx="239400" cy="35064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080" y="2808720"/>
                <a:ext cx="159480" cy="38016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0200" y="2782800"/>
                <a:ext cx="234720" cy="41904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25880" y="2451240"/>
                <a:ext cx="104400" cy="70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60800" y="2521800"/>
                <a:ext cx="69480" cy="3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56480" y="2517840"/>
                <a:ext cx="73800" cy="4068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7920" y="251712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99960" y="2517840"/>
                <a:ext cx="34560" cy="576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965240" y="2446200"/>
              <a:ext cx="320760" cy="22320"/>
            </a:xfrm>
            <a:custGeom>
              <a:avLst/>
              <a:gdLst/>
              <a:ahLst/>
              <a:rect l="l" t="t" r="r" b="b"/>
              <a:pathLst>
                <a:path w="202" h="14">
                  <a:moveTo>
                    <a:pt x="0" y="14"/>
                  </a:moveTo>
                  <a:cubicBezTo>
                    <a:pt x="193" y="0"/>
                    <a:pt x="125" y="0"/>
                    <a:pt x="202" y="0"/>
                  </a:cubicBez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00200" y="2133720"/>
            <a:ext cx="913320" cy="1218240"/>
            <a:chOff x="1600200" y="2133720"/>
            <a:chExt cx="913320" cy="1218240"/>
          </a:xfrm>
        </p:grpSpPr>
        <p:sp>
          <p:nvSpPr>
            <p:cNvPr id="222" name=""/>
            <p:cNvSpPr/>
            <p:nvPr/>
          </p:nvSpPr>
          <p:spPr>
            <a:xfrm>
              <a:off x="1792080" y="2133720"/>
              <a:ext cx="201600" cy="24120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3920" y="2386440"/>
              <a:ext cx="163440" cy="41400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9920" y="2405520"/>
              <a:ext cx="181800" cy="36792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7400" y="2765880"/>
              <a:ext cx="125280" cy="40176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0200" y="2738880"/>
              <a:ext cx="181800" cy="44460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85120" y="2260440"/>
              <a:ext cx="182880" cy="25272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1280" y="2524320"/>
              <a:ext cx="144720" cy="42876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27080" y="2540160"/>
              <a:ext cx="158040" cy="3862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5120" y="2918520"/>
              <a:ext cx="105480" cy="41760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17360" y="2891880"/>
              <a:ext cx="158040" cy="46008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0200" y="2505240"/>
              <a:ext cx="147960" cy="53640"/>
            </a:xfrm>
            <a:custGeom>
              <a:avLst/>
              <a:gdLst/>
              <a:ahLst/>
              <a:rect l="l" t="t" r="r" b="b"/>
              <a:pathLst>
                <a:path w="201" h="63">
                  <a:moveTo>
                    <a:pt x="201" y="26"/>
                  </a:moveTo>
                  <a:cubicBezTo>
                    <a:pt x="140" y="32"/>
                    <a:pt x="60" y="0"/>
                    <a:pt x="18" y="44"/>
                  </a:cubicBezTo>
                  <a:cubicBezTo>
                    <a:pt x="12" y="50"/>
                    <a:pt x="0" y="63"/>
                    <a:pt x="0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59800" y="2532240"/>
              <a:ext cx="153720" cy="1526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6" y="0"/>
                  </a:moveTo>
                  <a:cubicBezTo>
                    <a:pt x="20" y="5"/>
                    <a:pt x="14" y="2"/>
                    <a:pt x="24" y="8"/>
                  </a:cubicBezTo>
                  <a:cubicBezTo>
                    <a:pt x="28" y="13"/>
                    <a:pt x="32" y="26"/>
                    <a:pt x="32" y="26"/>
                  </a:cubicBezTo>
                  <a:cubicBezTo>
                    <a:pt x="25" y="37"/>
                    <a:pt x="19" y="34"/>
                    <a:pt x="6" y="38"/>
                  </a:cubicBezTo>
                  <a:cubicBezTo>
                    <a:pt x="4" y="39"/>
                    <a:pt x="0" y="40"/>
                    <a:pt x="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2360" y="2662560"/>
              <a:ext cx="81720" cy="99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"/>
                  </a:moveTo>
                  <a:cubicBezTo>
                    <a:pt x="2" y="7"/>
                    <a:pt x="0" y="13"/>
                    <a:pt x="3" y="16"/>
                  </a:cubicBezTo>
                  <a:cubicBezTo>
                    <a:pt x="13" y="26"/>
                    <a:pt x="17" y="2"/>
                    <a:pt x="17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7080" y="2417400"/>
              <a:ext cx="163440" cy="160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cubicBezTo>
                    <a:pt x="4" y="1"/>
                    <a:pt x="8" y="2"/>
                    <a:pt x="12" y="4"/>
                  </a:cubicBezTo>
                  <a:cubicBezTo>
                    <a:pt x="16" y="7"/>
                    <a:pt x="24" y="12"/>
                    <a:pt x="24" y="12"/>
                  </a:cubicBezTo>
                  <a:cubicBezTo>
                    <a:pt x="33" y="26"/>
                    <a:pt x="30" y="19"/>
                    <a:pt x="34" y="30"/>
                  </a:cubicBezTo>
                  <a:cubicBezTo>
                    <a:pt x="32" y="35"/>
                    <a:pt x="33" y="38"/>
                    <a:pt x="26" y="40"/>
                  </a:cubicBezTo>
                  <a:cubicBezTo>
                    <a:pt x="19" y="42"/>
                    <a:pt x="6" y="42"/>
                    <a:pt x="6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00200" y="2088720"/>
            <a:ext cx="1065960" cy="1091880"/>
            <a:chOff x="1600200" y="2088720"/>
            <a:chExt cx="1065960" cy="1091880"/>
          </a:xfrm>
        </p:grpSpPr>
        <p:grpSp>
          <p:nvGrpSpPr>
            <p:cNvPr id="239" name=""/>
            <p:cNvGrpSpPr/>
            <p:nvPr/>
          </p:nvGrpSpPr>
          <p:grpSpPr>
            <a:xfrm>
              <a:off x="1600200" y="2088720"/>
              <a:ext cx="559800" cy="1015920"/>
              <a:chOff x="1600200" y="2088720"/>
              <a:chExt cx="559800" cy="1015920"/>
            </a:xfrm>
          </p:grpSpPr>
          <p:sp>
            <p:nvSpPr>
              <p:cNvPr id="240" name=""/>
              <p:cNvSpPr/>
              <p:nvPr/>
            </p:nvSpPr>
            <p:spPr>
              <a:xfrm rot="448200">
                <a:off x="1686600" y="2100240"/>
                <a:ext cx="194400" cy="241920"/>
              </a:xfrm>
              <a:custGeom>
                <a:avLst/>
                <a:gdLst/>
                <a:ahLst/>
                <a:rect l="l" t="t" r="r" b="b"/>
                <a:pathLst>
                  <a:path w="599" h="736">
                    <a:moveTo>
                      <a:pt x="396" y="184"/>
                    </a:moveTo>
                    <a:lnTo>
                      <a:pt x="350" y="106"/>
                    </a:lnTo>
                    <a:lnTo>
                      <a:pt x="264" y="57"/>
                    </a:lnTo>
                    <a:lnTo>
                      <a:pt x="178" y="49"/>
                    </a:lnTo>
                    <a:lnTo>
                      <a:pt x="92" y="78"/>
                    </a:lnTo>
                    <a:lnTo>
                      <a:pt x="30" y="156"/>
                    </a:lnTo>
                    <a:lnTo>
                      <a:pt x="0" y="290"/>
                    </a:lnTo>
                    <a:lnTo>
                      <a:pt x="23" y="453"/>
                    </a:lnTo>
                    <a:lnTo>
                      <a:pt x="78" y="594"/>
                    </a:lnTo>
                    <a:lnTo>
                      <a:pt x="147" y="672"/>
                    </a:lnTo>
                    <a:lnTo>
                      <a:pt x="241" y="722"/>
                    </a:lnTo>
                    <a:lnTo>
                      <a:pt x="327" y="736"/>
                    </a:lnTo>
                    <a:lnTo>
                      <a:pt x="436" y="700"/>
                    </a:lnTo>
                    <a:lnTo>
                      <a:pt x="474" y="637"/>
                    </a:lnTo>
                    <a:lnTo>
                      <a:pt x="497" y="524"/>
                    </a:lnTo>
                    <a:lnTo>
                      <a:pt x="490" y="375"/>
                    </a:lnTo>
                    <a:lnTo>
                      <a:pt x="450" y="241"/>
                    </a:lnTo>
                    <a:lnTo>
                      <a:pt x="599" y="64"/>
                    </a:lnTo>
                    <a:lnTo>
                      <a:pt x="599" y="28"/>
                    </a:lnTo>
                    <a:lnTo>
                      <a:pt x="568" y="0"/>
                    </a:lnTo>
                    <a:lnTo>
                      <a:pt x="536" y="14"/>
                    </a:lnTo>
                    <a:lnTo>
                      <a:pt x="39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3711600">
                <a:off x="1867680" y="2377080"/>
                <a:ext cx="284400" cy="1875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00200" y="2378880"/>
                <a:ext cx="150480" cy="3776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55000" y="2348640"/>
                <a:ext cx="156960" cy="3369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45720" y="2618280"/>
                <a:ext cx="205200" cy="432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9960" y="2642040"/>
                <a:ext cx="172440" cy="4626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935720" y="2649960"/>
              <a:ext cx="730440" cy="530640"/>
              <a:chOff x="1935720" y="2649960"/>
              <a:chExt cx="730440" cy="5306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179800" y="2649960"/>
                <a:ext cx="246600" cy="439920"/>
                <a:chOff x="2179800" y="2649960"/>
                <a:chExt cx="246600" cy="4399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179800" y="2649960"/>
                  <a:ext cx="246600" cy="439920"/>
                  <a:chOff x="2179800" y="2649960"/>
                  <a:chExt cx="246600" cy="4399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2370240" y="2865600"/>
                    <a:ext cx="16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9">
                        <a:moveTo>
                          <a:pt x="139" y="16"/>
                        </a:moveTo>
                        <a:lnTo>
                          <a:pt x="0" y="89"/>
                        </a:lnTo>
                        <a:lnTo>
                          <a:pt x="12" y="0"/>
                        </a:lnTo>
                        <a:lnTo>
                          <a:pt x="139" y="16"/>
                        </a:lnTo>
                        <a:close/>
                      </a:path>
                    </a:pathLst>
                  </a:custGeom>
                  <a:solidFill>
                    <a:srgbClr val="75b5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179800" y="2905200"/>
                    <a:ext cx="536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280">
                        <a:moveTo>
                          <a:pt x="426" y="90"/>
                        </a:moveTo>
                        <a:lnTo>
                          <a:pt x="428" y="89"/>
                        </a:lnTo>
                        <a:lnTo>
                          <a:pt x="429" y="86"/>
                        </a:lnTo>
                        <a:lnTo>
                          <a:pt x="431" y="80"/>
                        </a:lnTo>
                        <a:lnTo>
                          <a:pt x="432" y="73"/>
                        </a:lnTo>
                        <a:lnTo>
                          <a:pt x="434" y="64"/>
                        </a:lnTo>
                        <a:lnTo>
                          <a:pt x="434" y="55"/>
                        </a:lnTo>
                        <a:lnTo>
                          <a:pt x="432" y="45"/>
                        </a:lnTo>
                        <a:lnTo>
                          <a:pt x="429" y="36"/>
                        </a:lnTo>
                        <a:lnTo>
                          <a:pt x="422" y="27"/>
                        </a:lnTo>
                        <a:lnTo>
                          <a:pt x="411" y="18"/>
                        </a:lnTo>
                        <a:lnTo>
                          <a:pt x="398" y="11"/>
                        </a:lnTo>
                        <a:lnTo>
                          <a:pt x="379" y="5"/>
                        </a:lnTo>
                        <a:lnTo>
                          <a:pt x="355" y="2"/>
                        </a:lnTo>
                        <a:lnTo>
                          <a:pt x="326" y="0"/>
                        </a:lnTo>
                        <a:lnTo>
                          <a:pt x="290" y="2"/>
                        </a:lnTo>
                        <a:lnTo>
                          <a:pt x="249" y="6"/>
                        </a:lnTo>
                        <a:lnTo>
                          <a:pt x="244" y="8"/>
                        </a:lnTo>
                        <a:lnTo>
                          <a:pt x="232" y="13"/>
                        </a:lnTo>
                        <a:lnTo>
                          <a:pt x="212" y="22"/>
                        </a:lnTo>
                        <a:lnTo>
                          <a:pt x="188" y="34"/>
                        </a:lnTo>
                        <a:lnTo>
                          <a:pt x="160" y="48"/>
                        </a:lnTo>
                        <a:lnTo>
                          <a:pt x="130" y="64"/>
                        </a:lnTo>
                        <a:lnTo>
                          <a:pt x="100" y="82"/>
                        </a:lnTo>
                        <a:lnTo>
                          <a:pt x="71" y="102"/>
                        </a:lnTo>
                        <a:lnTo>
                          <a:pt x="46" y="123"/>
                        </a:lnTo>
                        <a:lnTo>
                          <a:pt x="24" y="144"/>
                        </a:lnTo>
                        <a:lnTo>
                          <a:pt x="9" y="166"/>
                        </a:lnTo>
                        <a:lnTo>
                          <a:pt x="0" y="189"/>
                        </a:lnTo>
                        <a:lnTo>
                          <a:pt x="1" y="212"/>
                        </a:lnTo>
                        <a:lnTo>
                          <a:pt x="13" y="234"/>
                        </a:lnTo>
                        <a:lnTo>
                          <a:pt x="37" y="255"/>
                        </a:lnTo>
                        <a:lnTo>
                          <a:pt x="74" y="276"/>
                        </a:lnTo>
                        <a:lnTo>
                          <a:pt x="77" y="276"/>
                        </a:lnTo>
                        <a:lnTo>
                          <a:pt x="86" y="278"/>
                        </a:lnTo>
                        <a:lnTo>
                          <a:pt x="100" y="279"/>
                        </a:lnTo>
                        <a:lnTo>
                          <a:pt x="119" y="280"/>
                        </a:lnTo>
                        <a:lnTo>
                          <a:pt x="141" y="280"/>
                        </a:lnTo>
                        <a:lnTo>
                          <a:pt x="166" y="280"/>
                        </a:lnTo>
                        <a:lnTo>
                          <a:pt x="194" y="277"/>
                        </a:lnTo>
                        <a:lnTo>
                          <a:pt x="222" y="272"/>
                        </a:lnTo>
                        <a:lnTo>
                          <a:pt x="252" y="264"/>
                        </a:lnTo>
                        <a:lnTo>
                          <a:pt x="282" y="254"/>
                        </a:lnTo>
                        <a:lnTo>
                          <a:pt x="312" y="239"/>
                        </a:lnTo>
                        <a:lnTo>
                          <a:pt x="340" y="219"/>
                        </a:lnTo>
                        <a:lnTo>
                          <a:pt x="366" y="196"/>
                        </a:lnTo>
                        <a:lnTo>
                          <a:pt x="390" y="166"/>
                        </a:lnTo>
                        <a:lnTo>
                          <a:pt x="410" y="132"/>
                        </a:lnTo>
                        <a:lnTo>
                          <a:pt x="426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189160" y="2921760"/>
                    <a:ext cx="34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80">
                        <a:moveTo>
                          <a:pt x="274" y="58"/>
                        </a:moveTo>
                        <a:lnTo>
                          <a:pt x="275" y="54"/>
                        </a:lnTo>
                        <a:lnTo>
                          <a:pt x="278" y="46"/>
                        </a:lnTo>
                        <a:lnTo>
                          <a:pt x="278" y="34"/>
                        </a:lnTo>
                        <a:lnTo>
                          <a:pt x="275" y="23"/>
                        </a:lnTo>
                        <a:lnTo>
                          <a:pt x="264" y="11"/>
                        </a:lnTo>
                        <a:lnTo>
                          <a:pt x="242" y="3"/>
                        </a:lnTo>
                        <a:lnTo>
                          <a:pt x="209" y="0"/>
                        </a:lnTo>
                        <a:lnTo>
                          <a:pt x="159" y="3"/>
                        </a:lnTo>
                        <a:lnTo>
                          <a:pt x="156" y="5"/>
                        </a:lnTo>
                        <a:lnTo>
                          <a:pt x="148" y="8"/>
                        </a:lnTo>
                        <a:lnTo>
                          <a:pt x="136" y="14"/>
                        </a:lnTo>
                        <a:lnTo>
                          <a:pt x="120" y="21"/>
                        </a:lnTo>
                        <a:lnTo>
                          <a:pt x="103" y="30"/>
                        </a:lnTo>
                        <a:lnTo>
                          <a:pt x="83" y="40"/>
                        </a:lnTo>
                        <a:lnTo>
                          <a:pt x="65" y="52"/>
                        </a:lnTo>
                        <a:lnTo>
                          <a:pt x="47" y="64"/>
                        </a:lnTo>
                        <a:lnTo>
                          <a:pt x="29" y="78"/>
                        </a:lnTo>
                        <a:lnTo>
                          <a:pt x="15" y="92"/>
                        </a:lnTo>
                        <a:lnTo>
                          <a:pt x="6" y="107"/>
                        </a:lnTo>
                        <a:lnTo>
                          <a:pt x="0" y="121"/>
                        </a:lnTo>
                        <a:lnTo>
                          <a:pt x="2" y="136"/>
                        </a:lnTo>
                        <a:lnTo>
                          <a:pt x="8" y="150"/>
                        </a:lnTo>
                        <a:lnTo>
                          <a:pt x="23" y="164"/>
                        </a:lnTo>
                        <a:lnTo>
                          <a:pt x="48" y="176"/>
                        </a:lnTo>
                        <a:lnTo>
                          <a:pt x="50" y="176"/>
                        </a:lnTo>
                        <a:lnTo>
                          <a:pt x="56" y="177"/>
                        </a:lnTo>
                        <a:lnTo>
                          <a:pt x="65" y="178"/>
                        </a:lnTo>
                        <a:lnTo>
                          <a:pt x="76" y="180"/>
                        </a:lnTo>
                        <a:lnTo>
                          <a:pt x="90" y="180"/>
                        </a:lnTo>
                        <a:lnTo>
                          <a:pt x="106" y="178"/>
                        </a:lnTo>
                        <a:lnTo>
                          <a:pt x="124" y="177"/>
                        </a:lnTo>
                        <a:lnTo>
                          <a:pt x="143" y="174"/>
                        </a:lnTo>
                        <a:lnTo>
                          <a:pt x="162" y="169"/>
                        </a:lnTo>
                        <a:lnTo>
                          <a:pt x="181" y="162"/>
                        </a:lnTo>
                        <a:lnTo>
                          <a:pt x="200" y="153"/>
                        </a:lnTo>
                        <a:lnTo>
                          <a:pt x="218" y="140"/>
                        </a:lnTo>
                        <a:lnTo>
                          <a:pt x="236" y="125"/>
                        </a:lnTo>
                        <a:lnTo>
                          <a:pt x="250" y="107"/>
                        </a:lnTo>
                        <a:lnTo>
                          <a:pt x="263" y="84"/>
                        </a:lnTo>
                        <a:lnTo>
                          <a:pt x="274" y="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185920" y="2790720"/>
                    <a:ext cx="730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371">
                        <a:moveTo>
                          <a:pt x="594" y="223"/>
                        </a:moveTo>
                        <a:lnTo>
                          <a:pt x="528" y="371"/>
                        </a:lnTo>
                        <a:lnTo>
                          <a:pt x="209" y="284"/>
                        </a:lnTo>
                        <a:lnTo>
                          <a:pt x="207" y="286"/>
                        </a:lnTo>
                        <a:lnTo>
                          <a:pt x="201" y="289"/>
                        </a:lnTo>
                        <a:lnTo>
                          <a:pt x="193" y="292"/>
                        </a:lnTo>
                        <a:lnTo>
                          <a:pt x="180" y="297"/>
                        </a:lnTo>
                        <a:lnTo>
                          <a:pt x="166" y="303"/>
                        </a:lnTo>
                        <a:lnTo>
                          <a:pt x="151" y="306"/>
                        </a:lnTo>
                        <a:lnTo>
                          <a:pt x="134" y="309"/>
                        </a:lnTo>
                        <a:lnTo>
                          <a:pt x="116" y="309"/>
                        </a:lnTo>
                        <a:lnTo>
                          <a:pt x="97" y="306"/>
                        </a:lnTo>
                        <a:lnTo>
                          <a:pt x="80" y="300"/>
                        </a:lnTo>
                        <a:lnTo>
                          <a:pt x="63" y="291"/>
                        </a:lnTo>
                        <a:lnTo>
                          <a:pt x="45" y="276"/>
                        </a:lnTo>
                        <a:lnTo>
                          <a:pt x="30" y="257"/>
                        </a:lnTo>
                        <a:lnTo>
                          <a:pt x="18" y="230"/>
                        </a:lnTo>
                        <a:lnTo>
                          <a:pt x="7" y="198"/>
                        </a:lnTo>
                        <a:lnTo>
                          <a:pt x="0" y="158"/>
                        </a:lnTo>
                        <a:lnTo>
                          <a:pt x="0" y="151"/>
                        </a:lnTo>
                        <a:lnTo>
                          <a:pt x="3" y="131"/>
                        </a:lnTo>
                        <a:lnTo>
                          <a:pt x="7" y="104"/>
                        </a:lnTo>
                        <a:lnTo>
                          <a:pt x="15" y="74"/>
                        </a:lnTo>
                        <a:lnTo>
                          <a:pt x="26" y="44"/>
                        </a:lnTo>
                        <a:lnTo>
                          <a:pt x="42" y="18"/>
                        </a:lnTo>
                        <a:lnTo>
                          <a:pt x="63" y="2"/>
                        </a:lnTo>
                        <a:lnTo>
                          <a:pt x="89" y="0"/>
                        </a:lnTo>
                        <a:lnTo>
                          <a:pt x="98" y="2"/>
                        </a:lnTo>
                        <a:lnTo>
                          <a:pt x="107" y="6"/>
                        </a:lnTo>
                        <a:lnTo>
                          <a:pt x="118" y="11"/>
                        </a:lnTo>
                        <a:lnTo>
                          <a:pt x="128" y="18"/>
                        </a:lnTo>
                        <a:lnTo>
                          <a:pt x="140" y="26"/>
                        </a:lnTo>
                        <a:lnTo>
                          <a:pt x="151" y="38"/>
                        </a:lnTo>
                        <a:lnTo>
                          <a:pt x="164" y="51"/>
                        </a:lnTo>
                        <a:lnTo>
                          <a:pt x="177" y="65"/>
                        </a:lnTo>
                        <a:lnTo>
                          <a:pt x="179" y="65"/>
                        </a:lnTo>
                        <a:lnTo>
                          <a:pt x="186" y="67"/>
                        </a:lnTo>
                        <a:lnTo>
                          <a:pt x="196" y="67"/>
                        </a:lnTo>
                        <a:lnTo>
                          <a:pt x="209" y="69"/>
                        </a:lnTo>
                        <a:lnTo>
                          <a:pt x="224" y="71"/>
                        </a:lnTo>
                        <a:lnTo>
                          <a:pt x="240" y="74"/>
                        </a:lnTo>
                        <a:lnTo>
                          <a:pt x="257" y="78"/>
                        </a:lnTo>
                        <a:lnTo>
                          <a:pt x="273" y="83"/>
                        </a:lnTo>
                        <a:lnTo>
                          <a:pt x="290" y="90"/>
                        </a:lnTo>
                        <a:lnTo>
                          <a:pt x="303" y="98"/>
                        </a:lnTo>
                        <a:lnTo>
                          <a:pt x="314" y="107"/>
                        </a:lnTo>
                        <a:lnTo>
                          <a:pt x="322" y="117"/>
                        </a:lnTo>
                        <a:lnTo>
                          <a:pt x="326" y="130"/>
                        </a:lnTo>
                        <a:lnTo>
                          <a:pt x="325" y="145"/>
                        </a:lnTo>
                        <a:lnTo>
                          <a:pt x="318" y="161"/>
                        </a:lnTo>
                        <a:lnTo>
                          <a:pt x="306" y="180"/>
                        </a:lnTo>
                        <a:lnTo>
                          <a:pt x="594" y="2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82760" y="2789640"/>
                    <a:ext cx="10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44960" y="2724840"/>
                    <a:ext cx="10908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641">
                        <a:moveTo>
                          <a:pt x="137" y="435"/>
                        </a:moveTo>
                        <a:lnTo>
                          <a:pt x="91" y="371"/>
                        </a:lnTo>
                        <a:lnTo>
                          <a:pt x="54" y="315"/>
                        </a:lnTo>
                        <a:lnTo>
                          <a:pt x="28" y="265"/>
                        </a:lnTo>
                        <a:lnTo>
                          <a:pt x="9" y="222"/>
                        </a:lnTo>
                        <a:lnTo>
                          <a:pt x="0" y="182"/>
                        </a:lnTo>
                        <a:lnTo>
                          <a:pt x="0" y="150"/>
                        </a:lnTo>
                        <a:lnTo>
                          <a:pt x="8" y="121"/>
                        </a:lnTo>
                        <a:lnTo>
                          <a:pt x="24" y="97"/>
                        </a:lnTo>
                        <a:lnTo>
                          <a:pt x="47" y="76"/>
                        </a:lnTo>
                        <a:lnTo>
                          <a:pt x="78" y="59"/>
                        </a:lnTo>
                        <a:lnTo>
                          <a:pt x="115" y="45"/>
                        </a:lnTo>
                        <a:lnTo>
                          <a:pt x="160" y="33"/>
                        </a:lnTo>
                        <a:lnTo>
                          <a:pt x="211" y="23"/>
                        </a:lnTo>
                        <a:lnTo>
                          <a:pt x="267" y="14"/>
                        </a:lnTo>
                        <a:lnTo>
                          <a:pt x="329" y="7"/>
                        </a:lnTo>
                        <a:lnTo>
                          <a:pt x="397" y="0"/>
                        </a:lnTo>
                        <a:lnTo>
                          <a:pt x="399" y="2"/>
                        </a:lnTo>
                        <a:lnTo>
                          <a:pt x="406" y="4"/>
                        </a:lnTo>
                        <a:lnTo>
                          <a:pt x="416" y="7"/>
                        </a:lnTo>
                        <a:lnTo>
                          <a:pt x="431" y="13"/>
                        </a:lnTo>
                        <a:lnTo>
                          <a:pt x="450" y="21"/>
                        </a:lnTo>
                        <a:lnTo>
                          <a:pt x="470" y="29"/>
                        </a:lnTo>
                        <a:lnTo>
                          <a:pt x="493" y="40"/>
                        </a:lnTo>
                        <a:lnTo>
                          <a:pt x="519" y="51"/>
                        </a:lnTo>
                        <a:lnTo>
                          <a:pt x="545" y="64"/>
                        </a:lnTo>
                        <a:lnTo>
                          <a:pt x="574" y="78"/>
                        </a:lnTo>
                        <a:lnTo>
                          <a:pt x="603" y="94"/>
                        </a:lnTo>
                        <a:lnTo>
                          <a:pt x="633" y="110"/>
                        </a:lnTo>
                        <a:lnTo>
                          <a:pt x="662" y="127"/>
                        </a:lnTo>
                        <a:lnTo>
                          <a:pt x="692" y="147"/>
                        </a:lnTo>
                        <a:lnTo>
                          <a:pt x="720" y="166"/>
                        </a:lnTo>
                        <a:lnTo>
                          <a:pt x="748" y="188"/>
                        </a:lnTo>
                        <a:lnTo>
                          <a:pt x="775" y="210"/>
                        </a:lnTo>
                        <a:lnTo>
                          <a:pt x="799" y="233"/>
                        </a:lnTo>
                        <a:lnTo>
                          <a:pt x="821" y="257"/>
                        </a:lnTo>
                        <a:lnTo>
                          <a:pt x="840" y="283"/>
                        </a:lnTo>
                        <a:lnTo>
                          <a:pt x="856" y="309"/>
                        </a:lnTo>
                        <a:lnTo>
                          <a:pt x="869" y="336"/>
                        </a:lnTo>
                        <a:lnTo>
                          <a:pt x="878" y="363"/>
                        </a:lnTo>
                        <a:lnTo>
                          <a:pt x="883" y="392"/>
                        </a:lnTo>
                        <a:lnTo>
                          <a:pt x="883" y="421"/>
                        </a:lnTo>
                        <a:lnTo>
                          <a:pt x="878" y="451"/>
                        </a:lnTo>
                        <a:lnTo>
                          <a:pt x="867" y="481"/>
                        </a:lnTo>
                        <a:lnTo>
                          <a:pt x="851" y="512"/>
                        </a:lnTo>
                        <a:lnTo>
                          <a:pt x="829" y="543"/>
                        </a:lnTo>
                        <a:lnTo>
                          <a:pt x="799" y="575"/>
                        </a:lnTo>
                        <a:lnTo>
                          <a:pt x="763" y="608"/>
                        </a:lnTo>
                        <a:lnTo>
                          <a:pt x="719" y="641"/>
                        </a:lnTo>
                        <a:lnTo>
                          <a:pt x="715" y="641"/>
                        </a:lnTo>
                        <a:lnTo>
                          <a:pt x="703" y="639"/>
                        </a:lnTo>
                        <a:lnTo>
                          <a:pt x="685" y="635"/>
                        </a:lnTo>
                        <a:lnTo>
                          <a:pt x="660" y="632"/>
                        </a:lnTo>
                        <a:lnTo>
                          <a:pt x="629" y="626"/>
                        </a:lnTo>
                        <a:lnTo>
                          <a:pt x="595" y="618"/>
                        </a:lnTo>
                        <a:lnTo>
                          <a:pt x="556" y="609"/>
                        </a:lnTo>
                        <a:lnTo>
                          <a:pt x="513" y="598"/>
                        </a:lnTo>
                        <a:lnTo>
                          <a:pt x="468" y="586"/>
                        </a:lnTo>
                        <a:lnTo>
                          <a:pt x="421" y="571"/>
                        </a:lnTo>
                        <a:lnTo>
                          <a:pt x="372" y="555"/>
                        </a:lnTo>
                        <a:lnTo>
                          <a:pt x="324" y="535"/>
                        </a:lnTo>
                        <a:lnTo>
                          <a:pt x="274" y="514"/>
                        </a:lnTo>
                        <a:lnTo>
                          <a:pt x="227" y="490"/>
                        </a:lnTo>
                        <a:lnTo>
                          <a:pt x="181" y="464"/>
                        </a:lnTo>
                        <a:lnTo>
                          <a:pt x="137" y="4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92120" y="2797200"/>
                    <a:ext cx="2124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89">
                        <a:moveTo>
                          <a:pt x="139" y="0"/>
                        </a:moveTo>
                        <a:lnTo>
                          <a:pt x="141" y="7"/>
                        </a:lnTo>
                        <a:lnTo>
                          <a:pt x="148" y="26"/>
                        </a:lnTo>
                        <a:lnTo>
                          <a:pt x="158" y="53"/>
                        </a:lnTo>
                        <a:lnTo>
                          <a:pt x="166" y="85"/>
                        </a:lnTo>
                        <a:lnTo>
                          <a:pt x="170" y="119"/>
                        </a:lnTo>
                        <a:lnTo>
                          <a:pt x="170" y="150"/>
                        </a:lnTo>
                        <a:lnTo>
                          <a:pt x="163" y="174"/>
                        </a:lnTo>
                        <a:lnTo>
                          <a:pt x="146" y="189"/>
                        </a:lnTo>
                        <a:lnTo>
                          <a:pt x="0" y="146"/>
                        </a:lnTo>
                        <a:lnTo>
                          <a:pt x="128" y="12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314080" y="2808000"/>
                    <a:ext cx="10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80">
                        <a:moveTo>
                          <a:pt x="0" y="40"/>
                        </a:moveTo>
                        <a:lnTo>
                          <a:pt x="3" y="55"/>
                        </a:lnTo>
                        <a:lnTo>
                          <a:pt x="10" y="68"/>
                        </a:lnTo>
                        <a:lnTo>
                          <a:pt x="19" y="76"/>
                        </a:lnTo>
                        <a:lnTo>
                          <a:pt x="32" y="80"/>
                        </a:lnTo>
                        <a:lnTo>
                          <a:pt x="43" y="76"/>
                        </a:lnTo>
                        <a:lnTo>
                          <a:pt x="52" y="68"/>
                        </a:lnTo>
                        <a:lnTo>
                          <a:pt x="59" y="55"/>
                        </a:lnTo>
                        <a:lnTo>
                          <a:pt x="62" y="40"/>
                        </a:lnTo>
                        <a:lnTo>
                          <a:pt x="59" y="25"/>
                        </a:lnTo>
                        <a:lnTo>
                          <a:pt x="52" y="12"/>
                        </a:lnTo>
                        <a:lnTo>
                          <a:pt x="43" y="4"/>
                        </a:lnTo>
                        <a:lnTo>
                          <a:pt x="32" y="0"/>
                        </a:lnTo>
                        <a:lnTo>
                          <a:pt x="19" y="4"/>
                        </a:lnTo>
                        <a:lnTo>
                          <a:pt x="10" y="12"/>
                        </a:lnTo>
                        <a:lnTo>
                          <a:pt x="3" y="2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238480" y="2649960"/>
                    <a:ext cx="1364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3" h="932">
                        <a:moveTo>
                          <a:pt x="11" y="365"/>
                        </a:moveTo>
                        <a:lnTo>
                          <a:pt x="15" y="356"/>
                        </a:lnTo>
                        <a:lnTo>
                          <a:pt x="20" y="347"/>
                        </a:lnTo>
                        <a:lnTo>
                          <a:pt x="24" y="339"/>
                        </a:lnTo>
                        <a:lnTo>
                          <a:pt x="30" y="331"/>
                        </a:lnTo>
                        <a:lnTo>
                          <a:pt x="36" y="323"/>
                        </a:lnTo>
                        <a:lnTo>
                          <a:pt x="41" y="315"/>
                        </a:lnTo>
                        <a:lnTo>
                          <a:pt x="48" y="308"/>
                        </a:lnTo>
                        <a:lnTo>
                          <a:pt x="55" y="301"/>
                        </a:lnTo>
                        <a:lnTo>
                          <a:pt x="62" y="295"/>
                        </a:lnTo>
                        <a:lnTo>
                          <a:pt x="70" y="288"/>
                        </a:lnTo>
                        <a:lnTo>
                          <a:pt x="79" y="282"/>
                        </a:lnTo>
                        <a:lnTo>
                          <a:pt x="88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90" y="276"/>
                        </a:lnTo>
                        <a:lnTo>
                          <a:pt x="132" y="234"/>
                        </a:lnTo>
                        <a:lnTo>
                          <a:pt x="83" y="83"/>
                        </a:lnTo>
                        <a:lnTo>
                          <a:pt x="200" y="0"/>
                        </a:lnTo>
                        <a:lnTo>
                          <a:pt x="245" y="96"/>
                        </a:lnTo>
                        <a:lnTo>
                          <a:pt x="177" y="132"/>
                        </a:lnTo>
                        <a:lnTo>
                          <a:pt x="210" y="214"/>
                        </a:lnTo>
                        <a:lnTo>
                          <a:pt x="225" y="209"/>
                        </a:lnTo>
                        <a:lnTo>
                          <a:pt x="243" y="203"/>
                        </a:lnTo>
                        <a:lnTo>
                          <a:pt x="265" y="199"/>
                        </a:lnTo>
                        <a:lnTo>
                          <a:pt x="287" y="197"/>
                        </a:lnTo>
                        <a:lnTo>
                          <a:pt x="307" y="195"/>
                        </a:lnTo>
                        <a:lnTo>
                          <a:pt x="324" y="195"/>
                        </a:lnTo>
                        <a:lnTo>
                          <a:pt x="335" y="194"/>
                        </a:lnTo>
                        <a:lnTo>
                          <a:pt x="340" y="194"/>
                        </a:lnTo>
                        <a:lnTo>
                          <a:pt x="332" y="38"/>
                        </a:lnTo>
                        <a:lnTo>
                          <a:pt x="460" y="22"/>
                        </a:lnTo>
                        <a:lnTo>
                          <a:pt x="467" y="118"/>
                        </a:lnTo>
                        <a:lnTo>
                          <a:pt x="396" y="112"/>
                        </a:lnTo>
                        <a:lnTo>
                          <a:pt x="407" y="204"/>
                        </a:lnTo>
                        <a:lnTo>
                          <a:pt x="418" y="198"/>
                        </a:lnTo>
                        <a:lnTo>
                          <a:pt x="438" y="197"/>
                        </a:lnTo>
                        <a:lnTo>
                          <a:pt x="462" y="198"/>
                        </a:lnTo>
                        <a:lnTo>
                          <a:pt x="487" y="202"/>
                        </a:lnTo>
                        <a:lnTo>
                          <a:pt x="513" y="208"/>
                        </a:lnTo>
                        <a:lnTo>
                          <a:pt x="534" y="212"/>
                        </a:lnTo>
                        <a:lnTo>
                          <a:pt x="549" y="216"/>
                        </a:lnTo>
                        <a:lnTo>
                          <a:pt x="554" y="217"/>
                        </a:lnTo>
                        <a:lnTo>
                          <a:pt x="574" y="98"/>
                        </a:lnTo>
                        <a:lnTo>
                          <a:pt x="727" y="140"/>
                        </a:lnTo>
                        <a:lnTo>
                          <a:pt x="702" y="220"/>
                        </a:lnTo>
                        <a:lnTo>
                          <a:pt x="630" y="189"/>
                        </a:lnTo>
                        <a:lnTo>
                          <a:pt x="613" y="252"/>
                        </a:lnTo>
                        <a:lnTo>
                          <a:pt x="630" y="256"/>
                        </a:lnTo>
                        <a:lnTo>
                          <a:pt x="652" y="266"/>
                        </a:lnTo>
                        <a:lnTo>
                          <a:pt x="676" y="281"/>
                        </a:lnTo>
                        <a:lnTo>
                          <a:pt x="701" y="299"/>
                        </a:lnTo>
                        <a:lnTo>
                          <a:pt x="724" y="315"/>
                        </a:lnTo>
                        <a:lnTo>
                          <a:pt x="742" y="330"/>
                        </a:lnTo>
                        <a:lnTo>
                          <a:pt x="755" y="341"/>
                        </a:lnTo>
                        <a:lnTo>
                          <a:pt x="759" y="345"/>
                        </a:lnTo>
                        <a:lnTo>
                          <a:pt x="841" y="250"/>
                        </a:lnTo>
                        <a:lnTo>
                          <a:pt x="952" y="323"/>
                        </a:lnTo>
                        <a:lnTo>
                          <a:pt x="912" y="395"/>
                        </a:lnTo>
                        <a:lnTo>
                          <a:pt x="845" y="342"/>
                        </a:lnTo>
                        <a:lnTo>
                          <a:pt x="815" y="402"/>
                        </a:lnTo>
                        <a:lnTo>
                          <a:pt x="834" y="415"/>
                        </a:lnTo>
                        <a:lnTo>
                          <a:pt x="855" y="433"/>
                        </a:lnTo>
                        <a:lnTo>
                          <a:pt x="875" y="453"/>
                        </a:lnTo>
                        <a:lnTo>
                          <a:pt x="894" y="474"/>
                        </a:lnTo>
                        <a:lnTo>
                          <a:pt x="910" y="493"/>
                        </a:lnTo>
                        <a:lnTo>
                          <a:pt x="923" y="511"/>
                        </a:lnTo>
                        <a:lnTo>
                          <a:pt x="931" y="521"/>
                        </a:lnTo>
                        <a:lnTo>
                          <a:pt x="935" y="525"/>
                        </a:lnTo>
                        <a:lnTo>
                          <a:pt x="1061" y="508"/>
                        </a:lnTo>
                        <a:lnTo>
                          <a:pt x="1103" y="591"/>
                        </a:lnTo>
                        <a:lnTo>
                          <a:pt x="1034" y="627"/>
                        </a:lnTo>
                        <a:lnTo>
                          <a:pt x="997" y="565"/>
                        </a:lnTo>
                        <a:lnTo>
                          <a:pt x="932" y="591"/>
                        </a:lnTo>
                        <a:lnTo>
                          <a:pt x="943" y="611"/>
                        </a:lnTo>
                        <a:lnTo>
                          <a:pt x="953" y="630"/>
                        </a:lnTo>
                        <a:lnTo>
                          <a:pt x="960" y="650"/>
                        </a:lnTo>
                        <a:lnTo>
                          <a:pt x="967" y="668"/>
                        </a:lnTo>
                        <a:lnTo>
                          <a:pt x="971" y="688"/>
                        </a:lnTo>
                        <a:lnTo>
                          <a:pt x="975" y="706"/>
                        </a:lnTo>
                        <a:lnTo>
                          <a:pt x="976" y="725"/>
                        </a:lnTo>
                        <a:lnTo>
                          <a:pt x="976" y="743"/>
                        </a:lnTo>
                        <a:lnTo>
                          <a:pt x="883" y="743"/>
                        </a:lnTo>
                        <a:lnTo>
                          <a:pt x="886" y="720"/>
                        </a:lnTo>
                        <a:lnTo>
                          <a:pt x="886" y="696"/>
                        </a:lnTo>
                        <a:lnTo>
                          <a:pt x="883" y="672"/>
                        </a:lnTo>
                        <a:lnTo>
                          <a:pt x="876" y="646"/>
                        </a:lnTo>
                        <a:lnTo>
                          <a:pt x="867" y="621"/>
                        </a:lnTo>
                        <a:lnTo>
                          <a:pt x="853" y="596"/>
                        </a:lnTo>
                        <a:lnTo>
                          <a:pt x="837" y="570"/>
                        </a:lnTo>
                        <a:lnTo>
                          <a:pt x="818" y="545"/>
                        </a:lnTo>
                        <a:lnTo>
                          <a:pt x="796" y="520"/>
                        </a:lnTo>
                        <a:lnTo>
                          <a:pt x="772" y="494"/>
                        </a:lnTo>
                        <a:lnTo>
                          <a:pt x="746" y="471"/>
                        </a:lnTo>
                        <a:lnTo>
                          <a:pt x="717" y="448"/>
                        </a:lnTo>
                        <a:lnTo>
                          <a:pt x="686" y="426"/>
                        </a:lnTo>
                        <a:lnTo>
                          <a:pt x="653" y="405"/>
                        </a:lnTo>
                        <a:lnTo>
                          <a:pt x="618" y="386"/>
                        </a:lnTo>
                        <a:lnTo>
                          <a:pt x="581" y="368"/>
                        </a:lnTo>
                        <a:lnTo>
                          <a:pt x="549" y="354"/>
                        </a:lnTo>
                        <a:lnTo>
                          <a:pt x="517" y="342"/>
                        </a:lnTo>
                        <a:lnTo>
                          <a:pt x="486" y="332"/>
                        </a:lnTo>
                        <a:lnTo>
                          <a:pt x="455" y="324"/>
                        </a:lnTo>
                        <a:lnTo>
                          <a:pt x="425" y="317"/>
                        </a:lnTo>
                        <a:lnTo>
                          <a:pt x="395" y="312"/>
                        </a:lnTo>
                        <a:lnTo>
                          <a:pt x="366" y="309"/>
                        </a:lnTo>
                        <a:lnTo>
                          <a:pt x="339" y="307"/>
                        </a:lnTo>
                        <a:lnTo>
                          <a:pt x="312" y="307"/>
                        </a:lnTo>
                        <a:lnTo>
                          <a:pt x="286" y="309"/>
                        </a:lnTo>
                        <a:lnTo>
                          <a:pt x="262" y="312"/>
                        </a:lnTo>
                        <a:lnTo>
                          <a:pt x="239" y="317"/>
                        </a:lnTo>
                        <a:lnTo>
                          <a:pt x="217" y="324"/>
                        </a:lnTo>
                        <a:lnTo>
                          <a:pt x="197" y="332"/>
                        </a:lnTo>
                        <a:lnTo>
                          <a:pt x="179" y="341"/>
                        </a:lnTo>
                        <a:lnTo>
                          <a:pt x="161" y="353"/>
                        </a:lnTo>
                        <a:lnTo>
                          <a:pt x="153" y="358"/>
                        </a:lnTo>
                        <a:lnTo>
                          <a:pt x="145" y="365"/>
                        </a:lnTo>
                        <a:lnTo>
                          <a:pt x="138" y="372"/>
                        </a:lnTo>
                        <a:lnTo>
                          <a:pt x="132" y="380"/>
                        </a:lnTo>
                        <a:lnTo>
                          <a:pt x="128" y="388"/>
                        </a:lnTo>
                        <a:lnTo>
                          <a:pt x="122" y="396"/>
                        </a:lnTo>
                        <a:lnTo>
                          <a:pt x="119" y="405"/>
                        </a:lnTo>
                        <a:lnTo>
                          <a:pt x="115" y="413"/>
                        </a:lnTo>
                        <a:lnTo>
                          <a:pt x="108" y="436"/>
                        </a:lnTo>
                        <a:lnTo>
                          <a:pt x="106" y="460"/>
                        </a:lnTo>
                        <a:lnTo>
                          <a:pt x="107" y="485"/>
                        </a:lnTo>
                        <a:lnTo>
                          <a:pt x="112" y="512"/>
                        </a:lnTo>
                        <a:lnTo>
                          <a:pt x="121" y="538"/>
                        </a:lnTo>
                        <a:lnTo>
                          <a:pt x="132" y="565"/>
                        </a:lnTo>
                        <a:lnTo>
                          <a:pt x="147" y="591"/>
                        </a:lnTo>
                        <a:lnTo>
                          <a:pt x="166" y="619"/>
                        </a:lnTo>
                        <a:lnTo>
                          <a:pt x="188" y="645"/>
                        </a:lnTo>
                        <a:lnTo>
                          <a:pt x="212" y="671"/>
                        </a:lnTo>
                        <a:lnTo>
                          <a:pt x="240" y="696"/>
                        </a:lnTo>
                        <a:lnTo>
                          <a:pt x="268" y="720"/>
                        </a:lnTo>
                        <a:lnTo>
                          <a:pt x="301" y="744"/>
                        </a:lnTo>
                        <a:lnTo>
                          <a:pt x="335" y="766"/>
                        </a:lnTo>
                        <a:lnTo>
                          <a:pt x="372" y="787"/>
                        </a:lnTo>
                        <a:lnTo>
                          <a:pt x="410" y="805"/>
                        </a:lnTo>
                        <a:lnTo>
                          <a:pt x="447" y="820"/>
                        </a:lnTo>
                        <a:lnTo>
                          <a:pt x="484" y="834"/>
                        </a:lnTo>
                        <a:lnTo>
                          <a:pt x="520" y="845"/>
                        </a:lnTo>
                        <a:lnTo>
                          <a:pt x="555" y="854"/>
                        </a:lnTo>
                        <a:lnTo>
                          <a:pt x="590" y="860"/>
                        </a:lnTo>
                        <a:lnTo>
                          <a:pt x="625" y="864"/>
                        </a:lnTo>
                        <a:lnTo>
                          <a:pt x="657" y="865"/>
                        </a:lnTo>
                        <a:lnTo>
                          <a:pt x="688" y="865"/>
                        </a:lnTo>
                        <a:lnTo>
                          <a:pt x="718" y="862"/>
                        </a:lnTo>
                        <a:lnTo>
                          <a:pt x="746" y="857"/>
                        </a:lnTo>
                        <a:lnTo>
                          <a:pt x="771" y="850"/>
                        </a:lnTo>
                        <a:lnTo>
                          <a:pt x="795" y="841"/>
                        </a:lnTo>
                        <a:lnTo>
                          <a:pt x="817" y="830"/>
                        </a:lnTo>
                        <a:lnTo>
                          <a:pt x="835" y="817"/>
                        </a:lnTo>
                        <a:lnTo>
                          <a:pt x="852" y="801"/>
                        </a:lnTo>
                        <a:lnTo>
                          <a:pt x="865" y="784"/>
                        </a:lnTo>
                        <a:lnTo>
                          <a:pt x="970" y="784"/>
                        </a:lnTo>
                        <a:lnTo>
                          <a:pt x="969" y="787"/>
                        </a:lnTo>
                        <a:lnTo>
                          <a:pt x="968" y="792"/>
                        </a:lnTo>
                        <a:lnTo>
                          <a:pt x="967" y="795"/>
                        </a:lnTo>
                        <a:lnTo>
                          <a:pt x="966" y="800"/>
                        </a:lnTo>
                        <a:lnTo>
                          <a:pt x="952" y="826"/>
                        </a:lnTo>
                        <a:lnTo>
                          <a:pt x="935" y="850"/>
                        </a:lnTo>
                        <a:lnTo>
                          <a:pt x="913" y="871"/>
                        </a:lnTo>
                        <a:lnTo>
                          <a:pt x="886" y="889"/>
                        </a:lnTo>
                        <a:lnTo>
                          <a:pt x="857" y="903"/>
                        </a:lnTo>
                        <a:lnTo>
                          <a:pt x="825" y="915"/>
                        </a:lnTo>
                        <a:lnTo>
                          <a:pt x="789" y="924"/>
                        </a:lnTo>
                        <a:lnTo>
                          <a:pt x="750" y="930"/>
                        </a:lnTo>
                        <a:lnTo>
                          <a:pt x="710" y="932"/>
                        </a:lnTo>
                        <a:lnTo>
                          <a:pt x="667" y="931"/>
                        </a:lnTo>
                        <a:lnTo>
                          <a:pt x="622" y="926"/>
                        </a:lnTo>
                        <a:lnTo>
                          <a:pt x="576" y="919"/>
                        </a:lnTo>
                        <a:lnTo>
                          <a:pt x="528" y="908"/>
                        </a:lnTo>
                        <a:lnTo>
                          <a:pt x="479" y="894"/>
                        </a:lnTo>
                        <a:lnTo>
                          <a:pt x="431" y="877"/>
                        </a:lnTo>
                        <a:lnTo>
                          <a:pt x="381" y="856"/>
                        </a:lnTo>
                        <a:lnTo>
                          <a:pt x="333" y="832"/>
                        </a:lnTo>
                        <a:lnTo>
                          <a:pt x="288" y="807"/>
                        </a:lnTo>
                        <a:lnTo>
                          <a:pt x="244" y="779"/>
                        </a:lnTo>
                        <a:lnTo>
                          <a:pt x="204" y="750"/>
                        </a:lnTo>
                        <a:lnTo>
                          <a:pt x="167" y="719"/>
                        </a:lnTo>
                        <a:lnTo>
                          <a:pt x="134" y="688"/>
                        </a:lnTo>
                        <a:lnTo>
                          <a:pt x="103" y="655"/>
                        </a:lnTo>
                        <a:lnTo>
                          <a:pt x="76" y="622"/>
                        </a:lnTo>
                        <a:lnTo>
                          <a:pt x="53" y="589"/>
                        </a:lnTo>
                        <a:lnTo>
                          <a:pt x="33" y="555"/>
                        </a:lnTo>
                        <a:lnTo>
                          <a:pt x="18" y="522"/>
                        </a:lnTo>
                        <a:lnTo>
                          <a:pt x="8" y="489"/>
                        </a:lnTo>
                        <a:lnTo>
                          <a:pt x="1" y="456"/>
                        </a:lnTo>
                        <a:lnTo>
                          <a:pt x="0" y="425"/>
                        </a:lnTo>
                        <a:lnTo>
                          <a:pt x="3" y="394"/>
                        </a:lnTo>
                        <a:lnTo>
                          <a:pt x="11" y="3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334960" y="2853360"/>
                    <a:ext cx="13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1">
                        <a:moveTo>
                          <a:pt x="13" y="16"/>
                        </a:moveTo>
                        <a:lnTo>
                          <a:pt x="14" y="13"/>
                        </a:lnTo>
                        <a:lnTo>
                          <a:pt x="15" y="8"/>
                        </a:lnTo>
                        <a:lnTo>
                          <a:pt x="17" y="5"/>
                        </a:lnTo>
                        <a:lnTo>
                          <a:pt x="18" y="0"/>
                        </a:lnTo>
                        <a:lnTo>
                          <a:pt x="111" y="0"/>
                        </a:lnTo>
                        <a:lnTo>
                          <a:pt x="111" y="11"/>
                        </a:lnTo>
                        <a:lnTo>
                          <a:pt x="110" y="20"/>
                        </a:lnTo>
                        <a:lnTo>
                          <a:pt x="108" y="30"/>
                        </a:lnTo>
                        <a:lnTo>
                          <a:pt x="105" y="41"/>
                        </a:lnTo>
                        <a:lnTo>
                          <a:pt x="0" y="41"/>
                        </a:lnTo>
                        <a:lnTo>
                          <a:pt x="4" y="35"/>
                        </a:lnTo>
                        <a:lnTo>
                          <a:pt x="7" y="29"/>
                        </a:lnTo>
                        <a:lnTo>
                          <a:pt x="11" y="23"/>
                        </a:lnTo>
                        <a:lnTo>
                          <a:pt x="1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282760" y="2789640"/>
                    <a:ext cx="10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268360" y="2833560"/>
                    <a:ext cx="15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5">
                        <a:moveTo>
                          <a:pt x="128" y="37"/>
                        </a:moveTo>
                        <a:lnTo>
                          <a:pt x="127" y="45"/>
                        </a:lnTo>
                        <a:lnTo>
                          <a:pt x="123" y="52"/>
                        </a:lnTo>
                        <a:lnTo>
                          <a:pt x="117" y="58"/>
                        </a:lnTo>
                        <a:lnTo>
                          <a:pt x="110" y="63"/>
                        </a:lnTo>
                        <a:lnTo>
                          <a:pt x="99" y="68"/>
                        </a:lnTo>
                        <a:lnTo>
                          <a:pt x="89" y="71"/>
                        </a:lnTo>
                        <a:lnTo>
                          <a:pt x="76" y="74"/>
                        </a:lnTo>
                        <a:lnTo>
                          <a:pt x="64" y="75"/>
                        </a:lnTo>
                        <a:lnTo>
                          <a:pt x="51" y="74"/>
                        </a:lnTo>
                        <a:lnTo>
                          <a:pt x="39" y="71"/>
                        </a:lnTo>
                        <a:lnTo>
                          <a:pt x="28" y="68"/>
                        </a:lnTo>
                        <a:lnTo>
                          <a:pt x="19" y="63"/>
                        </a:lnTo>
                        <a:lnTo>
                          <a:pt x="11" y="58"/>
                        </a:lnTo>
                        <a:lnTo>
                          <a:pt x="5" y="52"/>
                        </a:lnTo>
                        <a:lnTo>
                          <a:pt x="1" y="45"/>
                        </a:lnTo>
                        <a:lnTo>
                          <a:pt x="0" y="37"/>
                        </a:lnTo>
                        <a:lnTo>
                          <a:pt x="1" y="30"/>
                        </a:lnTo>
                        <a:lnTo>
                          <a:pt x="5" y="23"/>
                        </a:lnTo>
                        <a:lnTo>
                          <a:pt x="11" y="16"/>
                        </a:lnTo>
                        <a:lnTo>
                          <a:pt x="19" y="11"/>
                        </a:lnTo>
                        <a:lnTo>
                          <a:pt x="28" y="7"/>
                        </a:lnTo>
                        <a:lnTo>
                          <a:pt x="39" y="3"/>
                        </a:lnTo>
                        <a:lnTo>
                          <a:pt x="51" y="1"/>
                        </a:lnTo>
                        <a:lnTo>
                          <a:pt x="64" y="0"/>
                        </a:lnTo>
                        <a:lnTo>
                          <a:pt x="76" y="1"/>
                        </a:lnTo>
                        <a:lnTo>
                          <a:pt x="89" y="3"/>
                        </a:lnTo>
                        <a:lnTo>
                          <a:pt x="99" y="7"/>
                        </a:lnTo>
                        <a:lnTo>
                          <a:pt x="110" y="11"/>
                        </a:lnTo>
                        <a:lnTo>
                          <a:pt x="117" y="16"/>
                        </a:lnTo>
                        <a:lnTo>
                          <a:pt x="123" y="23"/>
                        </a:lnTo>
                        <a:lnTo>
                          <a:pt x="127" y="30"/>
                        </a:lnTo>
                        <a:lnTo>
                          <a:pt x="12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12200" y="2822400"/>
                    <a:ext cx="96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7">
                        <a:moveTo>
                          <a:pt x="387" y="0"/>
                        </a:moveTo>
                        <a:lnTo>
                          <a:pt x="0" y="506"/>
                        </a:lnTo>
                        <a:lnTo>
                          <a:pt x="672" y="627"/>
                        </a:lnTo>
                        <a:lnTo>
                          <a:pt x="786" y="228"/>
                        </a:lnTo>
                        <a:lnTo>
                          <a:pt x="701" y="228"/>
                        </a:lnTo>
                        <a:lnTo>
                          <a:pt x="623" y="549"/>
                        </a:lnTo>
                        <a:lnTo>
                          <a:pt x="143" y="435"/>
                        </a:lnTo>
                        <a:lnTo>
                          <a:pt x="423" y="77"/>
                        </a:lnTo>
                        <a:lnTo>
                          <a:pt x="3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191320" y="2807280"/>
                    <a:ext cx="594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271">
                        <a:moveTo>
                          <a:pt x="447" y="271"/>
                        </a:moveTo>
                        <a:lnTo>
                          <a:pt x="156" y="171"/>
                        </a:lnTo>
                        <a:lnTo>
                          <a:pt x="153" y="176"/>
                        </a:lnTo>
                        <a:lnTo>
                          <a:pt x="142" y="190"/>
                        </a:lnTo>
                        <a:lnTo>
                          <a:pt x="126" y="208"/>
                        </a:lnTo>
                        <a:lnTo>
                          <a:pt x="106" y="223"/>
                        </a:lnTo>
                        <a:lnTo>
                          <a:pt x="83" y="231"/>
                        </a:lnTo>
                        <a:lnTo>
                          <a:pt x="56" y="225"/>
                        </a:lnTo>
                        <a:lnTo>
                          <a:pt x="28" y="201"/>
                        </a:lnTo>
                        <a:lnTo>
                          <a:pt x="0" y="153"/>
                        </a:lnTo>
                        <a:lnTo>
                          <a:pt x="5" y="75"/>
                        </a:lnTo>
                        <a:lnTo>
                          <a:pt x="6" y="72"/>
                        </a:lnTo>
                        <a:lnTo>
                          <a:pt x="9" y="61"/>
                        </a:lnTo>
                        <a:lnTo>
                          <a:pt x="13" y="47"/>
                        </a:lnTo>
                        <a:lnTo>
                          <a:pt x="19" y="32"/>
                        </a:lnTo>
                        <a:lnTo>
                          <a:pt x="27" y="19"/>
                        </a:lnTo>
                        <a:lnTo>
                          <a:pt x="35" y="7"/>
                        </a:lnTo>
                        <a:lnTo>
                          <a:pt x="46" y="0"/>
                        </a:lnTo>
                        <a:lnTo>
                          <a:pt x="56" y="1"/>
                        </a:lnTo>
                        <a:lnTo>
                          <a:pt x="64" y="8"/>
                        </a:lnTo>
                        <a:lnTo>
                          <a:pt x="72" y="19"/>
                        </a:lnTo>
                        <a:lnTo>
                          <a:pt x="80" y="36"/>
                        </a:lnTo>
                        <a:lnTo>
                          <a:pt x="88" y="59"/>
                        </a:lnTo>
                        <a:lnTo>
                          <a:pt x="89" y="62"/>
                        </a:lnTo>
                        <a:lnTo>
                          <a:pt x="93" y="72"/>
                        </a:lnTo>
                        <a:lnTo>
                          <a:pt x="99" y="83"/>
                        </a:lnTo>
                        <a:lnTo>
                          <a:pt x="107" y="96"/>
                        </a:lnTo>
                        <a:lnTo>
                          <a:pt x="116" y="107"/>
                        </a:lnTo>
                        <a:lnTo>
                          <a:pt x="127" y="114"/>
                        </a:lnTo>
                        <a:lnTo>
                          <a:pt x="140" y="115"/>
                        </a:lnTo>
                        <a:lnTo>
                          <a:pt x="155" y="109"/>
                        </a:lnTo>
                        <a:lnTo>
                          <a:pt x="161" y="106"/>
                        </a:lnTo>
                        <a:lnTo>
                          <a:pt x="175" y="102"/>
                        </a:lnTo>
                        <a:lnTo>
                          <a:pt x="194" y="97"/>
                        </a:lnTo>
                        <a:lnTo>
                          <a:pt x="213" y="92"/>
                        </a:lnTo>
                        <a:lnTo>
                          <a:pt x="227" y="92"/>
                        </a:lnTo>
                        <a:lnTo>
                          <a:pt x="231" y="97"/>
                        </a:lnTo>
                        <a:lnTo>
                          <a:pt x="223" y="109"/>
                        </a:lnTo>
                        <a:lnTo>
                          <a:pt x="197" y="130"/>
                        </a:lnTo>
                        <a:lnTo>
                          <a:pt x="480" y="216"/>
                        </a:lnTo>
                        <a:lnTo>
                          <a:pt x="447" y="27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352960" y="2813760"/>
                    <a:ext cx="734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67">
                        <a:moveTo>
                          <a:pt x="0" y="271"/>
                        </a:moveTo>
                        <a:lnTo>
                          <a:pt x="143" y="0"/>
                        </a:lnTo>
                        <a:lnTo>
                          <a:pt x="286" y="44"/>
                        </a:lnTo>
                        <a:lnTo>
                          <a:pt x="265" y="199"/>
                        </a:lnTo>
                        <a:lnTo>
                          <a:pt x="522" y="63"/>
                        </a:lnTo>
                        <a:lnTo>
                          <a:pt x="526" y="68"/>
                        </a:lnTo>
                        <a:lnTo>
                          <a:pt x="540" y="81"/>
                        </a:lnTo>
                        <a:lnTo>
                          <a:pt x="556" y="99"/>
                        </a:lnTo>
                        <a:lnTo>
                          <a:pt x="574" y="124"/>
                        </a:lnTo>
                        <a:lnTo>
                          <a:pt x="588" y="153"/>
                        </a:lnTo>
                        <a:lnTo>
                          <a:pt x="594" y="184"/>
                        </a:lnTo>
                        <a:lnTo>
                          <a:pt x="591" y="218"/>
                        </a:lnTo>
                        <a:lnTo>
                          <a:pt x="573" y="250"/>
                        </a:lnTo>
                        <a:lnTo>
                          <a:pt x="571" y="256"/>
                        </a:lnTo>
                        <a:lnTo>
                          <a:pt x="567" y="272"/>
                        </a:lnTo>
                        <a:lnTo>
                          <a:pt x="559" y="296"/>
                        </a:lnTo>
                        <a:lnTo>
                          <a:pt x="548" y="327"/>
                        </a:lnTo>
                        <a:lnTo>
                          <a:pt x="533" y="362"/>
                        </a:lnTo>
                        <a:lnTo>
                          <a:pt x="514" y="400"/>
                        </a:lnTo>
                        <a:lnTo>
                          <a:pt x="491" y="438"/>
                        </a:lnTo>
                        <a:lnTo>
                          <a:pt x="462" y="474"/>
                        </a:lnTo>
                        <a:lnTo>
                          <a:pt x="430" y="508"/>
                        </a:lnTo>
                        <a:lnTo>
                          <a:pt x="390" y="536"/>
                        </a:lnTo>
                        <a:lnTo>
                          <a:pt x="347" y="555"/>
                        </a:lnTo>
                        <a:lnTo>
                          <a:pt x="297" y="567"/>
                        </a:lnTo>
                        <a:lnTo>
                          <a:pt x="242" y="567"/>
                        </a:lnTo>
                        <a:lnTo>
                          <a:pt x="180" y="553"/>
                        </a:lnTo>
                        <a:lnTo>
                          <a:pt x="112" y="525"/>
                        </a:lnTo>
                        <a:lnTo>
                          <a:pt x="36" y="479"/>
                        </a:lnTo>
                        <a:lnTo>
                          <a:pt x="0" y="2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61600" y="2836080"/>
                    <a:ext cx="558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5">
                        <a:moveTo>
                          <a:pt x="0" y="175"/>
                        </a:moveTo>
                        <a:lnTo>
                          <a:pt x="89" y="0"/>
                        </a:lnTo>
                        <a:lnTo>
                          <a:pt x="124" y="22"/>
                        </a:lnTo>
                        <a:lnTo>
                          <a:pt x="138" y="165"/>
                        </a:lnTo>
                        <a:lnTo>
                          <a:pt x="210" y="180"/>
                        </a:lnTo>
                        <a:lnTo>
                          <a:pt x="403" y="58"/>
                        </a:lnTo>
                        <a:lnTo>
                          <a:pt x="409" y="60"/>
                        </a:lnTo>
                        <a:lnTo>
                          <a:pt x="420" y="67"/>
                        </a:lnTo>
                        <a:lnTo>
                          <a:pt x="435" y="78"/>
                        </a:lnTo>
                        <a:lnTo>
                          <a:pt x="447" y="95"/>
                        </a:lnTo>
                        <a:lnTo>
                          <a:pt x="452" y="115"/>
                        </a:lnTo>
                        <a:lnTo>
                          <a:pt x="442" y="140"/>
                        </a:lnTo>
                        <a:lnTo>
                          <a:pt x="416" y="168"/>
                        </a:lnTo>
                        <a:lnTo>
                          <a:pt x="367" y="201"/>
                        </a:lnTo>
                        <a:lnTo>
                          <a:pt x="274" y="244"/>
                        </a:lnTo>
                        <a:lnTo>
                          <a:pt x="278" y="243"/>
                        </a:lnTo>
                        <a:lnTo>
                          <a:pt x="286" y="240"/>
                        </a:lnTo>
                        <a:lnTo>
                          <a:pt x="298" y="235"/>
                        </a:lnTo>
                        <a:lnTo>
                          <a:pt x="314" y="229"/>
                        </a:lnTo>
                        <a:lnTo>
                          <a:pt x="333" y="224"/>
                        </a:lnTo>
                        <a:lnTo>
                          <a:pt x="352" y="218"/>
                        </a:lnTo>
                        <a:lnTo>
                          <a:pt x="372" y="213"/>
                        </a:lnTo>
                        <a:lnTo>
                          <a:pt x="391" y="210"/>
                        </a:lnTo>
                        <a:lnTo>
                          <a:pt x="408" y="210"/>
                        </a:lnTo>
                        <a:lnTo>
                          <a:pt x="422" y="211"/>
                        </a:lnTo>
                        <a:lnTo>
                          <a:pt x="432" y="217"/>
                        </a:lnTo>
                        <a:lnTo>
                          <a:pt x="438" y="226"/>
                        </a:lnTo>
                        <a:lnTo>
                          <a:pt x="437" y="240"/>
                        </a:lnTo>
                        <a:lnTo>
                          <a:pt x="430" y="259"/>
                        </a:lnTo>
                        <a:lnTo>
                          <a:pt x="414" y="285"/>
                        </a:lnTo>
                        <a:lnTo>
                          <a:pt x="389" y="316"/>
                        </a:lnTo>
                        <a:lnTo>
                          <a:pt x="253" y="351"/>
                        </a:lnTo>
                        <a:lnTo>
                          <a:pt x="259" y="353"/>
                        </a:lnTo>
                        <a:lnTo>
                          <a:pt x="274" y="358"/>
                        </a:lnTo>
                        <a:lnTo>
                          <a:pt x="291" y="366"/>
                        </a:lnTo>
                        <a:lnTo>
                          <a:pt x="306" y="377"/>
                        </a:lnTo>
                        <a:lnTo>
                          <a:pt x="313" y="392"/>
                        </a:lnTo>
                        <a:lnTo>
                          <a:pt x="308" y="409"/>
                        </a:lnTo>
                        <a:lnTo>
                          <a:pt x="282" y="429"/>
                        </a:lnTo>
                        <a:lnTo>
                          <a:pt x="231" y="452"/>
                        </a:lnTo>
                        <a:lnTo>
                          <a:pt x="229" y="452"/>
                        </a:lnTo>
                        <a:lnTo>
                          <a:pt x="221" y="453"/>
                        </a:lnTo>
                        <a:lnTo>
                          <a:pt x="210" y="454"/>
                        </a:lnTo>
                        <a:lnTo>
                          <a:pt x="196" y="455"/>
                        </a:lnTo>
                        <a:lnTo>
                          <a:pt x="177" y="454"/>
                        </a:lnTo>
                        <a:lnTo>
                          <a:pt x="158" y="451"/>
                        </a:lnTo>
                        <a:lnTo>
                          <a:pt x="137" y="445"/>
                        </a:lnTo>
                        <a:lnTo>
                          <a:pt x="116" y="437"/>
                        </a:lnTo>
                        <a:lnTo>
                          <a:pt x="94" y="424"/>
                        </a:lnTo>
                        <a:lnTo>
                          <a:pt x="74" y="407"/>
                        </a:lnTo>
                        <a:lnTo>
                          <a:pt x="54" y="385"/>
                        </a:lnTo>
                        <a:lnTo>
                          <a:pt x="36" y="357"/>
                        </a:lnTo>
                        <a:lnTo>
                          <a:pt x="22" y="323"/>
                        </a:lnTo>
                        <a:lnTo>
                          <a:pt x="10" y="281"/>
                        </a:lnTo>
                        <a:lnTo>
                          <a:pt x="2" y="233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379240" y="2851920"/>
                    <a:ext cx="33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5">
                        <a:moveTo>
                          <a:pt x="0" y="0"/>
                        </a:moveTo>
                        <a:lnTo>
                          <a:pt x="272" y="29"/>
                        </a:lnTo>
                        <a:lnTo>
                          <a:pt x="179" y="65"/>
                        </a:lnTo>
                        <a:lnTo>
                          <a:pt x="14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69880" y="2905200"/>
                    <a:ext cx="19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16">
                        <a:moveTo>
                          <a:pt x="157" y="0"/>
                        </a:moveTo>
                        <a:lnTo>
                          <a:pt x="0" y="80"/>
                        </a:lnTo>
                        <a:lnTo>
                          <a:pt x="35" y="116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364840" y="2900520"/>
                    <a:ext cx="158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50">
                        <a:moveTo>
                          <a:pt x="129" y="0"/>
                        </a:moveTo>
                        <a:lnTo>
                          <a:pt x="0" y="22"/>
                        </a:lnTo>
                        <a:lnTo>
                          <a:pt x="36" y="50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212920" y="2941200"/>
                    <a:ext cx="910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417">
                        <a:moveTo>
                          <a:pt x="58" y="0"/>
                        </a:moveTo>
                        <a:lnTo>
                          <a:pt x="0" y="78"/>
                        </a:lnTo>
                        <a:lnTo>
                          <a:pt x="5" y="81"/>
                        </a:lnTo>
                        <a:lnTo>
                          <a:pt x="15" y="86"/>
                        </a:lnTo>
                        <a:lnTo>
                          <a:pt x="32" y="94"/>
                        </a:lnTo>
                        <a:lnTo>
                          <a:pt x="50" y="105"/>
                        </a:lnTo>
                        <a:lnTo>
                          <a:pt x="70" y="115"/>
                        </a:lnTo>
                        <a:lnTo>
                          <a:pt x="88" y="124"/>
                        </a:lnTo>
                        <a:lnTo>
                          <a:pt x="104" y="131"/>
                        </a:lnTo>
                        <a:lnTo>
                          <a:pt x="116" y="136"/>
                        </a:lnTo>
                        <a:lnTo>
                          <a:pt x="124" y="138"/>
                        </a:lnTo>
                        <a:lnTo>
                          <a:pt x="140" y="140"/>
                        </a:lnTo>
                        <a:lnTo>
                          <a:pt x="163" y="144"/>
                        </a:lnTo>
                        <a:lnTo>
                          <a:pt x="191" y="149"/>
                        </a:lnTo>
                        <a:lnTo>
                          <a:pt x="224" y="154"/>
                        </a:lnTo>
                        <a:lnTo>
                          <a:pt x="260" y="159"/>
                        </a:lnTo>
                        <a:lnTo>
                          <a:pt x="298" y="165"/>
                        </a:lnTo>
                        <a:lnTo>
                          <a:pt x="337" y="170"/>
                        </a:lnTo>
                        <a:lnTo>
                          <a:pt x="375" y="176"/>
                        </a:lnTo>
                        <a:lnTo>
                          <a:pt x="413" y="182"/>
                        </a:lnTo>
                        <a:lnTo>
                          <a:pt x="448" y="187"/>
                        </a:lnTo>
                        <a:lnTo>
                          <a:pt x="479" y="191"/>
                        </a:lnTo>
                        <a:lnTo>
                          <a:pt x="504" y="195"/>
                        </a:lnTo>
                        <a:lnTo>
                          <a:pt x="525" y="198"/>
                        </a:lnTo>
                        <a:lnTo>
                          <a:pt x="538" y="199"/>
                        </a:lnTo>
                        <a:lnTo>
                          <a:pt x="542" y="200"/>
                        </a:lnTo>
                        <a:lnTo>
                          <a:pt x="630" y="417"/>
                        </a:lnTo>
                        <a:lnTo>
                          <a:pt x="737" y="243"/>
                        </a:lnTo>
                        <a:lnTo>
                          <a:pt x="637" y="10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287800" y="3008880"/>
                    <a:ext cx="2880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43">
                        <a:moveTo>
                          <a:pt x="0" y="13"/>
                        </a:moveTo>
                        <a:lnTo>
                          <a:pt x="223" y="243"/>
                        </a:lnTo>
                        <a:lnTo>
                          <a:pt x="237" y="171"/>
                        </a:lnTo>
                        <a:lnTo>
                          <a:pt x="44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204640" y="2934720"/>
                    <a:ext cx="136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11">
                        <a:moveTo>
                          <a:pt x="0" y="0"/>
                        </a:moveTo>
                        <a:lnTo>
                          <a:pt x="87" y="111"/>
                        </a:lnTo>
                        <a:lnTo>
                          <a:pt x="114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295360" y="2895840"/>
                    <a:ext cx="24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43">
                        <a:moveTo>
                          <a:pt x="0" y="95"/>
                        </a:moveTo>
                        <a:lnTo>
                          <a:pt x="145" y="143"/>
                        </a:lnTo>
                        <a:lnTo>
                          <a:pt x="201" y="0"/>
                        </a:lnTo>
                        <a:lnTo>
                          <a:pt x="116" y="0"/>
                        </a:lnTo>
                        <a:lnTo>
                          <a:pt x="116" y="76"/>
                        </a:lnTo>
                        <a:lnTo>
                          <a:pt x="36" y="15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17680" y="2894760"/>
                    <a:ext cx="34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30">
                        <a:moveTo>
                          <a:pt x="0" y="82"/>
                        </a:moveTo>
                        <a:lnTo>
                          <a:pt x="278" y="130"/>
                        </a:lnTo>
                        <a:lnTo>
                          <a:pt x="267" y="44"/>
                        </a:lnTo>
                        <a:lnTo>
                          <a:pt x="62" y="0"/>
                        </a:lnTo>
                        <a:lnTo>
                          <a:pt x="10" y="54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300040" y="2994120"/>
                    <a:ext cx="414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47">
                        <a:moveTo>
                          <a:pt x="334" y="108"/>
                        </a:moveTo>
                        <a:lnTo>
                          <a:pt x="331" y="125"/>
                        </a:lnTo>
                        <a:lnTo>
                          <a:pt x="325" y="144"/>
                        </a:lnTo>
                        <a:lnTo>
                          <a:pt x="317" y="162"/>
                        </a:lnTo>
                        <a:lnTo>
                          <a:pt x="308" y="181"/>
                        </a:lnTo>
                        <a:lnTo>
                          <a:pt x="297" y="199"/>
                        </a:lnTo>
                        <a:lnTo>
                          <a:pt x="284" y="218"/>
                        </a:lnTo>
                        <a:lnTo>
                          <a:pt x="271" y="236"/>
                        </a:lnTo>
                        <a:lnTo>
                          <a:pt x="255" y="255"/>
                        </a:lnTo>
                        <a:lnTo>
                          <a:pt x="236" y="273"/>
                        </a:lnTo>
                        <a:lnTo>
                          <a:pt x="218" y="289"/>
                        </a:lnTo>
                        <a:lnTo>
                          <a:pt x="198" y="303"/>
                        </a:lnTo>
                        <a:lnTo>
                          <a:pt x="178" y="316"/>
                        </a:lnTo>
                        <a:lnTo>
                          <a:pt x="159" y="327"/>
                        </a:lnTo>
                        <a:lnTo>
                          <a:pt x="139" y="335"/>
                        </a:lnTo>
                        <a:lnTo>
                          <a:pt x="121" y="341"/>
                        </a:lnTo>
                        <a:lnTo>
                          <a:pt x="102" y="346"/>
                        </a:lnTo>
                        <a:lnTo>
                          <a:pt x="91" y="347"/>
                        </a:lnTo>
                        <a:lnTo>
                          <a:pt x="79" y="347"/>
                        </a:lnTo>
                        <a:lnTo>
                          <a:pt x="69" y="347"/>
                        </a:lnTo>
                        <a:lnTo>
                          <a:pt x="59" y="344"/>
                        </a:lnTo>
                        <a:lnTo>
                          <a:pt x="48" y="342"/>
                        </a:lnTo>
                        <a:lnTo>
                          <a:pt x="40" y="339"/>
                        </a:lnTo>
                        <a:lnTo>
                          <a:pt x="31" y="333"/>
                        </a:lnTo>
                        <a:lnTo>
                          <a:pt x="24" y="327"/>
                        </a:lnTo>
                        <a:lnTo>
                          <a:pt x="9" y="307"/>
                        </a:lnTo>
                        <a:lnTo>
                          <a:pt x="1" y="283"/>
                        </a:lnTo>
                        <a:lnTo>
                          <a:pt x="0" y="256"/>
                        </a:lnTo>
                        <a:lnTo>
                          <a:pt x="6" y="225"/>
                        </a:lnTo>
                        <a:lnTo>
                          <a:pt x="16" y="192"/>
                        </a:lnTo>
                        <a:lnTo>
                          <a:pt x="33" y="159"/>
                        </a:lnTo>
                        <a:lnTo>
                          <a:pt x="55" y="124"/>
                        </a:lnTo>
                        <a:lnTo>
                          <a:pt x="83" y="92"/>
                        </a:lnTo>
                        <a:lnTo>
                          <a:pt x="101" y="74"/>
                        </a:lnTo>
                        <a:lnTo>
                          <a:pt x="120" y="58"/>
                        </a:lnTo>
                        <a:lnTo>
                          <a:pt x="139" y="44"/>
                        </a:lnTo>
                        <a:lnTo>
                          <a:pt x="159" y="31"/>
                        </a:lnTo>
                        <a:lnTo>
                          <a:pt x="177" y="21"/>
                        </a:lnTo>
                        <a:lnTo>
                          <a:pt x="197" y="13"/>
                        </a:lnTo>
                        <a:lnTo>
                          <a:pt x="215" y="6"/>
                        </a:lnTo>
                        <a:lnTo>
                          <a:pt x="234" y="1"/>
                        </a:lnTo>
                        <a:lnTo>
                          <a:pt x="245" y="0"/>
                        </a:lnTo>
                        <a:lnTo>
                          <a:pt x="257" y="0"/>
                        </a:lnTo>
                        <a:lnTo>
                          <a:pt x="268" y="0"/>
                        </a:lnTo>
                        <a:lnTo>
                          <a:pt x="279" y="1"/>
                        </a:lnTo>
                        <a:lnTo>
                          <a:pt x="288" y="5"/>
                        </a:lnTo>
                        <a:lnTo>
                          <a:pt x="297" y="8"/>
                        </a:lnTo>
                        <a:lnTo>
                          <a:pt x="305" y="14"/>
                        </a:lnTo>
                        <a:lnTo>
                          <a:pt x="313" y="20"/>
                        </a:lnTo>
                        <a:lnTo>
                          <a:pt x="326" y="37"/>
                        </a:lnTo>
                        <a:lnTo>
                          <a:pt x="334" y="58"/>
                        </a:lnTo>
                        <a:lnTo>
                          <a:pt x="336" y="82"/>
                        </a:lnTo>
                        <a:lnTo>
                          <a:pt x="334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07240" y="3013560"/>
                    <a:ext cx="26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23">
                        <a:moveTo>
                          <a:pt x="163" y="163"/>
                        </a:moveTo>
                        <a:lnTo>
                          <a:pt x="143" y="182"/>
                        </a:lnTo>
                        <a:lnTo>
                          <a:pt x="123" y="197"/>
                        </a:lnTo>
                        <a:lnTo>
                          <a:pt x="102" y="210"/>
                        </a:lnTo>
                        <a:lnTo>
                          <a:pt x="81" y="218"/>
                        </a:lnTo>
                        <a:lnTo>
                          <a:pt x="61" y="223"/>
                        </a:lnTo>
                        <a:lnTo>
                          <a:pt x="44" y="223"/>
                        </a:lnTo>
                        <a:lnTo>
                          <a:pt x="28" y="218"/>
                        </a:lnTo>
                        <a:lnTo>
                          <a:pt x="15" y="210"/>
                        </a:lnTo>
                        <a:lnTo>
                          <a:pt x="6" y="197"/>
                        </a:lnTo>
                        <a:lnTo>
                          <a:pt x="2" y="182"/>
                        </a:lnTo>
                        <a:lnTo>
                          <a:pt x="0" y="164"/>
                        </a:lnTo>
                        <a:lnTo>
                          <a:pt x="4" y="144"/>
                        </a:lnTo>
                        <a:lnTo>
                          <a:pt x="11" y="123"/>
                        </a:lnTo>
                        <a:lnTo>
                          <a:pt x="21" y="102"/>
                        </a:lnTo>
                        <a:lnTo>
                          <a:pt x="36" y="80"/>
                        </a:lnTo>
                        <a:lnTo>
                          <a:pt x="53" y="59"/>
                        </a:lnTo>
                        <a:lnTo>
                          <a:pt x="73" y="41"/>
                        </a:lnTo>
                        <a:lnTo>
                          <a:pt x="94" y="24"/>
                        </a:lnTo>
                        <a:lnTo>
                          <a:pt x="114" y="13"/>
                        </a:lnTo>
                        <a:lnTo>
                          <a:pt x="134" y="5"/>
                        </a:lnTo>
                        <a:lnTo>
                          <a:pt x="154" y="0"/>
                        </a:lnTo>
                        <a:lnTo>
                          <a:pt x="172" y="0"/>
                        </a:lnTo>
                        <a:lnTo>
                          <a:pt x="188" y="5"/>
                        </a:lnTo>
                        <a:lnTo>
                          <a:pt x="201" y="13"/>
                        </a:lnTo>
                        <a:lnTo>
                          <a:pt x="210" y="26"/>
                        </a:lnTo>
                        <a:lnTo>
                          <a:pt x="215" y="41"/>
                        </a:lnTo>
                        <a:lnTo>
                          <a:pt x="216" y="59"/>
                        </a:lnTo>
                        <a:lnTo>
                          <a:pt x="212" y="79"/>
                        </a:lnTo>
                        <a:lnTo>
                          <a:pt x="205" y="99"/>
                        </a:lnTo>
                        <a:lnTo>
                          <a:pt x="195" y="120"/>
                        </a:lnTo>
                        <a:lnTo>
                          <a:pt x="180" y="142"/>
                        </a:lnTo>
                        <a:lnTo>
                          <a:pt x="163" y="16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5" name=""/>
                <p:cNvSpPr/>
                <p:nvPr/>
              </p:nvSpPr>
              <p:spPr>
                <a:xfrm>
                  <a:off x="2286000" y="2785680"/>
                  <a:ext cx="9000" cy="27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935720" y="2649960"/>
                <a:ext cx="335160" cy="530640"/>
                <a:chOff x="1935720" y="2649960"/>
                <a:chExt cx="335160" cy="530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935720" y="2649960"/>
                  <a:ext cx="282240" cy="469080"/>
                </a:xfrm>
                <a:custGeom>
                  <a:avLst/>
                  <a:gdLst/>
                  <a:ahLst/>
                  <a:rect l="l" t="t" r="r" b="b"/>
                  <a:pathLst>
                    <a:path w="1395" h="1737">
                      <a:moveTo>
                        <a:pt x="1377" y="379"/>
                      </a:moveTo>
                      <a:lnTo>
                        <a:pt x="1367" y="379"/>
                      </a:lnTo>
                      <a:lnTo>
                        <a:pt x="1357" y="379"/>
                      </a:lnTo>
                      <a:lnTo>
                        <a:pt x="1347" y="379"/>
                      </a:lnTo>
                      <a:lnTo>
                        <a:pt x="1338" y="379"/>
                      </a:lnTo>
                      <a:lnTo>
                        <a:pt x="1327" y="379"/>
                      </a:lnTo>
                      <a:lnTo>
                        <a:pt x="1318" y="379"/>
                      </a:lnTo>
                      <a:lnTo>
                        <a:pt x="1308" y="379"/>
                      </a:lnTo>
                      <a:lnTo>
                        <a:pt x="1299" y="379"/>
                      </a:lnTo>
                      <a:lnTo>
                        <a:pt x="1304" y="374"/>
                      </a:lnTo>
                      <a:lnTo>
                        <a:pt x="1309" y="370"/>
                      </a:lnTo>
                      <a:lnTo>
                        <a:pt x="1316" y="364"/>
                      </a:lnTo>
                      <a:lnTo>
                        <a:pt x="1321" y="359"/>
                      </a:lnTo>
                      <a:lnTo>
                        <a:pt x="1327" y="355"/>
                      </a:lnTo>
                      <a:lnTo>
                        <a:pt x="1333" y="351"/>
                      </a:lnTo>
                      <a:lnTo>
                        <a:pt x="1339" y="348"/>
                      </a:lnTo>
                      <a:lnTo>
                        <a:pt x="1346" y="344"/>
                      </a:lnTo>
                      <a:lnTo>
                        <a:pt x="1353" y="341"/>
                      </a:lnTo>
                      <a:lnTo>
                        <a:pt x="1357" y="335"/>
                      </a:lnTo>
                      <a:lnTo>
                        <a:pt x="1359" y="328"/>
                      </a:lnTo>
                      <a:lnTo>
                        <a:pt x="1358" y="321"/>
                      </a:lnTo>
                      <a:lnTo>
                        <a:pt x="1355" y="315"/>
                      </a:lnTo>
                      <a:lnTo>
                        <a:pt x="1348" y="310"/>
                      </a:lnTo>
                      <a:lnTo>
                        <a:pt x="1342" y="309"/>
                      </a:lnTo>
                      <a:lnTo>
                        <a:pt x="1335" y="309"/>
                      </a:lnTo>
                      <a:lnTo>
                        <a:pt x="1325" y="314"/>
                      </a:lnTo>
                      <a:lnTo>
                        <a:pt x="1317" y="318"/>
                      </a:lnTo>
                      <a:lnTo>
                        <a:pt x="1308" y="324"/>
                      </a:lnTo>
                      <a:lnTo>
                        <a:pt x="1301" y="330"/>
                      </a:lnTo>
                      <a:lnTo>
                        <a:pt x="1293" y="336"/>
                      </a:lnTo>
                      <a:lnTo>
                        <a:pt x="1286" y="343"/>
                      </a:lnTo>
                      <a:lnTo>
                        <a:pt x="1278" y="350"/>
                      </a:lnTo>
                      <a:lnTo>
                        <a:pt x="1270" y="356"/>
                      </a:lnTo>
                      <a:lnTo>
                        <a:pt x="1271" y="339"/>
                      </a:lnTo>
                      <a:lnTo>
                        <a:pt x="1275" y="322"/>
                      </a:lnTo>
                      <a:lnTo>
                        <a:pt x="1281" y="305"/>
                      </a:lnTo>
                      <a:lnTo>
                        <a:pt x="1284" y="288"/>
                      </a:lnTo>
                      <a:lnTo>
                        <a:pt x="1285" y="281"/>
                      </a:lnTo>
                      <a:lnTo>
                        <a:pt x="1283" y="274"/>
                      </a:lnTo>
                      <a:lnTo>
                        <a:pt x="1278" y="270"/>
                      </a:lnTo>
                      <a:lnTo>
                        <a:pt x="1271" y="267"/>
                      </a:lnTo>
                      <a:lnTo>
                        <a:pt x="1264" y="267"/>
                      </a:lnTo>
                      <a:lnTo>
                        <a:pt x="1257" y="269"/>
                      </a:lnTo>
                      <a:lnTo>
                        <a:pt x="1252" y="273"/>
                      </a:lnTo>
                      <a:lnTo>
                        <a:pt x="1249" y="280"/>
                      </a:lnTo>
                      <a:lnTo>
                        <a:pt x="1244" y="302"/>
                      </a:lnTo>
                      <a:lnTo>
                        <a:pt x="1238" y="323"/>
                      </a:lnTo>
                      <a:lnTo>
                        <a:pt x="1235" y="345"/>
                      </a:lnTo>
                      <a:lnTo>
                        <a:pt x="1236" y="369"/>
                      </a:lnTo>
                      <a:lnTo>
                        <a:pt x="1214" y="369"/>
                      </a:lnTo>
                      <a:lnTo>
                        <a:pt x="1192" y="371"/>
                      </a:lnTo>
                      <a:lnTo>
                        <a:pt x="1170" y="373"/>
                      </a:lnTo>
                      <a:lnTo>
                        <a:pt x="1147" y="377"/>
                      </a:lnTo>
                      <a:lnTo>
                        <a:pt x="1125" y="381"/>
                      </a:lnTo>
                      <a:lnTo>
                        <a:pt x="1103" y="388"/>
                      </a:lnTo>
                      <a:lnTo>
                        <a:pt x="1082" y="394"/>
                      </a:lnTo>
                      <a:lnTo>
                        <a:pt x="1060" y="400"/>
                      </a:lnTo>
                      <a:lnTo>
                        <a:pt x="1038" y="409"/>
                      </a:lnTo>
                      <a:lnTo>
                        <a:pt x="1016" y="416"/>
                      </a:lnTo>
                      <a:lnTo>
                        <a:pt x="995" y="425"/>
                      </a:lnTo>
                      <a:lnTo>
                        <a:pt x="974" y="433"/>
                      </a:lnTo>
                      <a:lnTo>
                        <a:pt x="953" y="442"/>
                      </a:lnTo>
                      <a:lnTo>
                        <a:pt x="931" y="450"/>
                      </a:lnTo>
                      <a:lnTo>
                        <a:pt x="910" y="459"/>
                      </a:lnTo>
                      <a:lnTo>
                        <a:pt x="889" y="467"/>
                      </a:lnTo>
                      <a:lnTo>
                        <a:pt x="886" y="460"/>
                      </a:lnTo>
                      <a:lnTo>
                        <a:pt x="883" y="452"/>
                      </a:lnTo>
                      <a:lnTo>
                        <a:pt x="880" y="446"/>
                      </a:lnTo>
                      <a:lnTo>
                        <a:pt x="876" y="439"/>
                      </a:lnTo>
                      <a:lnTo>
                        <a:pt x="875" y="438"/>
                      </a:lnTo>
                      <a:lnTo>
                        <a:pt x="875" y="436"/>
                      </a:lnTo>
                      <a:lnTo>
                        <a:pt x="874" y="435"/>
                      </a:lnTo>
                      <a:lnTo>
                        <a:pt x="873" y="434"/>
                      </a:lnTo>
                      <a:lnTo>
                        <a:pt x="879" y="424"/>
                      </a:lnTo>
                      <a:lnTo>
                        <a:pt x="884" y="413"/>
                      </a:lnTo>
                      <a:lnTo>
                        <a:pt x="888" y="403"/>
                      </a:lnTo>
                      <a:lnTo>
                        <a:pt x="893" y="392"/>
                      </a:lnTo>
                      <a:lnTo>
                        <a:pt x="901" y="370"/>
                      </a:lnTo>
                      <a:lnTo>
                        <a:pt x="906" y="345"/>
                      </a:lnTo>
                      <a:lnTo>
                        <a:pt x="909" y="322"/>
                      </a:lnTo>
                      <a:lnTo>
                        <a:pt x="910" y="298"/>
                      </a:lnTo>
                      <a:lnTo>
                        <a:pt x="908" y="274"/>
                      </a:lnTo>
                      <a:lnTo>
                        <a:pt x="904" y="251"/>
                      </a:lnTo>
                      <a:lnTo>
                        <a:pt x="897" y="229"/>
                      </a:lnTo>
                      <a:lnTo>
                        <a:pt x="886" y="208"/>
                      </a:lnTo>
                      <a:lnTo>
                        <a:pt x="890" y="201"/>
                      </a:lnTo>
                      <a:lnTo>
                        <a:pt x="895" y="196"/>
                      </a:lnTo>
                      <a:lnTo>
                        <a:pt x="902" y="194"/>
                      </a:lnTo>
                      <a:lnTo>
                        <a:pt x="909" y="192"/>
                      </a:lnTo>
                      <a:lnTo>
                        <a:pt x="917" y="193"/>
                      </a:lnTo>
                      <a:lnTo>
                        <a:pt x="924" y="195"/>
                      </a:lnTo>
                      <a:lnTo>
                        <a:pt x="930" y="198"/>
                      </a:lnTo>
                      <a:lnTo>
                        <a:pt x="937" y="202"/>
                      </a:lnTo>
                      <a:lnTo>
                        <a:pt x="947" y="211"/>
                      </a:lnTo>
                      <a:lnTo>
                        <a:pt x="949" y="212"/>
                      </a:lnTo>
                      <a:lnTo>
                        <a:pt x="952" y="213"/>
                      </a:lnTo>
                      <a:lnTo>
                        <a:pt x="954" y="214"/>
                      </a:lnTo>
                      <a:lnTo>
                        <a:pt x="957" y="214"/>
                      </a:lnTo>
                      <a:lnTo>
                        <a:pt x="961" y="214"/>
                      </a:lnTo>
                      <a:lnTo>
                        <a:pt x="964" y="214"/>
                      </a:lnTo>
                      <a:lnTo>
                        <a:pt x="966" y="213"/>
                      </a:lnTo>
                      <a:lnTo>
                        <a:pt x="970" y="211"/>
                      </a:lnTo>
                      <a:lnTo>
                        <a:pt x="972" y="210"/>
                      </a:lnTo>
                      <a:lnTo>
                        <a:pt x="977" y="206"/>
                      </a:lnTo>
                      <a:lnTo>
                        <a:pt x="984" y="198"/>
                      </a:lnTo>
                      <a:lnTo>
                        <a:pt x="990" y="190"/>
                      </a:lnTo>
                      <a:lnTo>
                        <a:pt x="994" y="181"/>
                      </a:lnTo>
                      <a:lnTo>
                        <a:pt x="1001" y="175"/>
                      </a:lnTo>
                      <a:lnTo>
                        <a:pt x="1007" y="174"/>
                      </a:lnTo>
                      <a:lnTo>
                        <a:pt x="1011" y="174"/>
                      </a:lnTo>
                      <a:lnTo>
                        <a:pt x="1015" y="175"/>
                      </a:lnTo>
                      <a:lnTo>
                        <a:pt x="1019" y="177"/>
                      </a:lnTo>
                      <a:lnTo>
                        <a:pt x="1024" y="180"/>
                      </a:lnTo>
                      <a:lnTo>
                        <a:pt x="1028" y="183"/>
                      </a:lnTo>
                      <a:lnTo>
                        <a:pt x="1033" y="185"/>
                      </a:lnTo>
                      <a:lnTo>
                        <a:pt x="1037" y="187"/>
                      </a:lnTo>
                      <a:lnTo>
                        <a:pt x="1051" y="193"/>
                      </a:lnTo>
                      <a:lnTo>
                        <a:pt x="1054" y="194"/>
                      </a:lnTo>
                      <a:lnTo>
                        <a:pt x="1057" y="194"/>
                      </a:lnTo>
                      <a:lnTo>
                        <a:pt x="1061" y="194"/>
                      </a:lnTo>
                      <a:lnTo>
                        <a:pt x="1064" y="193"/>
                      </a:lnTo>
                      <a:lnTo>
                        <a:pt x="1073" y="190"/>
                      </a:lnTo>
                      <a:lnTo>
                        <a:pt x="1076" y="189"/>
                      </a:lnTo>
                      <a:lnTo>
                        <a:pt x="1079" y="188"/>
                      </a:lnTo>
                      <a:lnTo>
                        <a:pt x="1080" y="185"/>
                      </a:lnTo>
                      <a:lnTo>
                        <a:pt x="1082" y="183"/>
                      </a:lnTo>
                      <a:lnTo>
                        <a:pt x="1089" y="175"/>
                      </a:lnTo>
                      <a:lnTo>
                        <a:pt x="1091" y="171"/>
                      </a:lnTo>
                      <a:lnTo>
                        <a:pt x="1093" y="167"/>
                      </a:lnTo>
                      <a:lnTo>
                        <a:pt x="1094" y="164"/>
                      </a:lnTo>
                      <a:lnTo>
                        <a:pt x="1097" y="160"/>
                      </a:lnTo>
                      <a:lnTo>
                        <a:pt x="1101" y="158"/>
                      </a:lnTo>
                      <a:lnTo>
                        <a:pt x="1104" y="157"/>
                      </a:lnTo>
                      <a:lnTo>
                        <a:pt x="1110" y="157"/>
                      </a:lnTo>
                      <a:lnTo>
                        <a:pt x="1117" y="158"/>
                      </a:lnTo>
                      <a:lnTo>
                        <a:pt x="1123" y="160"/>
                      </a:lnTo>
                      <a:lnTo>
                        <a:pt x="1130" y="162"/>
                      </a:lnTo>
                      <a:lnTo>
                        <a:pt x="1137" y="164"/>
                      </a:lnTo>
                      <a:lnTo>
                        <a:pt x="1143" y="166"/>
                      </a:lnTo>
                      <a:lnTo>
                        <a:pt x="1149" y="167"/>
                      </a:lnTo>
                      <a:lnTo>
                        <a:pt x="1156" y="167"/>
                      </a:lnTo>
                      <a:lnTo>
                        <a:pt x="1163" y="169"/>
                      </a:lnTo>
                      <a:lnTo>
                        <a:pt x="1167" y="169"/>
                      </a:lnTo>
                      <a:lnTo>
                        <a:pt x="1171" y="167"/>
                      </a:lnTo>
                      <a:lnTo>
                        <a:pt x="1175" y="165"/>
                      </a:lnTo>
                      <a:lnTo>
                        <a:pt x="1178" y="163"/>
                      </a:lnTo>
                      <a:lnTo>
                        <a:pt x="1183" y="156"/>
                      </a:lnTo>
                      <a:lnTo>
                        <a:pt x="1190" y="151"/>
                      </a:lnTo>
                      <a:lnTo>
                        <a:pt x="1195" y="146"/>
                      </a:lnTo>
                      <a:lnTo>
                        <a:pt x="1200" y="141"/>
                      </a:lnTo>
                      <a:lnTo>
                        <a:pt x="1206" y="137"/>
                      </a:lnTo>
                      <a:lnTo>
                        <a:pt x="1212" y="135"/>
                      </a:lnTo>
                      <a:lnTo>
                        <a:pt x="1212" y="135"/>
                      </a:lnTo>
                      <a:lnTo>
                        <a:pt x="1216" y="137"/>
                      </a:lnTo>
                      <a:lnTo>
                        <a:pt x="1220" y="140"/>
                      </a:lnTo>
                      <a:lnTo>
                        <a:pt x="1225" y="142"/>
                      </a:lnTo>
                      <a:lnTo>
                        <a:pt x="1230" y="143"/>
                      </a:lnTo>
                      <a:lnTo>
                        <a:pt x="1234" y="145"/>
                      </a:lnTo>
                      <a:lnTo>
                        <a:pt x="1239" y="146"/>
                      </a:lnTo>
                      <a:lnTo>
                        <a:pt x="1244" y="146"/>
                      </a:lnTo>
                      <a:lnTo>
                        <a:pt x="1249" y="147"/>
                      </a:lnTo>
                      <a:lnTo>
                        <a:pt x="1256" y="146"/>
                      </a:lnTo>
                      <a:lnTo>
                        <a:pt x="1263" y="143"/>
                      </a:lnTo>
                      <a:lnTo>
                        <a:pt x="1267" y="138"/>
                      </a:lnTo>
                      <a:lnTo>
                        <a:pt x="1269" y="131"/>
                      </a:lnTo>
                      <a:lnTo>
                        <a:pt x="1268" y="124"/>
                      </a:lnTo>
                      <a:lnTo>
                        <a:pt x="1265" y="118"/>
                      </a:lnTo>
                      <a:lnTo>
                        <a:pt x="1260" y="113"/>
                      </a:lnTo>
                      <a:lnTo>
                        <a:pt x="1252" y="111"/>
                      </a:lnTo>
                      <a:lnTo>
                        <a:pt x="1250" y="111"/>
                      </a:lnTo>
                      <a:lnTo>
                        <a:pt x="1247" y="110"/>
                      </a:lnTo>
                      <a:lnTo>
                        <a:pt x="1245" y="110"/>
                      </a:lnTo>
                      <a:lnTo>
                        <a:pt x="1242" y="109"/>
                      </a:lnTo>
                      <a:lnTo>
                        <a:pt x="1220" y="100"/>
                      </a:lnTo>
                      <a:lnTo>
                        <a:pt x="1218" y="99"/>
                      </a:lnTo>
                      <a:lnTo>
                        <a:pt x="1216" y="98"/>
                      </a:lnTo>
                      <a:lnTo>
                        <a:pt x="1213" y="98"/>
                      </a:lnTo>
                      <a:lnTo>
                        <a:pt x="1211" y="99"/>
                      </a:lnTo>
                      <a:lnTo>
                        <a:pt x="1195" y="102"/>
                      </a:lnTo>
                      <a:lnTo>
                        <a:pt x="1190" y="105"/>
                      </a:lnTo>
                      <a:lnTo>
                        <a:pt x="1184" y="108"/>
                      </a:lnTo>
                      <a:lnTo>
                        <a:pt x="1180" y="111"/>
                      </a:lnTo>
                      <a:lnTo>
                        <a:pt x="1176" y="115"/>
                      </a:lnTo>
                      <a:lnTo>
                        <a:pt x="1159" y="131"/>
                      </a:lnTo>
                      <a:lnTo>
                        <a:pt x="1157" y="131"/>
                      </a:lnTo>
                      <a:lnTo>
                        <a:pt x="1157" y="131"/>
                      </a:lnTo>
                      <a:lnTo>
                        <a:pt x="1153" y="131"/>
                      </a:lnTo>
                      <a:lnTo>
                        <a:pt x="1147" y="130"/>
                      </a:lnTo>
                      <a:lnTo>
                        <a:pt x="1143" y="128"/>
                      </a:lnTo>
                      <a:lnTo>
                        <a:pt x="1139" y="127"/>
                      </a:lnTo>
                      <a:lnTo>
                        <a:pt x="1135" y="125"/>
                      </a:lnTo>
                      <a:lnTo>
                        <a:pt x="1130" y="124"/>
                      </a:lnTo>
                      <a:lnTo>
                        <a:pt x="1125" y="123"/>
                      </a:lnTo>
                      <a:lnTo>
                        <a:pt x="1121" y="122"/>
                      </a:lnTo>
                      <a:lnTo>
                        <a:pt x="1088" y="123"/>
                      </a:lnTo>
                      <a:lnTo>
                        <a:pt x="1086" y="124"/>
                      </a:lnTo>
                      <a:lnTo>
                        <a:pt x="1084" y="125"/>
                      </a:lnTo>
                      <a:lnTo>
                        <a:pt x="1082" y="127"/>
                      </a:lnTo>
                      <a:lnTo>
                        <a:pt x="1080" y="128"/>
                      </a:lnTo>
                      <a:lnTo>
                        <a:pt x="1075" y="134"/>
                      </a:lnTo>
                      <a:lnTo>
                        <a:pt x="1072" y="137"/>
                      </a:lnTo>
                      <a:lnTo>
                        <a:pt x="1069" y="140"/>
                      </a:lnTo>
                      <a:lnTo>
                        <a:pt x="1067" y="144"/>
                      </a:lnTo>
                      <a:lnTo>
                        <a:pt x="1065" y="147"/>
                      </a:lnTo>
                      <a:lnTo>
                        <a:pt x="1057" y="156"/>
                      </a:lnTo>
                      <a:lnTo>
                        <a:pt x="1051" y="154"/>
                      </a:lnTo>
                      <a:lnTo>
                        <a:pt x="1039" y="147"/>
                      </a:lnTo>
                      <a:lnTo>
                        <a:pt x="1027" y="143"/>
                      </a:lnTo>
                      <a:lnTo>
                        <a:pt x="1014" y="141"/>
                      </a:lnTo>
                      <a:lnTo>
                        <a:pt x="1001" y="140"/>
                      </a:lnTo>
                      <a:lnTo>
                        <a:pt x="990" y="142"/>
                      </a:lnTo>
                      <a:lnTo>
                        <a:pt x="978" y="147"/>
                      </a:lnTo>
                      <a:lnTo>
                        <a:pt x="969" y="156"/>
                      </a:lnTo>
                      <a:lnTo>
                        <a:pt x="960" y="167"/>
                      </a:lnTo>
                      <a:lnTo>
                        <a:pt x="957" y="173"/>
                      </a:lnTo>
                      <a:lnTo>
                        <a:pt x="956" y="173"/>
                      </a:lnTo>
                      <a:lnTo>
                        <a:pt x="945" y="164"/>
                      </a:lnTo>
                      <a:lnTo>
                        <a:pt x="934" y="159"/>
                      </a:lnTo>
                      <a:lnTo>
                        <a:pt x="921" y="156"/>
                      </a:lnTo>
                      <a:lnTo>
                        <a:pt x="907" y="156"/>
                      </a:lnTo>
                      <a:lnTo>
                        <a:pt x="894" y="158"/>
                      </a:lnTo>
                      <a:lnTo>
                        <a:pt x="882" y="162"/>
                      </a:lnTo>
                      <a:lnTo>
                        <a:pt x="871" y="170"/>
                      </a:lnTo>
                      <a:lnTo>
                        <a:pt x="862" y="178"/>
                      </a:lnTo>
                      <a:lnTo>
                        <a:pt x="857" y="174"/>
                      </a:lnTo>
                      <a:lnTo>
                        <a:pt x="854" y="171"/>
                      </a:lnTo>
                      <a:lnTo>
                        <a:pt x="850" y="166"/>
                      </a:lnTo>
                      <a:lnTo>
                        <a:pt x="846" y="163"/>
                      </a:lnTo>
                      <a:lnTo>
                        <a:pt x="833" y="155"/>
                      </a:lnTo>
                      <a:lnTo>
                        <a:pt x="820" y="146"/>
                      </a:lnTo>
                      <a:lnTo>
                        <a:pt x="808" y="139"/>
                      </a:lnTo>
                      <a:lnTo>
                        <a:pt x="794" y="133"/>
                      </a:lnTo>
                      <a:lnTo>
                        <a:pt x="780" y="126"/>
                      </a:lnTo>
                      <a:lnTo>
                        <a:pt x="766" y="122"/>
                      </a:lnTo>
                      <a:lnTo>
                        <a:pt x="753" y="118"/>
                      </a:lnTo>
                      <a:lnTo>
                        <a:pt x="738" y="116"/>
                      </a:lnTo>
                      <a:lnTo>
                        <a:pt x="734" y="115"/>
                      </a:lnTo>
                      <a:lnTo>
                        <a:pt x="729" y="113"/>
                      </a:lnTo>
                      <a:lnTo>
                        <a:pt x="725" y="112"/>
                      </a:lnTo>
                      <a:lnTo>
                        <a:pt x="722" y="111"/>
                      </a:lnTo>
                      <a:lnTo>
                        <a:pt x="718" y="110"/>
                      </a:lnTo>
                      <a:lnTo>
                        <a:pt x="713" y="108"/>
                      </a:lnTo>
                      <a:lnTo>
                        <a:pt x="709" y="107"/>
                      </a:lnTo>
                      <a:lnTo>
                        <a:pt x="705" y="106"/>
                      </a:lnTo>
                      <a:lnTo>
                        <a:pt x="707" y="105"/>
                      </a:lnTo>
                      <a:lnTo>
                        <a:pt x="710" y="105"/>
                      </a:lnTo>
                      <a:lnTo>
                        <a:pt x="712" y="104"/>
                      </a:lnTo>
                      <a:lnTo>
                        <a:pt x="716" y="104"/>
                      </a:lnTo>
                      <a:lnTo>
                        <a:pt x="722" y="104"/>
                      </a:lnTo>
                      <a:lnTo>
                        <a:pt x="727" y="105"/>
                      </a:lnTo>
                      <a:lnTo>
                        <a:pt x="734" y="106"/>
                      </a:lnTo>
                      <a:lnTo>
                        <a:pt x="740" y="107"/>
                      </a:lnTo>
                      <a:lnTo>
                        <a:pt x="746" y="108"/>
                      </a:lnTo>
                      <a:lnTo>
                        <a:pt x="753" y="109"/>
                      </a:lnTo>
                      <a:lnTo>
                        <a:pt x="759" y="109"/>
                      </a:lnTo>
                      <a:lnTo>
                        <a:pt x="765" y="110"/>
                      </a:lnTo>
                      <a:lnTo>
                        <a:pt x="772" y="110"/>
                      </a:lnTo>
                      <a:lnTo>
                        <a:pt x="777" y="109"/>
                      </a:lnTo>
                      <a:lnTo>
                        <a:pt x="782" y="107"/>
                      </a:lnTo>
                      <a:lnTo>
                        <a:pt x="786" y="103"/>
                      </a:lnTo>
                      <a:lnTo>
                        <a:pt x="789" y="98"/>
                      </a:lnTo>
                      <a:lnTo>
                        <a:pt x="789" y="97"/>
                      </a:lnTo>
                      <a:lnTo>
                        <a:pt x="791" y="94"/>
                      </a:lnTo>
                      <a:lnTo>
                        <a:pt x="793" y="91"/>
                      </a:lnTo>
                      <a:lnTo>
                        <a:pt x="794" y="88"/>
                      </a:lnTo>
                      <a:lnTo>
                        <a:pt x="796" y="84"/>
                      </a:lnTo>
                      <a:lnTo>
                        <a:pt x="801" y="84"/>
                      </a:lnTo>
                      <a:lnTo>
                        <a:pt x="808" y="84"/>
                      </a:lnTo>
                      <a:lnTo>
                        <a:pt x="813" y="85"/>
                      </a:lnTo>
                      <a:lnTo>
                        <a:pt x="818" y="86"/>
                      </a:lnTo>
                      <a:lnTo>
                        <a:pt x="824" y="87"/>
                      </a:lnTo>
                      <a:lnTo>
                        <a:pt x="830" y="87"/>
                      </a:lnTo>
                      <a:lnTo>
                        <a:pt x="835" y="88"/>
                      </a:lnTo>
                      <a:lnTo>
                        <a:pt x="840" y="89"/>
                      </a:lnTo>
                      <a:lnTo>
                        <a:pt x="854" y="91"/>
                      </a:lnTo>
                      <a:lnTo>
                        <a:pt x="858" y="91"/>
                      </a:lnTo>
                      <a:lnTo>
                        <a:pt x="863" y="90"/>
                      </a:lnTo>
                      <a:lnTo>
                        <a:pt x="867" y="89"/>
                      </a:lnTo>
                      <a:lnTo>
                        <a:pt x="870" y="86"/>
                      </a:lnTo>
                      <a:lnTo>
                        <a:pt x="879" y="74"/>
                      </a:lnTo>
                      <a:lnTo>
                        <a:pt x="879" y="72"/>
                      </a:lnTo>
                      <a:lnTo>
                        <a:pt x="880" y="70"/>
                      </a:lnTo>
                      <a:lnTo>
                        <a:pt x="880" y="67"/>
                      </a:lnTo>
                      <a:lnTo>
                        <a:pt x="880" y="66"/>
                      </a:lnTo>
                      <a:lnTo>
                        <a:pt x="887" y="66"/>
                      </a:lnTo>
                      <a:lnTo>
                        <a:pt x="894" y="66"/>
                      </a:lnTo>
                      <a:lnTo>
                        <a:pt x="901" y="66"/>
                      </a:lnTo>
                      <a:lnTo>
                        <a:pt x="908" y="66"/>
                      </a:lnTo>
                      <a:lnTo>
                        <a:pt x="916" y="66"/>
                      </a:lnTo>
                      <a:lnTo>
                        <a:pt x="923" y="66"/>
                      </a:lnTo>
                      <a:lnTo>
                        <a:pt x="929" y="66"/>
                      </a:lnTo>
                      <a:lnTo>
                        <a:pt x="937" y="66"/>
                      </a:lnTo>
                      <a:lnTo>
                        <a:pt x="942" y="66"/>
                      </a:lnTo>
                      <a:lnTo>
                        <a:pt x="946" y="65"/>
                      </a:lnTo>
                      <a:lnTo>
                        <a:pt x="949" y="64"/>
                      </a:lnTo>
                      <a:lnTo>
                        <a:pt x="953" y="62"/>
                      </a:lnTo>
                      <a:lnTo>
                        <a:pt x="956" y="58"/>
                      </a:lnTo>
                      <a:lnTo>
                        <a:pt x="963" y="50"/>
                      </a:lnTo>
                      <a:lnTo>
                        <a:pt x="964" y="48"/>
                      </a:lnTo>
                      <a:lnTo>
                        <a:pt x="965" y="45"/>
                      </a:lnTo>
                      <a:lnTo>
                        <a:pt x="966" y="44"/>
                      </a:lnTo>
                      <a:lnTo>
                        <a:pt x="966" y="42"/>
                      </a:lnTo>
                      <a:lnTo>
                        <a:pt x="974" y="42"/>
                      </a:lnTo>
                      <a:lnTo>
                        <a:pt x="981" y="44"/>
                      </a:lnTo>
                      <a:lnTo>
                        <a:pt x="990" y="44"/>
                      </a:lnTo>
                      <a:lnTo>
                        <a:pt x="997" y="45"/>
                      </a:lnTo>
                      <a:lnTo>
                        <a:pt x="1004" y="45"/>
                      </a:lnTo>
                      <a:lnTo>
                        <a:pt x="1012" y="42"/>
                      </a:lnTo>
                      <a:lnTo>
                        <a:pt x="1019" y="38"/>
                      </a:lnTo>
                      <a:lnTo>
                        <a:pt x="1027" y="31"/>
                      </a:lnTo>
                      <a:lnTo>
                        <a:pt x="1031" y="24"/>
                      </a:lnTo>
                      <a:lnTo>
                        <a:pt x="1032" y="18"/>
                      </a:lnTo>
                      <a:lnTo>
                        <a:pt x="1030" y="11"/>
                      </a:lnTo>
                      <a:lnTo>
                        <a:pt x="1026" y="5"/>
                      </a:lnTo>
                      <a:lnTo>
                        <a:pt x="1020" y="1"/>
                      </a:lnTo>
                      <a:lnTo>
                        <a:pt x="1013" y="0"/>
                      </a:lnTo>
                      <a:lnTo>
                        <a:pt x="1007" y="2"/>
                      </a:lnTo>
                      <a:lnTo>
                        <a:pt x="1000" y="6"/>
                      </a:lnTo>
                      <a:lnTo>
                        <a:pt x="1002" y="8"/>
                      </a:lnTo>
                      <a:lnTo>
                        <a:pt x="1004" y="9"/>
                      </a:lnTo>
                      <a:lnTo>
                        <a:pt x="1007" y="10"/>
                      </a:lnTo>
                      <a:lnTo>
                        <a:pt x="1009" y="11"/>
                      </a:lnTo>
                      <a:lnTo>
                        <a:pt x="1002" y="10"/>
                      </a:lnTo>
                      <a:lnTo>
                        <a:pt x="997" y="9"/>
                      </a:lnTo>
                      <a:lnTo>
                        <a:pt x="991" y="8"/>
                      </a:lnTo>
                      <a:lnTo>
                        <a:pt x="985" y="8"/>
                      </a:lnTo>
                      <a:lnTo>
                        <a:pt x="980" y="6"/>
                      </a:lnTo>
                      <a:lnTo>
                        <a:pt x="974" y="6"/>
                      </a:lnTo>
                      <a:lnTo>
                        <a:pt x="969" y="8"/>
                      </a:lnTo>
                      <a:lnTo>
                        <a:pt x="962" y="8"/>
                      </a:lnTo>
                      <a:lnTo>
                        <a:pt x="946" y="13"/>
                      </a:lnTo>
                      <a:lnTo>
                        <a:pt x="943" y="14"/>
                      </a:lnTo>
                      <a:lnTo>
                        <a:pt x="941" y="16"/>
                      </a:lnTo>
                      <a:lnTo>
                        <a:pt x="940" y="18"/>
                      </a:lnTo>
                      <a:lnTo>
                        <a:pt x="938" y="21"/>
                      </a:lnTo>
                      <a:lnTo>
                        <a:pt x="934" y="30"/>
                      </a:lnTo>
                      <a:lnTo>
                        <a:pt x="927" y="30"/>
                      </a:lnTo>
                      <a:lnTo>
                        <a:pt x="922" y="30"/>
                      </a:lnTo>
                      <a:lnTo>
                        <a:pt x="917" y="30"/>
                      </a:lnTo>
                      <a:lnTo>
                        <a:pt x="911" y="30"/>
                      </a:lnTo>
                      <a:lnTo>
                        <a:pt x="907" y="30"/>
                      </a:lnTo>
                      <a:lnTo>
                        <a:pt x="902" y="30"/>
                      </a:lnTo>
                      <a:lnTo>
                        <a:pt x="897" y="30"/>
                      </a:lnTo>
                      <a:lnTo>
                        <a:pt x="892" y="30"/>
                      </a:lnTo>
                      <a:lnTo>
                        <a:pt x="887" y="30"/>
                      </a:lnTo>
                      <a:lnTo>
                        <a:pt x="869" y="31"/>
                      </a:lnTo>
                      <a:lnTo>
                        <a:pt x="866" y="31"/>
                      </a:lnTo>
                      <a:lnTo>
                        <a:pt x="863" y="32"/>
                      </a:lnTo>
                      <a:lnTo>
                        <a:pt x="860" y="34"/>
                      </a:lnTo>
                      <a:lnTo>
                        <a:pt x="857" y="35"/>
                      </a:lnTo>
                      <a:lnTo>
                        <a:pt x="852" y="40"/>
                      </a:lnTo>
                      <a:lnTo>
                        <a:pt x="850" y="42"/>
                      </a:lnTo>
                      <a:lnTo>
                        <a:pt x="848" y="46"/>
                      </a:lnTo>
                      <a:lnTo>
                        <a:pt x="847" y="49"/>
                      </a:lnTo>
                      <a:lnTo>
                        <a:pt x="847" y="52"/>
                      </a:lnTo>
                      <a:lnTo>
                        <a:pt x="846" y="54"/>
                      </a:lnTo>
                      <a:lnTo>
                        <a:pt x="846" y="54"/>
                      </a:lnTo>
                      <a:lnTo>
                        <a:pt x="839" y="53"/>
                      </a:lnTo>
                      <a:lnTo>
                        <a:pt x="834" y="52"/>
                      </a:lnTo>
                      <a:lnTo>
                        <a:pt x="828" y="51"/>
                      </a:lnTo>
                      <a:lnTo>
                        <a:pt x="821" y="50"/>
                      </a:lnTo>
                      <a:lnTo>
                        <a:pt x="816" y="49"/>
                      </a:lnTo>
                      <a:lnTo>
                        <a:pt x="810" y="49"/>
                      </a:lnTo>
                      <a:lnTo>
                        <a:pt x="803" y="48"/>
                      </a:lnTo>
                      <a:lnTo>
                        <a:pt x="797" y="48"/>
                      </a:lnTo>
                      <a:lnTo>
                        <a:pt x="782" y="49"/>
                      </a:lnTo>
                      <a:lnTo>
                        <a:pt x="779" y="50"/>
                      </a:lnTo>
                      <a:lnTo>
                        <a:pt x="776" y="52"/>
                      </a:lnTo>
                      <a:lnTo>
                        <a:pt x="773" y="54"/>
                      </a:lnTo>
                      <a:lnTo>
                        <a:pt x="771" y="57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5" y="67"/>
                      </a:lnTo>
                      <a:lnTo>
                        <a:pt x="762" y="74"/>
                      </a:lnTo>
                      <a:lnTo>
                        <a:pt x="761" y="73"/>
                      </a:lnTo>
                      <a:lnTo>
                        <a:pt x="761" y="73"/>
                      </a:lnTo>
                      <a:lnTo>
                        <a:pt x="746" y="70"/>
                      </a:lnTo>
                      <a:lnTo>
                        <a:pt x="731" y="69"/>
                      </a:lnTo>
                      <a:lnTo>
                        <a:pt x="717" y="69"/>
                      </a:lnTo>
                      <a:lnTo>
                        <a:pt x="703" y="71"/>
                      </a:lnTo>
                      <a:lnTo>
                        <a:pt x="688" y="75"/>
                      </a:lnTo>
                      <a:lnTo>
                        <a:pt x="675" y="82"/>
                      </a:lnTo>
                      <a:lnTo>
                        <a:pt x="664" y="91"/>
                      </a:lnTo>
                      <a:lnTo>
                        <a:pt x="653" y="103"/>
                      </a:lnTo>
                      <a:lnTo>
                        <a:pt x="633" y="109"/>
                      </a:lnTo>
                      <a:lnTo>
                        <a:pt x="614" y="118"/>
                      </a:lnTo>
                      <a:lnTo>
                        <a:pt x="597" y="128"/>
                      </a:lnTo>
                      <a:lnTo>
                        <a:pt x="580" y="142"/>
                      </a:lnTo>
                      <a:lnTo>
                        <a:pt x="565" y="157"/>
                      </a:lnTo>
                      <a:lnTo>
                        <a:pt x="550" y="172"/>
                      </a:lnTo>
                      <a:lnTo>
                        <a:pt x="537" y="189"/>
                      </a:lnTo>
                      <a:lnTo>
                        <a:pt x="523" y="205"/>
                      </a:lnTo>
                      <a:lnTo>
                        <a:pt x="510" y="221"/>
                      </a:lnTo>
                      <a:lnTo>
                        <a:pt x="500" y="238"/>
                      </a:lnTo>
                      <a:lnTo>
                        <a:pt x="491" y="257"/>
                      </a:lnTo>
                      <a:lnTo>
                        <a:pt x="484" y="277"/>
                      </a:lnTo>
                      <a:lnTo>
                        <a:pt x="479" y="296"/>
                      </a:lnTo>
                      <a:lnTo>
                        <a:pt x="475" y="315"/>
                      </a:lnTo>
                      <a:lnTo>
                        <a:pt x="473" y="335"/>
                      </a:lnTo>
                      <a:lnTo>
                        <a:pt x="472" y="355"/>
                      </a:lnTo>
                      <a:lnTo>
                        <a:pt x="476" y="367"/>
                      </a:lnTo>
                      <a:lnTo>
                        <a:pt x="481" y="378"/>
                      </a:lnTo>
                      <a:lnTo>
                        <a:pt x="486" y="389"/>
                      </a:lnTo>
                      <a:lnTo>
                        <a:pt x="492" y="399"/>
                      </a:lnTo>
                      <a:lnTo>
                        <a:pt x="500" y="410"/>
                      </a:lnTo>
                      <a:lnTo>
                        <a:pt x="506" y="418"/>
                      </a:lnTo>
                      <a:lnTo>
                        <a:pt x="515" y="428"/>
                      </a:lnTo>
                      <a:lnTo>
                        <a:pt x="523" y="436"/>
                      </a:lnTo>
                      <a:lnTo>
                        <a:pt x="522" y="439"/>
                      </a:lnTo>
                      <a:lnTo>
                        <a:pt x="522" y="440"/>
                      </a:lnTo>
                      <a:lnTo>
                        <a:pt x="521" y="442"/>
                      </a:lnTo>
                      <a:lnTo>
                        <a:pt x="520" y="444"/>
                      </a:lnTo>
                      <a:lnTo>
                        <a:pt x="520" y="451"/>
                      </a:lnTo>
                      <a:lnTo>
                        <a:pt x="520" y="459"/>
                      </a:lnTo>
                      <a:lnTo>
                        <a:pt x="520" y="467"/>
                      </a:lnTo>
                      <a:lnTo>
                        <a:pt x="519" y="475"/>
                      </a:lnTo>
                      <a:lnTo>
                        <a:pt x="505" y="471"/>
                      </a:lnTo>
                      <a:lnTo>
                        <a:pt x="492" y="468"/>
                      </a:lnTo>
                      <a:lnTo>
                        <a:pt x="479" y="465"/>
                      </a:lnTo>
                      <a:lnTo>
                        <a:pt x="466" y="462"/>
                      </a:lnTo>
                      <a:lnTo>
                        <a:pt x="452" y="460"/>
                      </a:lnTo>
                      <a:lnTo>
                        <a:pt x="438" y="457"/>
                      </a:lnTo>
                      <a:lnTo>
                        <a:pt x="425" y="455"/>
                      </a:lnTo>
                      <a:lnTo>
                        <a:pt x="412" y="452"/>
                      </a:lnTo>
                      <a:lnTo>
                        <a:pt x="398" y="451"/>
                      </a:lnTo>
                      <a:lnTo>
                        <a:pt x="384" y="449"/>
                      </a:lnTo>
                      <a:lnTo>
                        <a:pt x="371" y="448"/>
                      </a:lnTo>
                      <a:lnTo>
                        <a:pt x="358" y="448"/>
                      </a:lnTo>
                      <a:lnTo>
                        <a:pt x="344" y="448"/>
                      </a:lnTo>
                      <a:lnTo>
                        <a:pt x="330" y="448"/>
                      </a:lnTo>
                      <a:lnTo>
                        <a:pt x="317" y="448"/>
                      </a:lnTo>
                      <a:lnTo>
                        <a:pt x="303" y="449"/>
                      </a:lnTo>
                      <a:lnTo>
                        <a:pt x="282" y="452"/>
                      </a:lnTo>
                      <a:lnTo>
                        <a:pt x="262" y="457"/>
                      </a:lnTo>
                      <a:lnTo>
                        <a:pt x="241" y="464"/>
                      </a:lnTo>
                      <a:lnTo>
                        <a:pt x="222" y="471"/>
                      </a:lnTo>
                      <a:lnTo>
                        <a:pt x="204" y="481"/>
                      </a:lnTo>
                      <a:lnTo>
                        <a:pt x="185" y="491"/>
                      </a:lnTo>
                      <a:lnTo>
                        <a:pt x="167" y="500"/>
                      </a:lnTo>
                      <a:lnTo>
                        <a:pt x="148" y="510"/>
                      </a:lnTo>
                      <a:lnTo>
                        <a:pt x="135" y="503"/>
                      </a:lnTo>
                      <a:lnTo>
                        <a:pt x="121" y="497"/>
                      </a:lnTo>
                      <a:lnTo>
                        <a:pt x="107" y="493"/>
                      </a:lnTo>
                      <a:lnTo>
                        <a:pt x="92" y="488"/>
                      </a:lnTo>
                      <a:lnTo>
                        <a:pt x="76" y="486"/>
                      </a:lnTo>
                      <a:lnTo>
                        <a:pt x="62" y="487"/>
                      </a:lnTo>
                      <a:lnTo>
                        <a:pt x="46" y="491"/>
                      </a:lnTo>
                      <a:lnTo>
                        <a:pt x="30" y="497"/>
                      </a:lnTo>
                      <a:lnTo>
                        <a:pt x="26" y="502"/>
                      </a:lnTo>
                      <a:lnTo>
                        <a:pt x="23" y="509"/>
                      </a:lnTo>
                      <a:lnTo>
                        <a:pt x="23" y="516"/>
                      </a:lnTo>
                      <a:lnTo>
                        <a:pt x="26" y="522"/>
                      </a:lnTo>
                      <a:lnTo>
                        <a:pt x="31" y="527"/>
                      </a:lnTo>
                      <a:lnTo>
                        <a:pt x="38" y="529"/>
                      </a:lnTo>
                      <a:lnTo>
                        <a:pt x="45" y="529"/>
                      </a:lnTo>
                      <a:lnTo>
                        <a:pt x="51" y="525"/>
                      </a:lnTo>
                      <a:lnTo>
                        <a:pt x="58" y="524"/>
                      </a:lnTo>
                      <a:lnTo>
                        <a:pt x="66" y="524"/>
                      </a:lnTo>
                      <a:lnTo>
                        <a:pt x="73" y="524"/>
                      </a:lnTo>
                      <a:lnTo>
                        <a:pt x="81" y="524"/>
                      </a:lnTo>
                      <a:lnTo>
                        <a:pt x="88" y="525"/>
                      </a:lnTo>
                      <a:lnTo>
                        <a:pt x="95" y="527"/>
                      </a:lnTo>
                      <a:lnTo>
                        <a:pt x="103" y="529"/>
                      </a:lnTo>
                      <a:lnTo>
                        <a:pt x="109" y="531"/>
                      </a:lnTo>
                      <a:lnTo>
                        <a:pt x="96" y="535"/>
                      </a:lnTo>
                      <a:lnTo>
                        <a:pt x="84" y="539"/>
                      </a:lnTo>
                      <a:lnTo>
                        <a:pt x="71" y="543"/>
                      </a:lnTo>
                      <a:lnTo>
                        <a:pt x="58" y="548"/>
                      </a:lnTo>
                      <a:lnTo>
                        <a:pt x="47" y="553"/>
                      </a:lnTo>
                      <a:lnTo>
                        <a:pt x="34" y="558"/>
                      </a:lnTo>
                      <a:lnTo>
                        <a:pt x="22" y="564"/>
                      </a:lnTo>
                      <a:lnTo>
                        <a:pt x="11" y="570"/>
                      </a:lnTo>
                      <a:lnTo>
                        <a:pt x="4" y="574"/>
                      </a:lnTo>
                      <a:lnTo>
                        <a:pt x="1" y="579"/>
                      </a:lnTo>
                      <a:lnTo>
                        <a:pt x="0" y="587"/>
                      </a:lnTo>
                      <a:lnTo>
                        <a:pt x="2" y="593"/>
                      </a:lnTo>
                      <a:lnTo>
                        <a:pt x="7" y="600"/>
                      </a:lnTo>
                      <a:lnTo>
                        <a:pt x="13" y="603"/>
                      </a:lnTo>
                      <a:lnTo>
                        <a:pt x="19" y="604"/>
                      </a:lnTo>
                      <a:lnTo>
                        <a:pt x="26" y="602"/>
                      </a:lnTo>
                      <a:lnTo>
                        <a:pt x="35" y="596"/>
                      </a:lnTo>
                      <a:lnTo>
                        <a:pt x="46" y="592"/>
                      </a:lnTo>
                      <a:lnTo>
                        <a:pt x="55" y="588"/>
                      </a:lnTo>
                      <a:lnTo>
                        <a:pt x="66" y="584"/>
                      </a:lnTo>
                      <a:lnTo>
                        <a:pt x="76" y="579"/>
                      </a:lnTo>
                      <a:lnTo>
                        <a:pt x="87" y="575"/>
                      </a:lnTo>
                      <a:lnTo>
                        <a:pt x="96" y="572"/>
                      </a:lnTo>
                      <a:lnTo>
                        <a:pt x="107" y="569"/>
                      </a:lnTo>
                      <a:lnTo>
                        <a:pt x="101" y="578"/>
                      </a:lnTo>
                      <a:lnTo>
                        <a:pt x="94" y="589"/>
                      </a:lnTo>
                      <a:lnTo>
                        <a:pt x="87" y="599"/>
                      </a:lnTo>
                      <a:lnTo>
                        <a:pt x="81" y="609"/>
                      </a:lnTo>
                      <a:lnTo>
                        <a:pt x="74" y="620"/>
                      </a:lnTo>
                      <a:lnTo>
                        <a:pt x="69" y="630"/>
                      </a:lnTo>
                      <a:lnTo>
                        <a:pt x="64" y="641"/>
                      </a:lnTo>
                      <a:lnTo>
                        <a:pt x="59" y="653"/>
                      </a:lnTo>
                      <a:lnTo>
                        <a:pt x="58" y="660"/>
                      </a:lnTo>
                      <a:lnTo>
                        <a:pt x="59" y="666"/>
                      </a:lnTo>
                      <a:lnTo>
                        <a:pt x="64" y="673"/>
                      </a:lnTo>
                      <a:lnTo>
                        <a:pt x="69" y="676"/>
                      </a:lnTo>
                      <a:lnTo>
                        <a:pt x="76" y="678"/>
                      </a:lnTo>
                      <a:lnTo>
                        <a:pt x="83" y="676"/>
                      </a:lnTo>
                      <a:lnTo>
                        <a:pt x="89" y="673"/>
                      </a:lnTo>
                      <a:lnTo>
                        <a:pt x="92" y="666"/>
                      </a:lnTo>
                      <a:lnTo>
                        <a:pt x="98" y="654"/>
                      </a:lnTo>
                      <a:lnTo>
                        <a:pt x="103" y="641"/>
                      </a:lnTo>
                      <a:lnTo>
                        <a:pt x="110" y="629"/>
                      </a:lnTo>
                      <a:lnTo>
                        <a:pt x="118" y="618"/>
                      </a:lnTo>
                      <a:lnTo>
                        <a:pt x="125" y="607"/>
                      </a:lnTo>
                      <a:lnTo>
                        <a:pt x="132" y="595"/>
                      </a:lnTo>
                      <a:lnTo>
                        <a:pt x="140" y="584"/>
                      </a:lnTo>
                      <a:lnTo>
                        <a:pt x="147" y="572"/>
                      </a:lnTo>
                      <a:lnTo>
                        <a:pt x="149" y="568"/>
                      </a:lnTo>
                      <a:lnTo>
                        <a:pt x="150" y="563"/>
                      </a:lnTo>
                      <a:lnTo>
                        <a:pt x="149" y="558"/>
                      </a:lnTo>
                      <a:lnTo>
                        <a:pt x="147" y="553"/>
                      </a:lnTo>
                      <a:lnTo>
                        <a:pt x="148" y="551"/>
                      </a:lnTo>
                      <a:lnTo>
                        <a:pt x="149" y="550"/>
                      </a:lnTo>
                      <a:lnTo>
                        <a:pt x="150" y="548"/>
                      </a:lnTo>
                      <a:lnTo>
                        <a:pt x="152" y="546"/>
                      </a:lnTo>
                      <a:lnTo>
                        <a:pt x="153" y="546"/>
                      </a:lnTo>
                      <a:lnTo>
                        <a:pt x="154" y="546"/>
                      </a:lnTo>
                      <a:lnTo>
                        <a:pt x="155" y="546"/>
                      </a:lnTo>
                      <a:lnTo>
                        <a:pt x="156" y="546"/>
                      </a:lnTo>
                      <a:lnTo>
                        <a:pt x="174" y="537"/>
                      </a:lnTo>
                      <a:lnTo>
                        <a:pt x="192" y="528"/>
                      </a:lnTo>
                      <a:lnTo>
                        <a:pt x="210" y="519"/>
                      </a:lnTo>
                      <a:lnTo>
                        <a:pt x="228" y="510"/>
                      </a:lnTo>
                      <a:lnTo>
                        <a:pt x="246" y="501"/>
                      </a:lnTo>
                      <a:lnTo>
                        <a:pt x="264" y="495"/>
                      </a:lnTo>
                      <a:lnTo>
                        <a:pt x="283" y="488"/>
                      </a:lnTo>
                      <a:lnTo>
                        <a:pt x="303" y="485"/>
                      </a:lnTo>
                      <a:lnTo>
                        <a:pt x="316" y="484"/>
                      </a:lnTo>
                      <a:lnTo>
                        <a:pt x="329" y="483"/>
                      </a:lnTo>
                      <a:lnTo>
                        <a:pt x="342" y="483"/>
                      </a:lnTo>
                      <a:lnTo>
                        <a:pt x="355" y="483"/>
                      </a:lnTo>
                      <a:lnTo>
                        <a:pt x="368" y="484"/>
                      </a:lnTo>
                      <a:lnTo>
                        <a:pt x="381" y="485"/>
                      </a:lnTo>
                      <a:lnTo>
                        <a:pt x="394" y="486"/>
                      </a:lnTo>
                      <a:lnTo>
                        <a:pt x="408" y="488"/>
                      </a:lnTo>
                      <a:lnTo>
                        <a:pt x="420" y="491"/>
                      </a:lnTo>
                      <a:lnTo>
                        <a:pt x="433" y="493"/>
                      </a:lnTo>
                      <a:lnTo>
                        <a:pt x="446" y="495"/>
                      </a:lnTo>
                      <a:lnTo>
                        <a:pt x="459" y="498"/>
                      </a:lnTo>
                      <a:lnTo>
                        <a:pt x="472" y="500"/>
                      </a:lnTo>
                      <a:lnTo>
                        <a:pt x="485" y="503"/>
                      </a:lnTo>
                      <a:lnTo>
                        <a:pt x="498" y="505"/>
                      </a:lnTo>
                      <a:lnTo>
                        <a:pt x="510" y="509"/>
                      </a:lnTo>
                      <a:lnTo>
                        <a:pt x="512" y="510"/>
                      </a:lnTo>
                      <a:lnTo>
                        <a:pt x="513" y="510"/>
                      </a:lnTo>
                      <a:lnTo>
                        <a:pt x="516" y="510"/>
                      </a:lnTo>
                      <a:lnTo>
                        <a:pt x="517" y="510"/>
                      </a:lnTo>
                      <a:lnTo>
                        <a:pt x="509" y="652"/>
                      </a:lnTo>
                      <a:lnTo>
                        <a:pt x="503" y="797"/>
                      </a:lnTo>
                      <a:lnTo>
                        <a:pt x="497" y="942"/>
                      </a:lnTo>
                      <a:lnTo>
                        <a:pt x="491" y="1079"/>
                      </a:lnTo>
                      <a:lnTo>
                        <a:pt x="498" y="1108"/>
                      </a:lnTo>
                      <a:lnTo>
                        <a:pt x="501" y="1112"/>
                      </a:lnTo>
                      <a:lnTo>
                        <a:pt x="505" y="1115"/>
                      </a:lnTo>
                      <a:lnTo>
                        <a:pt x="510" y="1118"/>
                      </a:lnTo>
                      <a:lnTo>
                        <a:pt x="516" y="1118"/>
                      </a:lnTo>
                      <a:lnTo>
                        <a:pt x="536" y="1115"/>
                      </a:lnTo>
                      <a:lnTo>
                        <a:pt x="543" y="1113"/>
                      </a:lnTo>
                      <a:lnTo>
                        <a:pt x="550" y="1110"/>
                      </a:lnTo>
                      <a:lnTo>
                        <a:pt x="558" y="1109"/>
                      </a:lnTo>
                      <a:lnTo>
                        <a:pt x="565" y="1109"/>
                      </a:lnTo>
                      <a:lnTo>
                        <a:pt x="576" y="1110"/>
                      </a:lnTo>
                      <a:lnTo>
                        <a:pt x="588" y="1110"/>
                      </a:lnTo>
                      <a:lnTo>
                        <a:pt x="598" y="1110"/>
                      </a:lnTo>
                      <a:lnTo>
                        <a:pt x="610" y="1110"/>
                      </a:lnTo>
                      <a:lnTo>
                        <a:pt x="620" y="1110"/>
                      </a:lnTo>
                      <a:lnTo>
                        <a:pt x="632" y="1109"/>
                      </a:lnTo>
                      <a:lnTo>
                        <a:pt x="643" y="1109"/>
                      </a:lnTo>
                      <a:lnTo>
                        <a:pt x="653" y="1108"/>
                      </a:lnTo>
                      <a:lnTo>
                        <a:pt x="659" y="1154"/>
                      </a:lnTo>
                      <a:lnTo>
                        <a:pt x="668" y="1198"/>
                      </a:lnTo>
                      <a:lnTo>
                        <a:pt x="675" y="1243"/>
                      </a:lnTo>
                      <a:lnTo>
                        <a:pt x="682" y="1287"/>
                      </a:lnTo>
                      <a:lnTo>
                        <a:pt x="675" y="1303"/>
                      </a:lnTo>
                      <a:lnTo>
                        <a:pt x="669" y="1318"/>
                      </a:lnTo>
                      <a:lnTo>
                        <a:pt x="662" y="1334"/>
                      </a:lnTo>
                      <a:lnTo>
                        <a:pt x="654" y="1350"/>
                      </a:lnTo>
                      <a:lnTo>
                        <a:pt x="634" y="1356"/>
                      </a:lnTo>
                      <a:lnTo>
                        <a:pt x="614" y="1362"/>
                      </a:lnTo>
                      <a:lnTo>
                        <a:pt x="594" y="1369"/>
                      </a:lnTo>
                      <a:lnTo>
                        <a:pt x="574" y="1375"/>
                      </a:lnTo>
                      <a:lnTo>
                        <a:pt x="555" y="1382"/>
                      </a:lnTo>
                      <a:lnTo>
                        <a:pt x="535" y="1390"/>
                      </a:lnTo>
                      <a:lnTo>
                        <a:pt x="515" y="1396"/>
                      </a:lnTo>
                      <a:lnTo>
                        <a:pt x="494" y="1404"/>
                      </a:lnTo>
                      <a:lnTo>
                        <a:pt x="474" y="1412"/>
                      </a:lnTo>
                      <a:lnTo>
                        <a:pt x="454" y="1419"/>
                      </a:lnTo>
                      <a:lnTo>
                        <a:pt x="434" y="1428"/>
                      </a:lnTo>
                      <a:lnTo>
                        <a:pt x="415" y="1436"/>
                      </a:lnTo>
                      <a:lnTo>
                        <a:pt x="395" y="1445"/>
                      </a:lnTo>
                      <a:lnTo>
                        <a:pt x="375" y="1453"/>
                      </a:lnTo>
                      <a:lnTo>
                        <a:pt x="355" y="1462"/>
                      </a:lnTo>
                      <a:lnTo>
                        <a:pt x="335" y="1471"/>
                      </a:lnTo>
                      <a:lnTo>
                        <a:pt x="322" y="1480"/>
                      </a:lnTo>
                      <a:lnTo>
                        <a:pt x="321" y="1482"/>
                      </a:lnTo>
                      <a:lnTo>
                        <a:pt x="319" y="1484"/>
                      </a:lnTo>
                      <a:lnTo>
                        <a:pt x="318" y="1486"/>
                      </a:lnTo>
                      <a:lnTo>
                        <a:pt x="316" y="1488"/>
                      </a:lnTo>
                      <a:lnTo>
                        <a:pt x="311" y="1503"/>
                      </a:lnTo>
                      <a:lnTo>
                        <a:pt x="311" y="1512"/>
                      </a:lnTo>
                      <a:lnTo>
                        <a:pt x="311" y="1520"/>
                      </a:lnTo>
                      <a:lnTo>
                        <a:pt x="311" y="1529"/>
                      </a:lnTo>
                      <a:lnTo>
                        <a:pt x="313" y="1537"/>
                      </a:lnTo>
                      <a:lnTo>
                        <a:pt x="317" y="1554"/>
                      </a:lnTo>
                      <a:lnTo>
                        <a:pt x="318" y="1558"/>
                      </a:lnTo>
                      <a:lnTo>
                        <a:pt x="320" y="1561"/>
                      </a:lnTo>
                      <a:lnTo>
                        <a:pt x="323" y="1563"/>
                      </a:lnTo>
                      <a:lnTo>
                        <a:pt x="326" y="1566"/>
                      </a:lnTo>
                      <a:lnTo>
                        <a:pt x="335" y="1571"/>
                      </a:lnTo>
                      <a:lnTo>
                        <a:pt x="346" y="1580"/>
                      </a:lnTo>
                      <a:lnTo>
                        <a:pt x="358" y="1590"/>
                      </a:lnTo>
                      <a:lnTo>
                        <a:pt x="370" y="1599"/>
                      </a:lnTo>
                      <a:lnTo>
                        <a:pt x="382" y="1608"/>
                      </a:lnTo>
                      <a:lnTo>
                        <a:pt x="394" y="1616"/>
                      </a:lnTo>
                      <a:lnTo>
                        <a:pt x="407" y="1624"/>
                      </a:lnTo>
                      <a:lnTo>
                        <a:pt x="419" y="1632"/>
                      </a:lnTo>
                      <a:lnTo>
                        <a:pt x="433" y="1639"/>
                      </a:lnTo>
                      <a:lnTo>
                        <a:pt x="446" y="1646"/>
                      </a:lnTo>
                      <a:lnTo>
                        <a:pt x="459" y="1652"/>
                      </a:lnTo>
                      <a:lnTo>
                        <a:pt x="473" y="1659"/>
                      </a:lnTo>
                      <a:lnTo>
                        <a:pt x="487" y="1664"/>
                      </a:lnTo>
                      <a:lnTo>
                        <a:pt x="501" y="1669"/>
                      </a:lnTo>
                      <a:lnTo>
                        <a:pt x="516" y="1674"/>
                      </a:lnTo>
                      <a:lnTo>
                        <a:pt x="529" y="1678"/>
                      </a:lnTo>
                      <a:lnTo>
                        <a:pt x="544" y="1682"/>
                      </a:lnTo>
                      <a:lnTo>
                        <a:pt x="558" y="1681"/>
                      </a:lnTo>
                      <a:lnTo>
                        <a:pt x="572" y="1681"/>
                      </a:lnTo>
                      <a:lnTo>
                        <a:pt x="584" y="1680"/>
                      </a:lnTo>
                      <a:lnTo>
                        <a:pt x="598" y="1678"/>
                      </a:lnTo>
                      <a:lnTo>
                        <a:pt x="612" y="1677"/>
                      </a:lnTo>
                      <a:lnTo>
                        <a:pt x="626" y="1676"/>
                      </a:lnTo>
                      <a:lnTo>
                        <a:pt x="638" y="1674"/>
                      </a:lnTo>
                      <a:lnTo>
                        <a:pt x="652" y="1672"/>
                      </a:lnTo>
                      <a:lnTo>
                        <a:pt x="652" y="1675"/>
                      </a:lnTo>
                      <a:lnTo>
                        <a:pt x="653" y="1678"/>
                      </a:lnTo>
                      <a:lnTo>
                        <a:pt x="653" y="1681"/>
                      </a:lnTo>
                      <a:lnTo>
                        <a:pt x="653" y="1685"/>
                      </a:lnTo>
                      <a:lnTo>
                        <a:pt x="652" y="1693"/>
                      </a:lnTo>
                      <a:lnTo>
                        <a:pt x="652" y="1695"/>
                      </a:lnTo>
                      <a:lnTo>
                        <a:pt x="653" y="1697"/>
                      </a:lnTo>
                      <a:lnTo>
                        <a:pt x="654" y="1699"/>
                      </a:lnTo>
                      <a:lnTo>
                        <a:pt x="655" y="1701"/>
                      </a:lnTo>
                      <a:lnTo>
                        <a:pt x="663" y="1713"/>
                      </a:lnTo>
                      <a:lnTo>
                        <a:pt x="673" y="1721"/>
                      </a:lnTo>
                      <a:lnTo>
                        <a:pt x="686" y="1729"/>
                      </a:lnTo>
                      <a:lnTo>
                        <a:pt x="700" y="1733"/>
                      </a:lnTo>
                      <a:lnTo>
                        <a:pt x="713" y="1736"/>
                      </a:lnTo>
                      <a:lnTo>
                        <a:pt x="727" y="1737"/>
                      </a:lnTo>
                      <a:lnTo>
                        <a:pt x="741" y="1736"/>
                      </a:lnTo>
                      <a:lnTo>
                        <a:pt x="754" y="1732"/>
                      </a:lnTo>
                      <a:lnTo>
                        <a:pt x="765" y="1724"/>
                      </a:lnTo>
                      <a:lnTo>
                        <a:pt x="778" y="1710"/>
                      </a:lnTo>
                      <a:lnTo>
                        <a:pt x="784" y="1691"/>
                      </a:lnTo>
                      <a:lnTo>
                        <a:pt x="784" y="1670"/>
                      </a:lnTo>
                      <a:lnTo>
                        <a:pt x="778" y="1651"/>
                      </a:lnTo>
                      <a:lnTo>
                        <a:pt x="778" y="1650"/>
                      </a:lnTo>
                      <a:lnTo>
                        <a:pt x="777" y="1649"/>
                      </a:lnTo>
                      <a:lnTo>
                        <a:pt x="777" y="1648"/>
                      </a:lnTo>
                      <a:lnTo>
                        <a:pt x="776" y="1647"/>
                      </a:lnTo>
                      <a:lnTo>
                        <a:pt x="790" y="1644"/>
                      </a:lnTo>
                      <a:lnTo>
                        <a:pt x="802" y="1640"/>
                      </a:lnTo>
                      <a:lnTo>
                        <a:pt x="816" y="1637"/>
                      </a:lnTo>
                      <a:lnTo>
                        <a:pt x="830" y="1632"/>
                      </a:lnTo>
                      <a:lnTo>
                        <a:pt x="843" y="1629"/>
                      </a:lnTo>
                      <a:lnTo>
                        <a:pt x="856" y="1625"/>
                      </a:lnTo>
                      <a:lnTo>
                        <a:pt x="870" y="1621"/>
                      </a:lnTo>
                      <a:lnTo>
                        <a:pt x="883" y="1616"/>
                      </a:lnTo>
                      <a:lnTo>
                        <a:pt x="897" y="1612"/>
                      </a:lnTo>
                      <a:lnTo>
                        <a:pt x="909" y="1608"/>
                      </a:lnTo>
                      <a:lnTo>
                        <a:pt x="923" y="1603"/>
                      </a:lnTo>
                      <a:lnTo>
                        <a:pt x="936" y="1598"/>
                      </a:lnTo>
                      <a:lnTo>
                        <a:pt x="949" y="1593"/>
                      </a:lnTo>
                      <a:lnTo>
                        <a:pt x="962" y="1589"/>
                      </a:lnTo>
                      <a:lnTo>
                        <a:pt x="976" y="1584"/>
                      </a:lnTo>
                      <a:lnTo>
                        <a:pt x="989" y="1578"/>
                      </a:lnTo>
                      <a:lnTo>
                        <a:pt x="1002" y="1572"/>
                      </a:lnTo>
                      <a:lnTo>
                        <a:pt x="1016" y="1567"/>
                      </a:lnTo>
                      <a:lnTo>
                        <a:pt x="1030" y="1560"/>
                      </a:lnTo>
                      <a:lnTo>
                        <a:pt x="1044" y="1555"/>
                      </a:lnTo>
                      <a:lnTo>
                        <a:pt x="1057" y="1550"/>
                      </a:lnTo>
                      <a:lnTo>
                        <a:pt x="1071" y="1543"/>
                      </a:lnTo>
                      <a:lnTo>
                        <a:pt x="1085" y="1538"/>
                      </a:lnTo>
                      <a:lnTo>
                        <a:pt x="1099" y="1532"/>
                      </a:lnTo>
                      <a:lnTo>
                        <a:pt x="1104" y="1543"/>
                      </a:lnTo>
                      <a:lnTo>
                        <a:pt x="1110" y="1554"/>
                      </a:lnTo>
                      <a:lnTo>
                        <a:pt x="1120" y="1563"/>
                      </a:lnTo>
                      <a:lnTo>
                        <a:pt x="1130" y="1571"/>
                      </a:lnTo>
                      <a:lnTo>
                        <a:pt x="1141" y="1576"/>
                      </a:lnTo>
                      <a:lnTo>
                        <a:pt x="1154" y="1580"/>
                      </a:lnTo>
                      <a:lnTo>
                        <a:pt x="1166" y="1583"/>
                      </a:lnTo>
                      <a:lnTo>
                        <a:pt x="1180" y="1581"/>
                      </a:lnTo>
                      <a:lnTo>
                        <a:pt x="1201" y="1574"/>
                      </a:lnTo>
                      <a:lnTo>
                        <a:pt x="1205" y="1572"/>
                      </a:lnTo>
                      <a:lnTo>
                        <a:pt x="1208" y="1570"/>
                      </a:lnTo>
                      <a:lnTo>
                        <a:pt x="1211" y="1567"/>
                      </a:lnTo>
                      <a:lnTo>
                        <a:pt x="1213" y="1562"/>
                      </a:lnTo>
                      <a:lnTo>
                        <a:pt x="1215" y="1553"/>
                      </a:lnTo>
                      <a:lnTo>
                        <a:pt x="1222" y="1534"/>
                      </a:lnTo>
                      <a:lnTo>
                        <a:pt x="1225" y="1514"/>
                      </a:lnTo>
                      <a:lnTo>
                        <a:pt x="1219" y="1494"/>
                      </a:lnTo>
                      <a:lnTo>
                        <a:pt x="1207" y="1478"/>
                      </a:lnTo>
                      <a:lnTo>
                        <a:pt x="1217" y="1471"/>
                      </a:lnTo>
                      <a:lnTo>
                        <a:pt x="1229" y="1465"/>
                      </a:lnTo>
                      <a:lnTo>
                        <a:pt x="1239" y="1458"/>
                      </a:lnTo>
                      <a:lnTo>
                        <a:pt x="1251" y="1451"/>
                      </a:lnTo>
                      <a:lnTo>
                        <a:pt x="1262" y="1444"/>
                      </a:lnTo>
                      <a:lnTo>
                        <a:pt x="1272" y="1436"/>
                      </a:lnTo>
                      <a:lnTo>
                        <a:pt x="1282" y="1429"/>
                      </a:lnTo>
                      <a:lnTo>
                        <a:pt x="1292" y="1422"/>
                      </a:lnTo>
                      <a:lnTo>
                        <a:pt x="1308" y="1410"/>
                      </a:lnTo>
                      <a:lnTo>
                        <a:pt x="1310" y="1408"/>
                      </a:lnTo>
                      <a:lnTo>
                        <a:pt x="1312" y="1405"/>
                      </a:lnTo>
                      <a:lnTo>
                        <a:pt x="1314" y="1401"/>
                      </a:lnTo>
                      <a:lnTo>
                        <a:pt x="1315" y="1397"/>
                      </a:lnTo>
                      <a:lnTo>
                        <a:pt x="1316" y="1381"/>
                      </a:lnTo>
                      <a:lnTo>
                        <a:pt x="1307" y="1364"/>
                      </a:lnTo>
                      <a:lnTo>
                        <a:pt x="1298" y="1350"/>
                      </a:lnTo>
                      <a:lnTo>
                        <a:pt x="1286" y="1336"/>
                      </a:lnTo>
                      <a:lnTo>
                        <a:pt x="1273" y="1323"/>
                      </a:lnTo>
                      <a:lnTo>
                        <a:pt x="1261" y="1311"/>
                      </a:lnTo>
                      <a:lnTo>
                        <a:pt x="1246" y="1302"/>
                      </a:lnTo>
                      <a:lnTo>
                        <a:pt x="1231" y="1292"/>
                      </a:lnTo>
                      <a:lnTo>
                        <a:pt x="1215" y="1284"/>
                      </a:lnTo>
                      <a:lnTo>
                        <a:pt x="1198" y="1277"/>
                      </a:lnTo>
                      <a:lnTo>
                        <a:pt x="1181" y="1271"/>
                      </a:lnTo>
                      <a:lnTo>
                        <a:pt x="1163" y="1265"/>
                      </a:lnTo>
                      <a:lnTo>
                        <a:pt x="1146" y="1261"/>
                      </a:lnTo>
                      <a:lnTo>
                        <a:pt x="1128" y="1256"/>
                      </a:lnTo>
                      <a:lnTo>
                        <a:pt x="1110" y="1252"/>
                      </a:lnTo>
                      <a:lnTo>
                        <a:pt x="1092" y="1249"/>
                      </a:lnTo>
                      <a:lnTo>
                        <a:pt x="1075" y="1247"/>
                      </a:lnTo>
                      <a:lnTo>
                        <a:pt x="1074" y="1247"/>
                      </a:lnTo>
                      <a:lnTo>
                        <a:pt x="1072" y="1247"/>
                      </a:lnTo>
                      <a:lnTo>
                        <a:pt x="1071" y="1247"/>
                      </a:lnTo>
                      <a:lnTo>
                        <a:pt x="1069" y="1248"/>
                      </a:lnTo>
                      <a:lnTo>
                        <a:pt x="1069" y="1248"/>
                      </a:lnTo>
                      <a:lnTo>
                        <a:pt x="1058" y="1250"/>
                      </a:lnTo>
                      <a:lnTo>
                        <a:pt x="1048" y="1252"/>
                      </a:lnTo>
                      <a:lnTo>
                        <a:pt x="1037" y="1254"/>
                      </a:lnTo>
                      <a:lnTo>
                        <a:pt x="1028" y="1256"/>
                      </a:lnTo>
                      <a:lnTo>
                        <a:pt x="1017" y="1258"/>
                      </a:lnTo>
                      <a:lnTo>
                        <a:pt x="1007" y="1261"/>
                      </a:lnTo>
                      <a:lnTo>
                        <a:pt x="996" y="1263"/>
                      </a:lnTo>
                      <a:lnTo>
                        <a:pt x="987" y="1265"/>
                      </a:lnTo>
                      <a:lnTo>
                        <a:pt x="991" y="1258"/>
                      </a:lnTo>
                      <a:lnTo>
                        <a:pt x="995" y="1252"/>
                      </a:lnTo>
                      <a:lnTo>
                        <a:pt x="1000" y="1246"/>
                      </a:lnTo>
                      <a:lnTo>
                        <a:pt x="1007" y="1240"/>
                      </a:lnTo>
                      <a:lnTo>
                        <a:pt x="1027" y="1215"/>
                      </a:lnTo>
                      <a:lnTo>
                        <a:pt x="1028" y="1213"/>
                      </a:lnTo>
                      <a:lnTo>
                        <a:pt x="1029" y="1210"/>
                      </a:lnTo>
                      <a:lnTo>
                        <a:pt x="1029" y="1208"/>
                      </a:lnTo>
                      <a:lnTo>
                        <a:pt x="1029" y="1205"/>
                      </a:lnTo>
                      <a:lnTo>
                        <a:pt x="1026" y="1187"/>
                      </a:lnTo>
                      <a:lnTo>
                        <a:pt x="1015" y="1146"/>
                      </a:lnTo>
                      <a:lnTo>
                        <a:pt x="1007" y="1105"/>
                      </a:lnTo>
                      <a:lnTo>
                        <a:pt x="1000" y="1062"/>
                      </a:lnTo>
                      <a:lnTo>
                        <a:pt x="999" y="1020"/>
                      </a:lnTo>
                      <a:lnTo>
                        <a:pt x="1003" y="1019"/>
                      </a:lnTo>
                      <a:lnTo>
                        <a:pt x="1008" y="1018"/>
                      </a:lnTo>
                      <a:lnTo>
                        <a:pt x="1012" y="1017"/>
                      </a:lnTo>
                      <a:lnTo>
                        <a:pt x="1017" y="1015"/>
                      </a:lnTo>
                      <a:lnTo>
                        <a:pt x="1021" y="1014"/>
                      </a:lnTo>
                      <a:lnTo>
                        <a:pt x="1026" y="1013"/>
                      </a:lnTo>
                      <a:lnTo>
                        <a:pt x="1030" y="1012"/>
                      </a:lnTo>
                      <a:lnTo>
                        <a:pt x="1034" y="1011"/>
                      </a:lnTo>
                      <a:lnTo>
                        <a:pt x="1089" y="981"/>
                      </a:lnTo>
                      <a:lnTo>
                        <a:pt x="1090" y="981"/>
                      </a:lnTo>
                      <a:lnTo>
                        <a:pt x="1090" y="980"/>
                      </a:lnTo>
                      <a:lnTo>
                        <a:pt x="1090" y="980"/>
                      </a:lnTo>
                      <a:lnTo>
                        <a:pt x="1091" y="980"/>
                      </a:lnTo>
                      <a:lnTo>
                        <a:pt x="1096" y="975"/>
                      </a:lnTo>
                      <a:lnTo>
                        <a:pt x="1098" y="967"/>
                      </a:lnTo>
                      <a:lnTo>
                        <a:pt x="1098" y="961"/>
                      </a:lnTo>
                      <a:lnTo>
                        <a:pt x="1094" y="954"/>
                      </a:lnTo>
                      <a:lnTo>
                        <a:pt x="1087" y="945"/>
                      </a:lnTo>
                      <a:lnTo>
                        <a:pt x="1084" y="933"/>
                      </a:lnTo>
                      <a:lnTo>
                        <a:pt x="1073" y="909"/>
                      </a:lnTo>
                      <a:lnTo>
                        <a:pt x="1063" y="885"/>
                      </a:lnTo>
                      <a:lnTo>
                        <a:pt x="1052" y="858"/>
                      </a:lnTo>
                      <a:lnTo>
                        <a:pt x="1040" y="832"/>
                      </a:lnTo>
                      <a:lnTo>
                        <a:pt x="1030" y="805"/>
                      </a:lnTo>
                      <a:lnTo>
                        <a:pt x="1018" y="776"/>
                      </a:lnTo>
                      <a:lnTo>
                        <a:pt x="1007" y="749"/>
                      </a:lnTo>
                      <a:lnTo>
                        <a:pt x="995" y="720"/>
                      </a:lnTo>
                      <a:lnTo>
                        <a:pt x="983" y="692"/>
                      </a:lnTo>
                      <a:lnTo>
                        <a:pt x="972" y="663"/>
                      </a:lnTo>
                      <a:lnTo>
                        <a:pt x="960" y="635"/>
                      </a:lnTo>
                      <a:lnTo>
                        <a:pt x="948" y="607"/>
                      </a:lnTo>
                      <a:lnTo>
                        <a:pt x="937" y="579"/>
                      </a:lnTo>
                      <a:lnTo>
                        <a:pt x="926" y="552"/>
                      </a:lnTo>
                      <a:lnTo>
                        <a:pt x="915" y="525"/>
                      </a:lnTo>
                      <a:lnTo>
                        <a:pt x="903" y="499"/>
                      </a:lnTo>
                      <a:lnTo>
                        <a:pt x="923" y="491"/>
                      </a:lnTo>
                      <a:lnTo>
                        <a:pt x="943" y="482"/>
                      </a:lnTo>
                      <a:lnTo>
                        <a:pt x="963" y="474"/>
                      </a:lnTo>
                      <a:lnTo>
                        <a:pt x="983" y="466"/>
                      </a:lnTo>
                      <a:lnTo>
                        <a:pt x="1003" y="459"/>
                      </a:lnTo>
                      <a:lnTo>
                        <a:pt x="1025" y="451"/>
                      </a:lnTo>
                      <a:lnTo>
                        <a:pt x="1045" y="444"/>
                      </a:lnTo>
                      <a:lnTo>
                        <a:pt x="1066" y="438"/>
                      </a:lnTo>
                      <a:lnTo>
                        <a:pt x="1078" y="433"/>
                      </a:lnTo>
                      <a:lnTo>
                        <a:pt x="1090" y="430"/>
                      </a:lnTo>
                      <a:lnTo>
                        <a:pt x="1102" y="426"/>
                      </a:lnTo>
                      <a:lnTo>
                        <a:pt x="1113" y="423"/>
                      </a:lnTo>
                      <a:lnTo>
                        <a:pt x="1126" y="418"/>
                      </a:lnTo>
                      <a:lnTo>
                        <a:pt x="1138" y="415"/>
                      </a:lnTo>
                      <a:lnTo>
                        <a:pt x="1151" y="412"/>
                      </a:lnTo>
                      <a:lnTo>
                        <a:pt x="1162" y="410"/>
                      </a:lnTo>
                      <a:lnTo>
                        <a:pt x="1175" y="407"/>
                      </a:lnTo>
                      <a:lnTo>
                        <a:pt x="1187" y="405"/>
                      </a:lnTo>
                      <a:lnTo>
                        <a:pt x="1199" y="404"/>
                      </a:lnTo>
                      <a:lnTo>
                        <a:pt x="1212" y="403"/>
                      </a:lnTo>
                      <a:lnTo>
                        <a:pt x="1224" y="403"/>
                      </a:lnTo>
                      <a:lnTo>
                        <a:pt x="1236" y="403"/>
                      </a:lnTo>
                      <a:lnTo>
                        <a:pt x="1248" y="403"/>
                      </a:lnTo>
                      <a:lnTo>
                        <a:pt x="1261" y="405"/>
                      </a:lnTo>
                      <a:lnTo>
                        <a:pt x="1263" y="409"/>
                      </a:lnTo>
                      <a:lnTo>
                        <a:pt x="1267" y="412"/>
                      </a:lnTo>
                      <a:lnTo>
                        <a:pt x="1271" y="414"/>
                      </a:lnTo>
                      <a:lnTo>
                        <a:pt x="1276" y="415"/>
                      </a:lnTo>
                      <a:lnTo>
                        <a:pt x="1289" y="415"/>
                      </a:lnTo>
                      <a:lnTo>
                        <a:pt x="1302" y="415"/>
                      </a:lnTo>
                      <a:lnTo>
                        <a:pt x="1315" y="415"/>
                      </a:lnTo>
                      <a:lnTo>
                        <a:pt x="1327" y="415"/>
                      </a:lnTo>
                      <a:lnTo>
                        <a:pt x="1339" y="415"/>
                      </a:lnTo>
                      <a:lnTo>
                        <a:pt x="1352" y="415"/>
                      </a:lnTo>
                      <a:lnTo>
                        <a:pt x="1364" y="415"/>
                      </a:lnTo>
                      <a:lnTo>
                        <a:pt x="1377" y="415"/>
                      </a:lnTo>
                      <a:lnTo>
                        <a:pt x="1383" y="414"/>
                      </a:lnTo>
                      <a:lnTo>
                        <a:pt x="1390" y="410"/>
                      </a:lnTo>
                      <a:lnTo>
                        <a:pt x="1394" y="405"/>
                      </a:lnTo>
                      <a:lnTo>
                        <a:pt x="1395" y="397"/>
                      </a:lnTo>
                      <a:lnTo>
                        <a:pt x="1394" y="391"/>
                      </a:lnTo>
                      <a:lnTo>
                        <a:pt x="1390" y="385"/>
                      </a:lnTo>
                      <a:lnTo>
                        <a:pt x="1383" y="380"/>
                      </a:lnTo>
                      <a:lnTo>
                        <a:pt x="1377" y="37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979640" y="3012120"/>
                  <a:ext cx="281520" cy="168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100600" y="2776320"/>
                  <a:ext cx="21240" cy="48600"/>
                </a:xfrm>
                <a:custGeom>
                  <a:avLst/>
                  <a:gdLst/>
                  <a:ahLst/>
                  <a:rect l="l" t="t" r="r" b="b"/>
                  <a:pathLst>
                    <a:path w="106" h="181">
                      <a:moveTo>
                        <a:pt x="106" y="164"/>
                      </a:moveTo>
                      <a:lnTo>
                        <a:pt x="98" y="169"/>
                      </a:lnTo>
                      <a:lnTo>
                        <a:pt x="91" y="172"/>
                      </a:lnTo>
                      <a:lnTo>
                        <a:pt x="83" y="176"/>
                      </a:lnTo>
                      <a:lnTo>
                        <a:pt x="75" y="179"/>
                      </a:lnTo>
                      <a:lnTo>
                        <a:pt x="66" y="181"/>
                      </a:lnTo>
                      <a:lnTo>
                        <a:pt x="65" y="180"/>
                      </a:lnTo>
                      <a:lnTo>
                        <a:pt x="61" y="175"/>
                      </a:lnTo>
                      <a:lnTo>
                        <a:pt x="53" y="157"/>
                      </a:lnTo>
                      <a:lnTo>
                        <a:pt x="46" y="140"/>
                      </a:lnTo>
                      <a:lnTo>
                        <a:pt x="38" y="122"/>
                      </a:lnTo>
                      <a:lnTo>
                        <a:pt x="31" y="103"/>
                      </a:lnTo>
                      <a:lnTo>
                        <a:pt x="23" y="85"/>
                      </a:lnTo>
                      <a:lnTo>
                        <a:pt x="16" y="67"/>
                      </a:lnTo>
                      <a:lnTo>
                        <a:pt x="9" y="50"/>
                      </a:lnTo>
                      <a:lnTo>
                        <a:pt x="0" y="32"/>
                      </a:lnTo>
                      <a:lnTo>
                        <a:pt x="5" y="29"/>
                      </a:lnTo>
                      <a:lnTo>
                        <a:pt x="10" y="25"/>
                      </a:lnTo>
                      <a:lnTo>
                        <a:pt x="15" y="21"/>
                      </a:lnTo>
                      <a:lnTo>
                        <a:pt x="19" y="17"/>
                      </a:lnTo>
                      <a:lnTo>
                        <a:pt x="23" y="13"/>
                      </a:lnTo>
                      <a:lnTo>
                        <a:pt x="27" y="9"/>
                      </a:lnTo>
                      <a:lnTo>
                        <a:pt x="31" y="5"/>
                      </a:lnTo>
                      <a:lnTo>
                        <a:pt x="35" y="0"/>
                      </a:lnTo>
                      <a:lnTo>
                        <a:pt x="43" y="19"/>
                      </a:lnTo>
                      <a:lnTo>
                        <a:pt x="52" y="38"/>
                      </a:lnTo>
                      <a:lnTo>
                        <a:pt x="60" y="59"/>
                      </a:lnTo>
                      <a:lnTo>
                        <a:pt x="70" y="79"/>
                      </a:lnTo>
                      <a:lnTo>
                        <a:pt x="78" y="100"/>
                      </a:lnTo>
                      <a:lnTo>
                        <a:pt x="88" y="121"/>
                      </a:lnTo>
                      <a:lnTo>
                        <a:pt x="96" y="142"/>
                      </a:lnTo>
                      <a:lnTo>
                        <a:pt x="106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60640" y="2782800"/>
                  <a:ext cx="43920" cy="33480"/>
                </a:xfrm>
                <a:custGeom>
                  <a:avLst/>
                  <a:gdLst/>
                  <a:ahLst/>
                  <a:rect l="l" t="t" r="r" b="b"/>
                  <a:pathLst>
                    <a:path w="218" h="12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37" y="11"/>
                      </a:lnTo>
                      <a:lnTo>
                        <a:pt x="57" y="16"/>
                      </a:lnTo>
                      <a:lnTo>
                        <a:pt x="76" y="20"/>
                      </a:lnTo>
                      <a:lnTo>
                        <a:pt x="95" y="23"/>
                      </a:lnTo>
                      <a:lnTo>
                        <a:pt x="115" y="25"/>
                      </a:lnTo>
                      <a:lnTo>
                        <a:pt x="134" y="27"/>
                      </a:lnTo>
                      <a:lnTo>
                        <a:pt x="152" y="28"/>
                      </a:lnTo>
                      <a:lnTo>
                        <a:pt x="159" y="26"/>
                      </a:lnTo>
                      <a:lnTo>
                        <a:pt x="167" y="23"/>
                      </a:lnTo>
                      <a:lnTo>
                        <a:pt x="175" y="20"/>
                      </a:lnTo>
                      <a:lnTo>
                        <a:pt x="182" y="17"/>
                      </a:lnTo>
                      <a:lnTo>
                        <a:pt x="186" y="27"/>
                      </a:lnTo>
                      <a:lnTo>
                        <a:pt x="192" y="38"/>
                      </a:lnTo>
                      <a:lnTo>
                        <a:pt x="196" y="48"/>
                      </a:lnTo>
                      <a:lnTo>
                        <a:pt x="200" y="59"/>
                      </a:lnTo>
                      <a:lnTo>
                        <a:pt x="206" y="70"/>
                      </a:lnTo>
                      <a:lnTo>
                        <a:pt x="210" y="81"/>
                      </a:lnTo>
                      <a:lnTo>
                        <a:pt x="214" y="92"/>
                      </a:lnTo>
                      <a:lnTo>
                        <a:pt x="218" y="102"/>
                      </a:lnTo>
                      <a:lnTo>
                        <a:pt x="204" y="104"/>
                      </a:lnTo>
                      <a:lnTo>
                        <a:pt x="191" y="107"/>
                      </a:lnTo>
                      <a:lnTo>
                        <a:pt x="178" y="109"/>
                      </a:lnTo>
                      <a:lnTo>
                        <a:pt x="164" y="111"/>
                      </a:lnTo>
                      <a:lnTo>
                        <a:pt x="150" y="113"/>
                      </a:lnTo>
                      <a:lnTo>
                        <a:pt x="137" y="114"/>
                      </a:lnTo>
                      <a:lnTo>
                        <a:pt x="123" y="116"/>
                      </a:lnTo>
                      <a:lnTo>
                        <a:pt x="109" y="117"/>
                      </a:lnTo>
                      <a:lnTo>
                        <a:pt x="95" y="118"/>
                      </a:lnTo>
                      <a:lnTo>
                        <a:pt x="83" y="119"/>
                      </a:lnTo>
                      <a:lnTo>
                        <a:pt x="69" y="120"/>
                      </a:lnTo>
                      <a:lnTo>
                        <a:pt x="55" y="121"/>
                      </a:lnTo>
                      <a:lnTo>
                        <a:pt x="41" y="123"/>
                      </a:lnTo>
                      <a:lnTo>
                        <a:pt x="28" y="123"/>
                      </a:lnTo>
                      <a:lnTo>
                        <a:pt x="14" y="124"/>
                      </a:lnTo>
                      <a:lnTo>
                        <a:pt x="0" y="125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38320" y="2686680"/>
                  <a:ext cx="73800" cy="93240"/>
                </a:xfrm>
                <a:custGeom>
                  <a:avLst/>
                  <a:gdLst/>
                  <a:ahLst/>
                  <a:rect l="l" t="t" r="r" b="b"/>
                  <a:pathLst>
                    <a:path w="366" h="346">
                      <a:moveTo>
                        <a:pt x="0" y="221"/>
                      </a:moveTo>
                      <a:lnTo>
                        <a:pt x="1" y="192"/>
                      </a:lnTo>
                      <a:lnTo>
                        <a:pt x="5" y="164"/>
                      </a:lnTo>
                      <a:lnTo>
                        <a:pt x="15" y="138"/>
                      </a:lnTo>
                      <a:lnTo>
                        <a:pt x="28" y="113"/>
                      </a:lnTo>
                      <a:lnTo>
                        <a:pt x="42" y="90"/>
                      </a:lnTo>
                      <a:lnTo>
                        <a:pt x="60" y="67"/>
                      </a:lnTo>
                      <a:lnTo>
                        <a:pt x="81" y="47"/>
                      </a:lnTo>
                      <a:lnTo>
                        <a:pt x="102" y="28"/>
                      </a:lnTo>
                      <a:lnTo>
                        <a:pt x="107" y="24"/>
                      </a:lnTo>
                      <a:lnTo>
                        <a:pt x="113" y="19"/>
                      </a:lnTo>
                      <a:lnTo>
                        <a:pt x="120" y="15"/>
                      </a:lnTo>
                      <a:lnTo>
                        <a:pt x="126" y="11"/>
                      </a:lnTo>
                      <a:lnTo>
                        <a:pt x="132" y="7"/>
                      </a:lnTo>
                      <a:lnTo>
                        <a:pt x="139" y="5"/>
                      </a:lnTo>
                      <a:lnTo>
                        <a:pt x="145" y="2"/>
                      </a:lnTo>
                      <a:lnTo>
                        <a:pt x="153" y="1"/>
                      </a:lnTo>
                      <a:lnTo>
                        <a:pt x="155" y="1"/>
                      </a:lnTo>
                      <a:lnTo>
                        <a:pt x="157" y="1"/>
                      </a:lnTo>
                      <a:lnTo>
                        <a:pt x="158" y="1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1"/>
                      </a:lnTo>
                      <a:lnTo>
                        <a:pt x="167" y="6"/>
                      </a:lnTo>
                      <a:lnTo>
                        <a:pt x="172" y="10"/>
                      </a:lnTo>
                      <a:lnTo>
                        <a:pt x="176" y="13"/>
                      </a:lnTo>
                      <a:lnTo>
                        <a:pt x="182" y="15"/>
                      </a:lnTo>
                      <a:lnTo>
                        <a:pt x="201" y="13"/>
                      </a:lnTo>
                      <a:lnTo>
                        <a:pt x="220" y="15"/>
                      </a:lnTo>
                      <a:lnTo>
                        <a:pt x="239" y="18"/>
                      </a:lnTo>
                      <a:lnTo>
                        <a:pt x="257" y="23"/>
                      </a:lnTo>
                      <a:lnTo>
                        <a:pt x="275" y="30"/>
                      </a:lnTo>
                      <a:lnTo>
                        <a:pt x="292" y="39"/>
                      </a:lnTo>
                      <a:lnTo>
                        <a:pt x="308" y="49"/>
                      </a:lnTo>
                      <a:lnTo>
                        <a:pt x="323" y="62"/>
                      </a:lnTo>
                      <a:lnTo>
                        <a:pt x="340" y="81"/>
                      </a:lnTo>
                      <a:lnTo>
                        <a:pt x="353" y="102"/>
                      </a:lnTo>
                      <a:lnTo>
                        <a:pt x="361" y="125"/>
                      </a:lnTo>
                      <a:lnTo>
                        <a:pt x="365" y="149"/>
                      </a:lnTo>
                      <a:lnTo>
                        <a:pt x="366" y="173"/>
                      </a:lnTo>
                      <a:lnTo>
                        <a:pt x="364" y="199"/>
                      </a:lnTo>
                      <a:lnTo>
                        <a:pt x="359" y="223"/>
                      </a:lnTo>
                      <a:lnTo>
                        <a:pt x="350" y="246"/>
                      </a:lnTo>
                      <a:lnTo>
                        <a:pt x="343" y="263"/>
                      </a:lnTo>
                      <a:lnTo>
                        <a:pt x="335" y="280"/>
                      </a:lnTo>
                      <a:lnTo>
                        <a:pt x="325" y="297"/>
                      </a:lnTo>
                      <a:lnTo>
                        <a:pt x="313" y="312"/>
                      </a:lnTo>
                      <a:lnTo>
                        <a:pt x="301" y="325"/>
                      </a:lnTo>
                      <a:lnTo>
                        <a:pt x="287" y="335"/>
                      </a:lnTo>
                      <a:lnTo>
                        <a:pt x="270" y="343"/>
                      </a:lnTo>
                      <a:lnTo>
                        <a:pt x="251" y="346"/>
                      </a:lnTo>
                      <a:lnTo>
                        <a:pt x="233" y="346"/>
                      </a:lnTo>
                      <a:lnTo>
                        <a:pt x="215" y="345"/>
                      </a:lnTo>
                      <a:lnTo>
                        <a:pt x="197" y="343"/>
                      </a:lnTo>
                      <a:lnTo>
                        <a:pt x="179" y="340"/>
                      </a:lnTo>
                      <a:lnTo>
                        <a:pt x="160" y="337"/>
                      </a:lnTo>
                      <a:lnTo>
                        <a:pt x="142" y="331"/>
                      </a:lnTo>
                      <a:lnTo>
                        <a:pt x="125" y="325"/>
                      </a:lnTo>
                      <a:lnTo>
                        <a:pt x="107" y="319"/>
                      </a:lnTo>
                      <a:lnTo>
                        <a:pt x="90" y="310"/>
                      </a:lnTo>
                      <a:lnTo>
                        <a:pt x="74" y="300"/>
                      </a:lnTo>
                      <a:lnTo>
                        <a:pt x="59" y="290"/>
                      </a:lnTo>
                      <a:lnTo>
                        <a:pt x="45" y="279"/>
                      </a:lnTo>
                      <a:lnTo>
                        <a:pt x="32" y="267"/>
                      </a:lnTo>
                      <a:lnTo>
                        <a:pt x="20" y="253"/>
                      </a:lnTo>
                      <a:lnTo>
                        <a:pt x="10" y="237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46600" y="2774160"/>
                  <a:ext cx="10800" cy="65160"/>
                </a:xfrm>
                <a:custGeom>
                  <a:avLst/>
                  <a:gdLst/>
                  <a:ahLst/>
                  <a:rect l="l" t="t" r="r" b="b"/>
                  <a:pathLst>
                    <a:path w="54" h="242">
                      <a:moveTo>
                        <a:pt x="54" y="25"/>
                      </a:moveTo>
                      <a:lnTo>
                        <a:pt x="53" y="26"/>
                      </a:lnTo>
                      <a:lnTo>
                        <a:pt x="52" y="28"/>
                      </a:lnTo>
                      <a:lnTo>
                        <a:pt x="51" y="30"/>
                      </a:lnTo>
                      <a:lnTo>
                        <a:pt x="51" y="32"/>
                      </a:lnTo>
                      <a:lnTo>
                        <a:pt x="51" y="64"/>
                      </a:lnTo>
                      <a:lnTo>
                        <a:pt x="51" y="96"/>
                      </a:lnTo>
                      <a:lnTo>
                        <a:pt x="51" y="128"/>
                      </a:lnTo>
                      <a:lnTo>
                        <a:pt x="51" y="161"/>
                      </a:lnTo>
                      <a:lnTo>
                        <a:pt x="50" y="163"/>
                      </a:lnTo>
                      <a:lnTo>
                        <a:pt x="50" y="166"/>
                      </a:lnTo>
                      <a:lnTo>
                        <a:pt x="50" y="168"/>
                      </a:lnTo>
                      <a:lnTo>
                        <a:pt x="51" y="170"/>
                      </a:lnTo>
                      <a:lnTo>
                        <a:pt x="51" y="200"/>
                      </a:lnTo>
                      <a:lnTo>
                        <a:pt x="51" y="222"/>
                      </a:lnTo>
                      <a:lnTo>
                        <a:pt x="51" y="236"/>
                      </a:lnTo>
                      <a:lnTo>
                        <a:pt x="51" y="241"/>
                      </a:lnTo>
                      <a:lnTo>
                        <a:pt x="49" y="242"/>
                      </a:lnTo>
                      <a:lnTo>
                        <a:pt x="43" y="242"/>
                      </a:lnTo>
                      <a:lnTo>
                        <a:pt x="37" y="242"/>
                      </a:lnTo>
                      <a:lnTo>
                        <a:pt x="31" y="242"/>
                      </a:lnTo>
                      <a:lnTo>
                        <a:pt x="25" y="242"/>
                      </a:lnTo>
                      <a:lnTo>
                        <a:pt x="18" y="242"/>
                      </a:lnTo>
                      <a:lnTo>
                        <a:pt x="12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1" y="180"/>
                      </a:lnTo>
                      <a:lnTo>
                        <a:pt x="1" y="117"/>
                      </a:lnTo>
                      <a:lnTo>
                        <a:pt x="3" y="57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7" y="7"/>
                      </a:lnTo>
                      <a:lnTo>
                        <a:pt x="23" y="10"/>
                      </a:lnTo>
                      <a:lnTo>
                        <a:pt x="29" y="14"/>
                      </a:lnTo>
                      <a:lnTo>
                        <a:pt x="35" y="17"/>
                      </a:lnTo>
                      <a:lnTo>
                        <a:pt x="42" y="20"/>
                      </a:lnTo>
                      <a:lnTo>
                        <a:pt x="48" y="22"/>
                      </a:lnTo>
                      <a:lnTo>
                        <a:pt x="5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71440" y="3096720"/>
                  <a:ext cx="15480" cy="12600"/>
                </a:xfrm>
                <a:custGeom>
                  <a:avLst/>
                  <a:gdLst/>
                  <a:ahLst/>
                  <a:rect l="l" t="t" r="r" b="b"/>
                  <a:pathLst>
                    <a:path w="78" h="47">
                      <a:moveTo>
                        <a:pt x="73" y="8"/>
                      </a:moveTo>
                      <a:lnTo>
                        <a:pt x="76" y="17"/>
                      </a:lnTo>
                      <a:lnTo>
                        <a:pt x="78" y="24"/>
                      </a:lnTo>
                      <a:lnTo>
                        <a:pt x="78" y="31"/>
                      </a:lnTo>
                      <a:lnTo>
                        <a:pt x="75" y="39"/>
                      </a:lnTo>
                      <a:lnTo>
                        <a:pt x="71" y="43"/>
                      </a:lnTo>
                      <a:lnTo>
                        <a:pt x="66" y="46"/>
                      </a:lnTo>
                      <a:lnTo>
                        <a:pt x="59" y="47"/>
                      </a:lnTo>
                      <a:lnTo>
                        <a:pt x="53" y="46"/>
                      </a:lnTo>
                      <a:lnTo>
                        <a:pt x="46" y="45"/>
                      </a:lnTo>
                      <a:lnTo>
                        <a:pt x="39" y="43"/>
                      </a:lnTo>
                      <a:lnTo>
                        <a:pt x="32" y="41"/>
                      </a:lnTo>
                      <a:lnTo>
                        <a:pt x="26" y="40"/>
                      </a:lnTo>
                      <a:lnTo>
                        <a:pt x="15" y="28"/>
                      </a:lnTo>
                      <a:lnTo>
                        <a:pt x="17" y="38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7" y="12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8" y="7"/>
                      </a:lnTo>
                      <a:lnTo>
                        <a:pt x="46" y="5"/>
                      </a:lnTo>
                      <a:lnTo>
                        <a:pt x="52" y="4"/>
                      </a:lnTo>
                      <a:lnTo>
                        <a:pt x="59" y="3"/>
                      </a:lnTo>
                      <a:lnTo>
                        <a:pt x="66" y="1"/>
                      </a:lnTo>
                      <a:lnTo>
                        <a:pt x="73" y="0"/>
                      </a:lnTo>
                      <a:lnTo>
                        <a:pt x="72" y="2"/>
                      </a:lnTo>
                      <a:lnTo>
                        <a:pt x="72" y="4"/>
                      </a:lnTo>
                      <a:lnTo>
                        <a:pt x="72" y="6"/>
                      </a:lnTo>
                      <a:lnTo>
                        <a:pt x="7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64320" y="305388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61" h="51">
                      <a:moveTo>
                        <a:pt x="48" y="4"/>
                      </a:moveTo>
                      <a:lnTo>
                        <a:pt x="53" y="6"/>
                      </a:lnTo>
                      <a:lnTo>
                        <a:pt x="58" y="10"/>
                      </a:lnTo>
                      <a:lnTo>
                        <a:pt x="61" y="17"/>
                      </a:lnTo>
                      <a:lnTo>
                        <a:pt x="61" y="27"/>
                      </a:lnTo>
                      <a:lnTo>
                        <a:pt x="52" y="46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31" y="51"/>
                      </a:lnTo>
                      <a:lnTo>
                        <a:pt x="25" y="49"/>
                      </a:lnTo>
                      <a:lnTo>
                        <a:pt x="18" y="47"/>
                      </a:lnTo>
                      <a:lnTo>
                        <a:pt x="13" y="43"/>
                      </a:lnTo>
                      <a:lnTo>
                        <a:pt x="9" y="39"/>
                      </a:lnTo>
                      <a:lnTo>
                        <a:pt x="5" y="34"/>
                      </a:lnTo>
                      <a:lnTo>
                        <a:pt x="3" y="27"/>
                      </a:lnTo>
                      <a:lnTo>
                        <a:pt x="0" y="20"/>
                      </a:lnTo>
                      <a:lnTo>
                        <a:pt x="6" y="18"/>
                      </a:lnTo>
                      <a:lnTo>
                        <a:pt x="11" y="15"/>
                      </a:lnTo>
                      <a:lnTo>
                        <a:pt x="16" y="12"/>
                      </a:lnTo>
                      <a:lnTo>
                        <a:pt x="22" y="10"/>
                      </a:lnTo>
                      <a:lnTo>
                        <a:pt x="27" y="8"/>
                      </a:lnTo>
                      <a:lnTo>
                        <a:pt x="32" y="5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4" y="1"/>
                      </a:lnTo>
                      <a:lnTo>
                        <a:pt x="45" y="2"/>
                      </a:lnTo>
                      <a:lnTo>
                        <a:pt x="47" y="3"/>
                      </a:lnTo>
                      <a:lnTo>
                        <a:pt x="4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71440" y="30409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160" h="60">
                      <a:moveTo>
                        <a:pt x="157" y="60"/>
                      </a:moveTo>
                      <a:lnTo>
                        <a:pt x="138" y="60"/>
                      </a:lnTo>
                      <a:lnTo>
                        <a:pt x="119" y="57"/>
                      </a:lnTo>
                      <a:lnTo>
                        <a:pt x="101" y="53"/>
                      </a:lnTo>
                      <a:lnTo>
                        <a:pt x="82" y="48"/>
                      </a:lnTo>
                      <a:lnTo>
                        <a:pt x="65" y="40"/>
                      </a:lnTo>
                      <a:lnTo>
                        <a:pt x="47" y="33"/>
                      </a:lnTo>
                      <a:lnTo>
                        <a:pt x="30" y="24"/>
                      </a:lnTo>
                      <a:lnTo>
                        <a:pt x="13" y="16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40" y="13"/>
                      </a:lnTo>
                      <a:lnTo>
                        <a:pt x="61" y="18"/>
                      </a:lnTo>
                      <a:lnTo>
                        <a:pt x="81" y="24"/>
                      </a:lnTo>
                      <a:lnTo>
                        <a:pt x="100" y="30"/>
                      </a:lnTo>
                      <a:lnTo>
                        <a:pt x="120" y="36"/>
                      </a:lnTo>
                      <a:lnTo>
                        <a:pt x="140" y="41"/>
                      </a:lnTo>
                      <a:lnTo>
                        <a:pt x="160" y="48"/>
                      </a:lnTo>
                      <a:lnTo>
                        <a:pt x="159" y="51"/>
                      </a:lnTo>
                      <a:lnTo>
                        <a:pt x="159" y="54"/>
                      </a:lnTo>
                      <a:lnTo>
                        <a:pt x="158" y="57"/>
                      </a:lnTo>
                      <a:lnTo>
                        <a:pt x="157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24000" y="3016080"/>
                  <a:ext cx="20520" cy="15120"/>
                </a:xfrm>
                <a:custGeom>
                  <a:avLst/>
                  <a:gdLst/>
                  <a:ahLst/>
                  <a:rect l="l" t="t" r="r" b="b"/>
                  <a:pathLst>
                    <a:path w="103" h="57">
                      <a:moveTo>
                        <a:pt x="94" y="56"/>
                      </a:moveTo>
                      <a:lnTo>
                        <a:pt x="93" y="57"/>
                      </a:lnTo>
                      <a:lnTo>
                        <a:pt x="83" y="55"/>
                      </a:lnTo>
                      <a:lnTo>
                        <a:pt x="73" y="54"/>
                      </a:lnTo>
                      <a:lnTo>
                        <a:pt x="64" y="53"/>
                      </a:lnTo>
                      <a:lnTo>
                        <a:pt x="54" y="50"/>
                      </a:lnTo>
                      <a:lnTo>
                        <a:pt x="45" y="48"/>
                      </a:lnTo>
                      <a:lnTo>
                        <a:pt x="34" y="44"/>
                      </a:lnTo>
                      <a:lnTo>
                        <a:pt x="25" y="42"/>
                      </a:lnTo>
                      <a:lnTo>
                        <a:pt x="15" y="39"/>
                      </a:lnTo>
                      <a:lnTo>
                        <a:pt x="6" y="37"/>
                      </a:lnTo>
                      <a:lnTo>
                        <a:pt x="3" y="35"/>
                      </a:lnTo>
                      <a:lnTo>
                        <a:pt x="0" y="24"/>
                      </a:lnTo>
                      <a:lnTo>
                        <a:pt x="3" y="16"/>
                      </a:lnTo>
                      <a:lnTo>
                        <a:pt x="7" y="7"/>
                      </a:lnTo>
                      <a:lnTo>
                        <a:pt x="12" y="0"/>
                      </a:lnTo>
                      <a:lnTo>
                        <a:pt x="24" y="4"/>
                      </a:lnTo>
                      <a:lnTo>
                        <a:pt x="35" y="8"/>
                      </a:lnTo>
                      <a:lnTo>
                        <a:pt x="46" y="14"/>
                      </a:lnTo>
                      <a:lnTo>
                        <a:pt x="58" y="19"/>
                      </a:lnTo>
                      <a:lnTo>
                        <a:pt x="69" y="23"/>
                      </a:lnTo>
                      <a:lnTo>
                        <a:pt x="80" y="28"/>
                      </a:lnTo>
                      <a:lnTo>
                        <a:pt x="91" y="34"/>
                      </a:lnTo>
                      <a:lnTo>
                        <a:pt x="103" y="38"/>
                      </a:lnTo>
                      <a:lnTo>
                        <a:pt x="101" y="42"/>
                      </a:lnTo>
                      <a:lnTo>
                        <a:pt x="99" y="46"/>
                      </a:lnTo>
                      <a:lnTo>
                        <a:pt x="96" y="52"/>
                      </a:lnTo>
                      <a:lnTo>
                        <a:pt x="94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4680" y="2928600"/>
                  <a:ext cx="61560" cy="8172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305" y="172"/>
                      </a:moveTo>
                      <a:lnTo>
                        <a:pt x="296" y="180"/>
                      </a:lnTo>
                      <a:lnTo>
                        <a:pt x="288" y="187"/>
                      </a:lnTo>
                      <a:lnTo>
                        <a:pt x="282" y="196"/>
                      </a:lnTo>
                      <a:lnTo>
                        <a:pt x="274" y="204"/>
                      </a:lnTo>
                      <a:lnTo>
                        <a:pt x="269" y="214"/>
                      </a:lnTo>
                      <a:lnTo>
                        <a:pt x="263" y="223"/>
                      </a:lnTo>
                      <a:lnTo>
                        <a:pt x="258" y="233"/>
                      </a:lnTo>
                      <a:lnTo>
                        <a:pt x="253" y="243"/>
                      </a:lnTo>
                      <a:lnTo>
                        <a:pt x="238" y="247"/>
                      </a:lnTo>
                      <a:lnTo>
                        <a:pt x="222" y="250"/>
                      </a:lnTo>
                      <a:lnTo>
                        <a:pt x="207" y="254"/>
                      </a:lnTo>
                      <a:lnTo>
                        <a:pt x="192" y="257"/>
                      </a:lnTo>
                      <a:lnTo>
                        <a:pt x="177" y="260"/>
                      </a:lnTo>
                      <a:lnTo>
                        <a:pt x="162" y="265"/>
                      </a:lnTo>
                      <a:lnTo>
                        <a:pt x="147" y="268"/>
                      </a:lnTo>
                      <a:lnTo>
                        <a:pt x="131" y="272"/>
                      </a:lnTo>
                      <a:lnTo>
                        <a:pt x="116" y="275"/>
                      </a:lnTo>
                      <a:lnTo>
                        <a:pt x="102" y="279"/>
                      </a:lnTo>
                      <a:lnTo>
                        <a:pt x="87" y="284"/>
                      </a:lnTo>
                      <a:lnTo>
                        <a:pt x="72" y="287"/>
                      </a:lnTo>
                      <a:lnTo>
                        <a:pt x="57" y="291"/>
                      </a:lnTo>
                      <a:lnTo>
                        <a:pt x="42" y="295"/>
                      </a:lnTo>
                      <a:lnTo>
                        <a:pt x="28" y="298"/>
                      </a:lnTo>
                      <a:lnTo>
                        <a:pt x="13" y="303"/>
                      </a:lnTo>
                      <a:lnTo>
                        <a:pt x="16" y="294"/>
                      </a:lnTo>
                      <a:lnTo>
                        <a:pt x="19" y="287"/>
                      </a:lnTo>
                      <a:lnTo>
                        <a:pt x="21" y="278"/>
                      </a:lnTo>
                      <a:lnTo>
                        <a:pt x="23" y="270"/>
                      </a:lnTo>
                      <a:lnTo>
                        <a:pt x="27" y="244"/>
                      </a:lnTo>
                      <a:lnTo>
                        <a:pt x="27" y="220"/>
                      </a:lnTo>
                      <a:lnTo>
                        <a:pt x="24" y="195"/>
                      </a:lnTo>
                      <a:lnTo>
                        <a:pt x="20" y="170"/>
                      </a:lnTo>
                      <a:lnTo>
                        <a:pt x="15" y="146"/>
                      </a:lnTo>
                      <a:lnTo>
                        <a:pt x="10" y="122"/>
                      </a:lnTo>
                      <a:lnTo>
                        <a:pt x="4" y="97"/>
                      </a:lnTo>
                      <a:lnTo>
                        <a:pt x="0" y="73"/>
                      </a:lnTo>
                      <a:lnTo>
                        <a:pt x="18" y="70"/>
                      </a:lnTo>
                      <a:lnTo>
                        <a:pt x="35" y="66"/>
                      </a:lnTo>
                      <a:lnTo>
                        <a:pt x="53" y="63"/>
                      </a:lnTo>
                      <a:lnTo>
                        <a:pt x="70" y="60"/>
                      </a:lnTo>
                      <a:lnTo>
                        <a:pt x="87" y="56"/>
                      </a:lnTo>
                      <a:lnTo>
                        <a:pt x="105" y="52"/>
                      </a:lnTo>
                      <a:lnTo>
                        <a:pt x="122" y="46"/>
                      </a:lnTo>
                      <a:lnTo>
                        <a:pt x="139" y="42"/>
                      </a:lnTo>
                      <a:lnTo>
                        <a:pt x="156" y="37"/>
                      </a:lnTo>
                      <a:lnTo>
                        <a:pt x="173" y="32"/>
                      </a:lnTo>
                      <a:lnTo>
                        <a:pt x="191" y="26"/>
                      </a:lnTo>
                      <a:lnTo>
                        <a:pt x="207" y="21"/>
                      </a:lnTo>
                      <a:lnTo>
                        <a:pt x="224" y="16"/>
                      </a:lnTo>
                      <a:lnTo>
                        <a:pt x="241" y="10"/>
                      </a:lnTo>
                      <a:lnTo>
                        <a:pt x="258" y="5"/>
                      </a:lnTo>
                      <a:lnTo>
                        <a:pt x="275" y="0"/>
                      </a:lnTo>
                      <a:lnTo>
                        <a:pt x="277" y="43"/>
                      </a:lnTo>
                      <a:lnTo>
                        <a:pt x="285" y="87"/>
                      </a:lnTo>
                      <a:lnTo>
                        <a:pt x="294" y="129"/>
                      </a:lnTo>
                      <a:lnTo>
                        <a:pt x="305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042280" y="2814840"/>
                  <a:ext cx="106560" cy="126360"/>
                </a:xfrm>
                <a:custGeom>
                  <a:avLst/>
                  <a:gdLst/>
                  <a:ahLst/>
                  <a:rect l="l" t="t" r="r" b="b"/>
                  <a:pathLst>
                    <a:path w="527" h="468">
                      <a:moveTo>
                        <a:pt x="526" y="349"/>
                      </a:moveTo>
                      <a:lnTo>
                        <a:pt x="526" y="349"/>
                      </a:lnTo>
                      <a:lnTo>
                        <a:pt x="527" y="349"/>
                      </a:lnTo>
                      <a:lnTo>
                        <a:pt x="527" y="350"/>
                      </a:lnTo>
                      <a:lnTo>
                        <a:pt x="527" y="350"/>
                      </a:lnTo>
                      <a:lnTo>
                        <a:pt x="520" y="355"/>
                      </a:lnTo>
                      <a:lnTo>
                        <a:pt x="512" y="357"/>
                      </a:lnTo>
                      <a:lnTo>
                        <a:pt x="505" y="359"/>
                      </a:lnTo>
                      <a:lnTo>
                        <a:pt x="499" y="363"/>
                      </a:lnTo>
                      <a:lnTo>
                        <a:pt x="491" y="365"/>
                      </a:lnTo>
                      <a:lnTo>
                        <a:pt x="484" y="367"/>
                      </a:lnTo>
                      <a:lnTo>
                        <a:pt x="476" y="369"/>
                      </a:lnTo>
                      <a:lnTo>
                        <a:pt x="469" y="372"/>
                      </a:lnTo>
                      <a:lnTo>
                        <a:pt x="462" y="374"/>
                      </a:lnTo>
                      <a:lnTo>
                        <a:pt x="460" y="373"/>
                      </a:lnTo>
                      <a:lnTo>
                        <a:pt x="458" y="373"/>
                      </a:lnTo>
                      <a:lnTo>
                        <a:pt x="456" y="372"/>
                      </a:lnTo>
                      <a:lnTo>
                        <a:pt x="454" y="372"/>
                      </a:lnTo>
                      <a:lnTo>
                        <a:pt x="450" y="373"/>
                      </a:lnTo>
                      <a:lnTo>
                        <a:pt x="445" y="375"/>
                      </a:lnTo>
                      <a:lnTo>
                        <a:pt x="442" y="377"/>
                      </a:lnTo>
                      <a:lnTo>
                        <a:pt x="438" y="382"/>
                      </a:lnTo>
                      <a:lnTo>
                        <a:pt x="414" y="390"/>
                      </a:lnTo>
                      <a:lnTo>
                        <a:pt x="390" y="399"/>
                      </a:lnTo>
                      <a:lnTo>
                        <a:pt x="365" y="406"/>
                      </a:lnTo>
                      <a:lnTo>
                        <a:pt x="341" y="414"/>
                      </a:lnTo>
                      <a:lnTo>
                        <a:pt x="317" y="422"/>
                      </a:lnTo>
                      <a:lnTo>
                        <a:pt x="291" y="429"/>
                      </a:lnTo>
                      <a:lnTo>
                        <a:pt x="267" y="436"/>
                      </a:lnTo>
                      <a:lnTo>
                        <a:pt x="243" y="442"/>
                      </a:lnTo>
                      <a:lnTo>
                        <a:pt x="217" y="447"/>
                      </a:lnTo>
                      <a:lnTo>
                        <a:pt x="192" y="451"/>
                      </a:lnTo>
                      <a:lnTo>
                        <a:pt x="166" y="456"/>
                      </a:lnTo>
                      <a:lnTo>
                        <a:pt x="142" y="459"/>
                      </a:lnTo>
                      <a:lnTo>
                        <a:pt x="117" y="461"/>
                      </a:lnTo>
                      <a:lnTo>
                        <a:pt x="91" y="462"/>
                      </a:lnTo>
                      <a:lnTo>
                        <a:pt x="65" y="462"/>
                      </a:lnTo>
                      <a:lnTo>
                        <a:pt x="39" y="461"/>
                      </a:lnTo>
                      <a:lnTo>
                        <a:pt x="34" y="461"/>
                      </a:lnTo>
                      <a:lnTo>
                        <a:pt x="30" y="461"/>
                      </a:lnTo>
                      <a:lnTo>
                        <a:pt x="25" y="462"/>
                      </a:lnTo>
                      <a:lnTo>
                        <a:pt x="20" y="463"/>
                      </a:lnTo>
                      <a:lnTo>
                        <a:pt x="15" y="465"/>
                      </a:lnTo>
                      <a:lnTo>
                        <a:pt x="10" y="466"/>
                      </a:lnTo>
                      <a:lnTo>
                        <a:pt x="5" y="467"/>
                      </a:lnTo>
                      <a:lnTo>
                        <a:pt x="0" y="468"/>
                      </a:lnTo>
                      <a:lnTo>
                        <a:pt x="3" y="399"/>
                      </a:lnTo>
                      <a:lnTo>
                        <a:pt x="8" y="329"/>
                      </a:lnTo>
                      <a:lnTo>
                        <a:pt x="11" y="259"/>
                      </a:lnTo>
                      <a:lnTo>
                        <a:pt x="11" y="188"/>
                      </a:lnTo>
                      <a:lnTo>
                        <a:pt x="15" y="170"/>
                      </a:lnTo>
                      <a:lnTo>
                        <a:pt x="18" y="151"/>
                      </a:lnTo>
                      <a:lnTo>
                        <a:pt x="20" y="131"/>
                      </a:lnTo>
                      <a:lnTo>
                        <a:pt x="21" y="110"/>
                      </a:lnTo>
                      <a:lnTo>
                        <a:pt x="26" y="110"/>
                      </a:lnTo>
                      <a:lnTo>
                        <a:pt x="30" y="110"/>
                      </a:lnTo>
                      <a:lnTo>
                        <a:pt x="34" y="110"/>
                      </a:lnTo>
                      <a:lnTo>
                        <a:pt x="38" y="110"/>
                      </a:lnTo>
                      <a:lnTo>
                        <a:pt x="43" y="110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5" y="110"/>
                      </a:lnTo>
                      <a:lnTo>
                        <a:pt x="85" y="106"/>
                      </a:lnTo>
                      <a:lnTo>
                        <a:pt x="87" y="105"/>
                      </a:lnTo>
                      <a:lnTo>
                        <a:pt x="89" y="103"/>
                      </a:lnTo>
                      <a:lnTo>
                        <a:pt x="90" y="101"/>
                      </a:lnTo>
                      <a:lnTo>
                        <a:pt x="91" y="98"/>
                      </a:lnTo>
                      <a:lnTo>
                        <a:pt x="91" y="92"/>
                      </a:lnTo>
                      <a:lnTo>
                        <a:pt x="91" y="77"/>
                      </a:lnTo>
                      <a:lnTo>
                        <a:pt x="91" y="53"/>
                      </a:lnTo>
                      <a:lnTo>
                        <a:pt x="91" y="25"/>
                      </a:lnTo>
                      <a:lnTo>
                        <a:pt x="105" y="24"/>
                      </a:lnTo>
                      <a:lnTo>
                        <a:pt x="119" y="24"/>
                      </a:lnTo>
                      <a:lnTo>
                        <a:pt x="132" y="23"/>
                      </a:lnTo>
                      <a:lnTo>
                        <a:pt x="146" y="21"/>
                      </a:lnTo>
                      <a:lnTo>
                        <a:pt x="160" y="20"/>
                      </a:lnTo>
                      <a:lnTo>
                        <a:pt x="174" y="19"/>
                      </a:lnTo>
                      <a:lnTo>
                        <a:pt x="188" y="18"/>
                      </a:lnTo>
                      <a:lnTo>
                        <a:pt x="201" y="17"/>
                      </a:lnTo>
                      <a:lnTo>
                        <a:pt x="215" y="16"/>
                      </a:lnTo>
                      <a:lnTo>
                        <a:pt x="229" y="15"/>
                      </a:lnTo>
                      <a:lnTo>
                        <a:pt x="243" y="13"/>
                      </a:lnTo>
                      <a:lnTo>
                        <a:pt x="256" y="12"/>
                      </a:lnTo>
                      <a:lnTo>
                        <a:pt x="270" y="10"/>
                      </a:lnTo>
                      <a:lnTo>
                        <a:pt x="284" y="8"/>
                      </a:lnTo>
                      <a:lnTo>
                        <a:pt x="298" y="5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0"/>
                      </a:lnTo>
                      <a:lnTo>
                        <a:pt x="321" y="11"/>
                      </a:lnTo>
                      <a:lnTo>
                        <a:pt x="325" y="23"/>
                      </a:lnTo>
                      <a:lnTo>
                        <a:pt x="330" y="33"/>
                      </a:lnTo>
                      <a:lnTo>
                        <a:pt x="336" y="44"/>
                      </a:lnTo>
                      <a:lnTo>
                        <a:pt x="338" y="48"/>
                      </a:lnTo>
                      <a:lnTo>
                        <a:pt x="339" y="50"/>
                      </a:lnTo>
                      <a:lnTo>
                        <a:pt x="340" y="51"/>
                      </a:lnTo>
                      <a:lnTo>
                        <a:pt x="341" y="52"/>
                      </a:lnTo>
                      <a:lnTo>
                        <a:pt x="343" y="53"/>
                      </a:lnTo>
                      <a:lnTo>
                        <a:pt x="352" y="55"/>
                      </a:lnTo>
                      <a:lnTo>
                        <a:pt x="353" y="56"/>
                      </a:lnTo>
                      <a:lnTo>
                        <a:pt x="354" y="56"/>
                      </a:lnTo>
                      <a:lnTo>
                        <a:pt x="355" y="56"/>
                      </a:lnTo>
                      <a:lnTo>
                        <a:pt x="356" y="56"/>
                      </a:lnTo>
                      <a:lnTo>
                        <a:pt x="362" y="54"/>
                      </a:lnTo>
                      <a:lnTo>
                        <a:pt x="367" y="53"/>
                      </a:lnTo>
                      <a:lnTo>
                        <a:pt x="373" y="51"/>
                      </a:lnTo>
                      <a:lnTo>
                        <a:pt x="377" y="50"/>
                      </a:lnTo>
                      <a:lnTo>
                        <a:pt x="382" y="48"/>
                      </a:lnTo>
                      <a:lnTo>
                        <a:pt x="386" y="46"/>
                      </a:lnTo>
                      <a:lnTo>
                        <a:pt x="392" y="44"/>
                      </a:lnTo>
                      <a:lnTo>
                        <a:pt x="396" y="42"/>
                      </a:lnTo>
                      <a:lnTo>
                        <a:pt x="400" y="38"/>
                      </a:lnTo>
                      <a:lnTo>
                        <a:pt x="416" y="78"/>
                      </a:lnTo>
                      <a:lnTo>
                        <a:pt x="433" y="117"/>
                      </a:lnTo>
                      <a:lnTo>
                        <a:pt x="448" y="156"/>
                      </a:lnTo>
                      <a:lnTo>
                        <a:pt x="464" y="194"/>
                      </a:lnTo>
                      <a:lnTo>
                        <a:pt x="480" y="231"/>
                      </a:lnTo>
                      <a:lnTo>
                        <a:pt x="494" y="267"/>
                      </a:lnTo>
                      <a:lnTo>
                        <a:pt x="509" y="302"/>
                      </a:lnTo>
                      <a:lnTo>
                        <a:pt x="523" y="335"/>
                      </a:lnTo>
                      <a:lnTo>
                        <a:pt x="526" y="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47680" y="2732040"/>
                  <a:ext cx="48600" cy="25920"/>
                </a:xfrm>
                <a:custGeom>
                  <a:avLst/>
                  <a:gdLst/>
                  <a:ahLst/>
                  <a:rect l="l" t="t" r="r" b="b"/>
                  <a:pathLst>
                    <a:path w="241" h="97">
                      <a:moveTo>
                        <a:pt x="235" y="92"/>
                      </a:moveTo>
                      <a:lnTo>
                        <a:pt x="238" y="91"/>
                      </a:lnTo>
                      <a:lnTo>
                        <a:pt x="240" y="88"/>
                      </a:lnTo>
                      <a:lnTo>
                        <a:pt x="241" y="85"/>
                      </a:lnTo>
                      <a:lnTo>
                        <a:pt x="241" y="82"/>
                      </a:lnTo>
                      <a:lnTo>
                        <a:pt x="239" y="79"/>
                      </a:lnTo>
                      <a:lnTo>
                        <a:pt x="236" y="76"/>
                      </a:lnTo>
                      <a:lnTo>
                        <a:pt x="233" y="75"/>
                      </a:lnTo>
                      <a:lnTo>
                        <a:pt x="229" y="75"/>
                      </a:lnTo>
                      <a:lnTo>
                        <a:pt x="215" y="77"/>
                      </a:lnTo>
                      <a:lnTo>
                        <a:pt x="200" y="79"/>
                      </a:lnTo>
                      <a:lnTo>
                        <a:pt x="185" y="79"/>
                      </a:lnTo>
                      <a:lnTo>
                        <a:pt x="170" y="79"/>
                      </a:lnTo>
                      <a:lnTo>
                        <a:pt x="155" y="77"/>
                      </a:lnTo>
                      <a:lnTo>
                        <a:pt x="140" y="75"/>
                      </a:lnTo>
                      <a:lnTo>
                        <a:pt x="126" y="72"/>
                      </a:lnTo>
                      <a:lnTo>
                        <a:pt x="112" y="69"/>
                      </a:lnTo>
                      <a:lnTo>
                        <a:pt x="98" y="64"/>
                      </a:lnTo>
                      <a:lnTo>
                        <a:pt x="84" y="58"/>
                      </a:lnTo>
                      <a:lnTo>
                        <a:pt x="71" y="52"/>
                      </a:lnTo>
                      <a:lnTo>
                        <a:pt x="58" y="44"/>
                      </a:lnTo>
                      <a:lnTo>
                        <a:pt x="46" y="35"/>
                      </a:lnTo>
                      <a:lnTo>
                        <a:pt x="36" y="26"/>
                      </a:lnTo>
                      <a:lnTo>
                        <a:pt x="25" y="15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12" y="28"/>
                      </a:lnTo>
                      <a:lnTo>
                        <a:pt x="23" y="39"/>
                      </a:lnTo>
                      <a:lnTo>
                        <a:pt x="36" y="50"/>
                      </a:lnTo>
                      <a:lnTo>
                        <a:pt x="48" y="59"/>
                      </a:lnTo>
                      <a:lnTo>
                        <a:pt x="62" y="67"/>
                      </a:lnTo>
                      <a:lnTo>
                        <a:pt x="77" y="74"/>
                      </a:lnTo>
                      <a:lnTo>
                        <a:pt x="92" y="81"/>
                      </a:lnTo>
                      <a:lnTo>
                        <a:pt x="107" y="86"/>
                      </a:lnTo>
                      <a:lnTo>
                        <a:pt x="122" y="90"/>
                      </a:lnTo>
                      <a:lnTo>
                        <a:pt x="138" y="93"/>
                      </a:lnTo>
                      <a:lnTo>
                        <a:pt x="154" y="95"/>
                      </a:lnTo>
                      <a:lnTo>
                        <a:pt x="171" y="97"/>
                      </a:lnTo>
                      <a:lnTo>
                        <a:pt x="187" y="97"/>
                      </a:lnTo>
                      <a:lnTo>
                        <a:pt x="203" y="97"/>
                      </a:lnTo>
                      <a:lnTo>
                        <a:pt x="219" y="94"/>
                      </a:lnTo>
                      <a:lnTo>
                        <a:pt x="235" y="92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66760" y="2860560"/>
                  <a:ext cx="47880" cy="44640"/>
                </a:xfrm>
                <a:custGeom>
                  <a:avLst/>
                  <a:gdLst/>
                  <a:ahLst/>
                  <a:rect l="l" t="t" r="r" b="b"/>
                  <a:pathLst>
                    <a:path w="238" h="166">
                      <a:moveTo>
                        <a:pt x="234" y="98"/>
                      </a:moveTo>
                      <a:lnTo>
                        <a:pt x="230" y="88"/>
                      </a:lnTo>
                      <a:lnTo>
                        <a:pt x="225" y="78"/>
                      </a:lnTo>
                      <a:lnTo>
                        <a:pt x="221" y="69"/>
                      </a:lnTo>
                      <a:lnTo>
                        <a:pt x="216" y="58"/>
                      </a:lnTo>
                      <a:lnTo>
                        <a:pt x="211" y="48"/>
                      </a:lnTo>
                      <a:lnTo>
                        <a:pt x="206" y="39"/>
                      </a:lnTo>
                      <a:lnTo>
                        <a:pt x="203" y="28"/>
                      </a:lnTo>
                      <a:lnTo>
                        <a:pt x="200" y="18"/>
                      </a:lnTo>
                      <a:lnTo>
                        <a:pt x="198" y="7"/>
                      </a:lnTo>
                      <a:lnTo>
                        <a:pt x="197" y="5"/>
                      </a:lnTo>
                      <a:lnTo>
                        <a:pt x="195" y="3"/>
                      </a:lnTo>
                      <a:lnTo>
                        <a:pt x="193" y="2"/>
                      </a:lnTo>
                      <a:lnTo>
                        <a:pt x="189" y="1"/>
                      </a:lnTo>
                      <a:lnTo>
                        <a:pt x="182" y="0"/>
                      </a:lnTo>
                      <a:lnTo>
                        <a:pt x="161" y="5"/>
                      </a:lnTo>
                      <a:lnTo>
                        <a:pt x="141" y="10"/>
                      </a:lnTo>
                      <a:lnTo>
                        <a:pt x="119" y="16"/>
                      </a:lnTo>
                      <a:lnTo>
                        <a:pt x="99" y="21"/>
                      </a:lnTo>
                      <a:lnTo>
                        <a:pt x="78" y="26"/>
                      </a:lnTo>
                      <a:lnTo>
                        <a:pt x="58" y="31"/>
                      </a:lnTo>
                      <a:lnTo>
                        <a:pt x="37" y="36"/>
                      </a:lnTo>
                      <a:lnTo>
                        <a:pt x="16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2" y="42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5" y="44"/>
                      </a:lnTo>
                      <a:lnTo>
                        <a:pt x="3" y="45"/>
                      </a:lnTo>
                      <a:lnTo>
                        <a:pt x="1" y="48"/>
                      </a:lnTo>
                      <a:lnTo>
                        <a:pt x="0" y="52"/>
                      </a:lnTo>
                      <a:lnTo>
                        <a:pt x="0" y="78"/>
                      </a:lnTo>
                      <a:lnTo>
                        <a:pt x="4" y="103"/>
                      </a:lnTo>
                      <a:lnTo>
                        <a:pt x="10" y="129"/>
                      </a:lnTo>
                      <a:lnTo>
                        <a:pt x="21" y="153"/>
                      </a:lnTo>
                      <a:lnTo>
                        <a:pt x="23" y="159"/>
                      </a:lnTo>
                      <a:lnTo>
                        <a:pt x="24" y="161"/>
                      </a:lnTo>
                      <a:lnTo>
                        <a:pt x="25" y="162"/>
                      </a:lnTo>
                      <a:lnTo>
                        <a:pt x="27" y="163"/>
                      </a:lnTo>
                      <a:lnTo>
                        <a:pt x="28" y="164"/>
                      </a:lnTo>
                      <a:lnTo>
                        <a:pt x="37" y="166"/>
                      </a:lnTo>
                      <a:lnTo>
                        <a:pt x="49" y="165"/>
                      </a:lnTo>
                      <a:lnTo>
                        <a:pt x="61" y="163"/>
                      </a:lnTo>
                      <a:lnTo>
                        <a:pt x="73" y="162"/>
                      </a:lnTo>
                      <a:lnTo>
                        <a:pt x="85" y="160"/>
                      </a:lnTo>
                      <a:lnTo>
                        <a:pt x="97" y="159"/>
                      </a:lnTo>
                      <a:lnTo>
                        <a:pt x="109" y="157"/>
                      </a:lnTo>
                      <a:lnTo>
                        <a:pt x="121" y="155"/>
                      </a:lnTo>
                      <a:lnTo>
                        <a:pt x="132" y="153"/>
                      </a:lnTo>
                      <a:lnTo>
                        <a:pt x="145" y="151"/>
                      </a:lnTo>
                      <a:lnTo>
                        <a:pt x="157" y="149"/>
                      </a:lnTo>
                      <a:lnTo>
                        <a:pt x="168" y="146"/>
                      </a:lnTo>
                      <a:lnTo>
                        <a:pt x="180" y="143"/>
                      </a:lnTo>
                      <a:lnTo>
                        <a:pt x="190" y="139"/>
                      </a:lnTo>
                      <a:lnTo>
                        <a:pt x="202" y="135"/>
                      </a:lnTo>
                      <a:lnTo>
                        <a:pt x="214" y="131"/>
                      </a:lnTo>
                      <a:lnTo>
                        <a:pt x="224" y="126"/>
                      </a:lnTo>
                      <a:lnTo>
                        <a:pt x="227" y="126"/>
                      </a:lnTo>
                      <a:lnTo>
                        <a:pt x="230" y="125"/>
                      </a:lnTo>
                      <a:lnTo>
                        <a:pt x="232" y="124"/>
                      </a:lnTo>
                      <a:lnTo>
                        <a:pt x="233" y="123"/>
                      </a:lnTo>
                      <a:lnTo>
                        <a:pt x="234" y="120"/>
                      </a:lnTo>
                      <a:lnTo>
                        <a:pt x="237" y="115"/>
                      </a:lnTo>
                      <a:lnTo>
                        <a:pt x="238" y="113"/>
                      </a:lnTo>
                      <a:lnTo>
                        <a:pt x="238" y="112"/>
                      </a:lnTo>
                      <a:lnTo>
                        <a:pt x="238" y="110"/>
                      </a:lnTo>
                      <a:lnTo>
                        <a:pt x="237" y="108"/>
                      </a:lnTo>
                      <a:lnTo>
                        <a:pt x="234" y="9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070360" y="2865240"/>
                  <a:ext cx="40320" cy="34920"/>
                </a:xfrm>
                <a:custGeom>
                  <a:avLst/>
                  <a:gdLst/>
                  <a:ahLst/>
                  <a:rect l="l" t="t" r="r" b="b"/>
                  <a:pathLst>
                    <a:path w="201" h="130">
                      <a:moveTo>
                        <a:pt x="31" y="130"/>
                      </a:moveTo>
                      <a:lnTo>
                        <a:pt x="19" y="129"/>
                      </a:lnTo>
                      <a:lnTo>
                        <a:pt x="17" y="124"/>
                      </a:lnTo>
                      <a:lnTo>
                        <a:pt x="8" y="103"/>
                      </a:lnTo>
                      <a:lnTo>
                        <a:pt x="3" y="82"/>
                      </a:lnTo>
                      <a:lnTo>
                        <a:pt x="0" y="6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3" y="38"/>
                      </a:lnTo>
                      <a:lnTo>
                        <a:pt x="22" y="34"/>
                      </a:lnTo>
                      <a:lnTo>
                        <a:pt x="42" y="30"/>
                      </a:lnTo>
                      <a:lnTo>
                        <a:pt x="61" y="26"/>
                      </a:lnTo>
                      <a:lnTo>
                        <a:pt x="80" y="22"/>
                      </a:lnTo>
                      <a:lnTo>
                        <a:pt x="100" y="17"/>
                      </a:lnTo>
                      <a:lnTo>
                        <a:pt x="119" y="11"/>
                      </a:lnTo>
                      <a:lnTo>
                        <a:pt x="139" y="6"/>
                      </a:lnTo>
                      <a:lnTo>
                        <a:pt x="158" y="0"/>
                      </a:lnTo>
                      <a:lnTo>
                        <a:pt x="164" y="0"/>
                      </a:lnTo>
                      <a:lnTo>
                        <a:pt x="165" y="5"/>
                      </a:lnTo>
                      <a:lnTo>
                        <a:pt x="170" y="24"/>
                      </a:lnTo>
                      <a:lnTo>
                        <a:pt x="179" y="42"/>
                      </a:lnTo>
                      <a:lnTo>
                        <a:pt x="187" y="59"/>
                      </a:lnTo>
                      <a:lnTo>
                        <a:pt x="196" y="76"/>
                      </a:lnTo>
                      <a:lnTo>
                        <a:pt x="201" y="91"/>
                      </a:lnTo>
                      <a:lnTo>
                        <a:pt x="193" y="93"/>
                      </a:lnTo>
                      <a:lnTo>
                        <a:pt x="173" y="102"/>
                      </a:lnTo>
                      <a:lnTo>
                        <a:pt x="153" y="109"/>
                      </a:lnTo>
                      <a:lnTo>
                        <a:pt x="133" y="114"/>
                      </a:lnTo>
                      <a:lnTo>
                        <a:pt x="113" y="117"/>
                      </a:lnTo>
                      <a:lnTo>
                        <a:pt x="92" y="120"/>
                      </a:lnTo>
                      <a:lnTo>
                        <a:pt x="72" y="123"/>
                      </a:lnTo>
                      <a:lnTo>
                        <a:pt x="51" y="126"/>
                      </a:lnTo>
                      <a:lnTo>
                        <a:pt x="31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56680" y="270792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18"/>
                      </a:moveTo>
                      <a:lnTo>
                        <a:pt x="1" y="26"/>
                      </a:lnTo>
                      <a:lnTo>
                        <a:pt x="5" y="31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6" y="35"/>
                      </a:lnTo>
                      <a:lnTo>
                        <a:pt x="32" y="31"/>
                      </a:lnTo>
                      <a:lnTo>
                        <a:pt x="36" y="26"/>
                      </a:lnTo>
                      <a:lnTo>
                        <a:pt x="37" y="18"/>
                      </a:lnTo>
                      <a:lnTo>
                        <a:pt x="36" y="11"/>
                      </a:lnTo>
                      <a:lnTo>
                        <a:pt x="32" y="5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93400" y="272592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19"/>
                      </a:moveTo>
                      <a:lnTo>
                        <a:pt x="1" y="25"/>
                      </a:lnTo>
                      <a:lnTo>
                        <a:pt x="5" y="32"/>
                      </a:lnTo>
                      <a:lnTo>
                        <a:pt x="12" y="36"/>
                      </a:lnTo>
                      <a:lnTo>
                        <a:pt x="19" y="37"/>
                      </a:lnTo>
                      <a:lnTo>
                        <a:pt x="27" y="36"/>
                      </a:lnTo>
                      <a:lnTo>
                        <a:pt x="32" y="32"/>
                      </a:lnTo>
                      <a:lnTo>
                        <a:pt x="36" y="25"/>
                      </a:lnTo>
                      <a:lnTo>
                        <a:pt x="37" y="19"/>
                      </a:lnTo>
                      <a:lnTo>
                        <a:pt x="36" y="12"/>
                      </a:lnTo>
                      <a:lnTo>
                        <a:pt x="32" y="5"/>
                      </a:lnTo>
                      <a:lnTo>
                        <a:pt x="27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67120" y="2986200"/>
                  <a:ext cx="203760" cy="51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76840" y="3025080"/>
                  <a:ext cx="38520" cy="2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135160" y="3012120"/>
                  <a:ext cx="38520" cy="2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76840" y="3002400"/>
                  <a:ext cx="11880" cy="33840"/>
                </a:xfrm>
                <a:custGeom>
                  <a:avLst/>
                  <a:gdLst/>
                  <a:ahLst/>
                  <a:rect l="l" t="t" r="r" b="b"/>
                  <a:pathLst>
                    <a:path w="60" h="126">
                      <a:moveTo>
                        <a:pt x="0" y="0"/>
                      </a:moveTo>
                      <a:cubicBezTo>
                        <a:pt x="8" y="24"/>
                        <a:pt x="22" y="106"/>
                        <a:pt x="36" y="120"/>
                      </a:cubicBezTo>
                      <a:cubicBezTo>
                        <a:pt x="42" y="126"/>
                        <a:pt x="52" y="120"/>
                        <a:pt x="60" y="12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25800" y="2982960"/>
                  <a:ext cx="28440" cy="28800"/>
                </a:xfrm>
                <a:custGeom>
                  <a:avLst/>
                  <a:gdLst/>
                  <a:ahLst/>
                  <a:rect l="l" t="t" r="r" b="b"/>
                  <a:pathLst>
                    <a:path w="142" h="108">
                      <a:moveTo>
                        <a:pt x="46" y="0"/>
                      </a:moveTo>
                      <a:cubicBezTo>
                        <a:pt x="45" y="1"/>
                        <a:pt x="0" y="62"/>
                        <a:pt x="10" y="72"/>
                      </a:cubicBezTo>
                      <a:cubicBezTo>
                        <a:pt x="30" y="92"/>
                        <a:pt x="106" y="108"/>
                        <a:pt x="142" y="1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7400" y="2843640"/>
                  <a:ext cx="57960" cy="51840"/>
                </a:xfrm>
                <a:custGeom>
                  <a:avLst/>
                  <a:gdLst>
                    <a:gd name="textAreaLeft" fmla="*/ 13680 w 57960"/>
                    <a:gd name="textAreaRight" fmla="*/ 44280 w 57960"/>
                    <a:gd name="textAreaTop" fmla="*/ 6120 h 51840"/>
                    <a:gd name="textAreaBottom" fmla="*/ 32400 h 518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466360" y="2783160"/>
                <a:ext cx="199800" cy="285840"/>
                <a:chOff x="2466360" y="2783160"/>
                <a:chExt cx="199800" cy="2858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78600" y="2783160"/>
                  <a:ext cx="159840" cy="59040"/>
                </a:xfrm>
                <a:custGeom>
                  <a:avLst/>
                  <a:gdLst/>
                  <a:ahLst/>
                  <a:rect l="l" t="t" r="r" b="b"/>
                  <a:pathLst>
                    <a:path w="1192" h="317">
                      <a:moveTo>
                        <a:pt x="1099" y="2"/>
                      </a:moveTo>
                      <a:lnTo>
                        <a:pt x="1095" y="0"/>
                      </a:lnTo>
                      <a:lnTo>
                        <a:pt x="1089" y="0"/>
                      </a:lnTo>
                      <a:lnTo>
                        <a:pt x="30" y="0"/>
                      </a:lnTo>
                      <a:lnTo>
                        <a:pt x="17" y="2"/>
                      </a:lnTo>
                      <a:lnTo>
                        <a:pt x="9" y="9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2"/>
                      </a:lnTo>
                      <a:lnTo>
                        <a:pt x="17" y="59"/>
                      </a:lnTo>
                      <a:lnTo>
                        <a:pt x="30" y="61"/>
                      </a:lnTo>
                      <a:lnTo>
                        <a:pt x="45" y="61"/>
                      </a:lnTo>
                      <a:lnTo>
                        <a:pt x="55" y="81"/>
                      </a:lnTo>
                      <a:lnTo>
                        <a:pt x="66" y="107"/>
                      </a:lnTo>
                      <a:lnTo>
                        <a:pt x="74" y="137"/>
                      </a:lnTo>
                      <a:lnTo>
                        <a:pt x="77" y="170"/>
                      </a:lnTo>
                      <a:lnTo>
                        <a:pt x="76" y="196"/>
                      </a:lnTo>
                      <a:lnTo>
                        <a:pt x="72" y="219"/>
                      </a:lnTo>
                      <a:lnTo>
                        <a:pt x="64" y="240"/>
                      </a:lnTo>
                      <a:lnTo>
                        <a:pt x="53" y="257"/>
                      </a:lnTo>
                      <a:lnTo>
                        <a:pt x="30" y="257"/>
                      </a:lnTo>
                      <a:lnTo>
                        <a:pt x="17" y="260"/>
                      </a:lnTo>
                      <a:lnTo>
                        <a:pt x="9" y="266"/>
                      </a:lnTo>
                      <a:lnTo>
                        <a:pt x="2" y="275"/>
                      </a:lnTo>
                      <a:lnTo>
                        <a:pt x="0" y="287"/>
                      </a:lnTo>
                      <a:lnTo>
                        <a:pt x="2" y="299"/>
                      </a:lnTo>
                      <a:lnTo>
                        <a:pt x="9" y="308"/>
                      </a:lnTo>
                      <a:lnTo>
                        <a:pt x="17" y="315"/>
                      </a:lnTo>
                      <a:lnTo>
                        <a:pt x="30" y="317"/>
                      </a:lnTo>
                      <a:lnTo>
                        <a:pt x="1101" y="317"/>
                      </a:lnTo>
                      <a:lnTo>
                        <a:pt x="1107" y="317"/>
                      </a:lnTo>
                      <a:lnTo>
                        <a:pt x="1112" y="316"/>
                      </a:lnTo>
                      <a:lnTo>
                        <a:pt x="1130" y="307"/>
                      </a:lnTo>
                      <a:lnTo>
                        <a:pt x="1146" y="295"/>
                      </a:lnTo>
                      <a:lnTo>
                        <a:pt x="1160" y="278"/>
                      </a:lnTo>
                      <a:lnTo>
                        <a:pt x="1171" y="260"/>
                      </a:lnTo>
                      <a:lnTo>
                        <a:pt x="1181" y="239"/>
                      </a:lnTo>
                      <a:lnTo>
                        <a:pt x="1188" y="215"/>
                      </a:lnTo>
                      <a:lnTo>
                        <a:pt x="1191" y="190"/>
                      </a:lnTo>
                      <a:lnTo>
                        <a:pt x="1192" y="162"/>
                      </a:lnTo>
                      <a:lnTo>
                        <a:pt x="1190" y="134"/>
                      </a:lnTo>
                      <a:lnTo>
                        <a:pt x="1184" y="107"/>
                      </a:lnTo>
                      <a:lnTo>
                        <a:pt x="1176" y="82"/>
                      </a:lnTo>
                      <a:lnTo>
                        <a:pt x="1165" y="60"/>
                      </a:lnTo>
                      <a:lnTo>
                        <a:pt x="1152" y="41"/>
                      </a:lnTo>
                      <a:lnTo>
                        <a:pt x="1137" y="24"/>
                      </a:lnTo>
                      <a:lnTo>
                        <a:pt x="1119" y="11"/>
                      </a:lnTo>
                      <a:lnTo>
                        <a:pt x="109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491920" y="2794320"/>
                  <a:ext cx="138240" cy="36360"/>
                </a:xfrm>
                <a:custGeom>
                  <a:avLst/>
                  <a:gdLst/>
                  <a:ahLst/>
                  <a:rect l="l" t="t" r="r" b="b"/>
                  <a:pathLst>
                    <a:path w="1032" h="196">
                      <a:moveTo>
                        <a:pt x="996" y="196"/>
                      </a:moveTo>
                      <a:lnTo>
                        <a:pt x="10" y="196"/>
                      </a:lnTo>
                      <a:lnTo>
                        <a:pt x="18" y="177"/>
                      </a:lnTo>
                      <a:lnTo>
                        <a:pt x="23" y="154"/>
                      </a:lnTo>
                      <a:lnTo>
                        <a:pt x="27" y="131"/>
                      </a:lnTo>
                      <a:lnTo>
                        <a:pt x="27" y="108"/>
                      </a:lnTo>
                      <a:lnTo>
                        <a:pt x="23" y="78"/>
                      </a:lnTo>
                      <a:lnTo>
                        <a:pt x="18" y="51"/>
                      </a:lnTo>
                      <a:lnTo>
                        <a:pt x="10" y="24"/>
                      </a:lnTo>
                      <a:lnTo>
                        <a:pt x="0" y="0"/>
                      </a:lnTo>
                      <a:lnTo>
                        <a:pt x="985" y="0"/>
                      </a:lnTo>
                      <a:lnTo>
                        <a:pt x="996" y="6"/>
                      </a:lnTo>
                      <a:lnTo>
                        <a:pt x="1006" y="16"/>
                      </a:lnTo>
                      <a:lnTo>
                        <a:pt x="1013" y="28"/>
                      </a:lnTo>
                      <a:lnTo>
                        <a:pt x="1020" y="42"/>
                      </a:lnTo>
                      <a:lnTo>
                        <a:pt x="1026" y="56"/>
                      </a:lnTo>
                      <a:lnTo>
                        <a:pt x="1029" y="72"/>
                      </a:lnTo>
                      <a:lnTo>
                        <a:pt x="1031" y="87"/>
                      </a:lnTo>
                      <a:lnTo>
                        <a:pt x="1032" y="103"/>
                      </a:lnTo>
                      <a:lnTo>
                        <a:pt x="1032" y="119"/>
                      </a:lnTo>
                      <a:lnTo>
                        <a:pt x="1030" y="135"/>
                      </a:lnTo>
                      <a:lnTo>
                        <a:pt x="1027" y="149"/>
                      </a:lnTo>
                      <a:lnTo>
                        <a:pt x="1022" y="161"/>
                      </a:lnTo>
                      <a:lnTo>
                        <a:pt x="1017" y="173"/>
                      </a:lnTo>
                      <a:lnTo>
                        <a:pt x="1011" y="183"/>
                      </a:lnTo>
                      <a:lnTo>
                        <a:pt x="1003" y="191"/>
                      </a:lnTo>
                      <a:lnTo>
                        <a:pt x="996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01640" y="2800800"/>
                  <a:ext cx="114120" cy="3960"/>
                </a:xfrm>
                <a:custGeom>
                  <a:avLst/>
                  <a:gdLst/>
                  <a:ahLst/>
                  <a:rect l="l" t="t" r="r" b="b"/>
                  <a:pathLst>
                    <a:path w="851" h="23">
                      <a:moveTo>
                        <a:pt x="11" y="23"/>
                      </a:moveTo>
                      <a:lnTo>
                        <a:pt x="839" y="23"/>
                      </a:lnTo>
                      <a:lnTo>
                        <a:pt x="839" y="23"/>
                      </a:lnTo>
                      <a:lnTo>
                        <a:pt x="843" y="22"/>
                      </a:lnTo>
                      <a:lnTo>
                        <a:pt x="848" y="20"/>
                      </a:lnTo>
                      <a:lnTo>
                        <a:pt x="850" y="15"/>
                      </a:lnTo>
                      <a:lnTo>
                        <a:pt x="851" y="11"/>
                      </a:lnTo>
                      <a:lnTo>
                        <a:pt x="850" y="7"/>
                      </a:lnTo>
                      <a:lnTo>
                        <a:pt x="848" y="3"/>
                      </a:lnTo>
                      <a:lnTo>
                        <a:pt x="843" y="1"/>
                      </a:lnTo>
                      <a:lnTo>
                        <a:pt x="839" y="0"/>
                      </a:lnTo>
                      <a:lnTo>
                        <a:pt x="83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20"/>
                      </a:lnTo>
                      <a:lnTo>
                        <a:pt x="7" y="22"/>
                      </a:lnTo>
                      <a:lnTo>
                        <a:pt x="11" y="23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22520" y="2810520"/>
                  <a:ext cx="114120" cy="4320"/>
                </a:xfrm>
                <a:custGeom>
                  <a:avLst/>
                  <a:gdLst/>
                  <a:ahLst/>
                  <a:rect l="l" t="t" r="r" b="b"/>
                  <a:pathLst>
                    <a:path w="852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1" y="17"/>
                      </a:lnTo>
                      <a:lnTo>
                        <a:pt x="852" y="12"/>
                      </a:lnTo>
                      <a:lnTo>
                        <a:pt x="851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00200" y="2820240"/>
                  <a:ext cx="114120" cy="4320"/>
                </a:xfrm>
                <a:custGeom>
                  <a:avLst/>
                  <a:gdLst/>
                  <a:ahLst/>
                  <a:rect l="l" t="t" r="r" b="b"/>
                  <a:pathLst>
                    <a:path w="851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0" y="17"/>
                      </a:lnTo>
                      <a:lnTo>
                        <a:pt x="851" y="12"/>
                      </a:lnTo>
                      <a:lnTo>
                        <a:pt x="850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66360" y="2895840"/>
                  <a:ext cx="199800" cy="28440"/>
                </a:xfrm>
                <a:custGeom>
                  <a:avLst/>
                  <a:gdLst/>
                  <a:ahLst/>
                  <a:rect l="l" t="t" r="r" b="b"/>
                  <a:pathLst>
                    <a:path w="1491" h="153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1491" y="153"/>
                      </a:lnTo>
                      <a:lnTo>
                        <a:pt x="1491" y="105"/>
                      </a:lnTo>
                      <a:lnTo>
                        <a:pt x="1434" y="105"/>
                      </a:lnTo>
                      <a:lnTo>
                        <a:pt x="1434" y="49"/>
                      </a:lnTo>
                      <a:lnTo>
                        <a:pt x="1491" y="49"/>
                      </a:lnTo>
                      <a:lnTo>
                        <a:pt x="149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72840" y="2904840"/>
                  <a:ext cx="179280" cy="10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69960" y="2957760"/>
                  <a:ext cx="168840" cy="57600"/>
                </a:xfrm>
                <a:custGeom>
                  <a:avLst/>
                  <a:gdLst/>
                  <a:ahLst/>
                  <a:rect l="l" t="t" r="r" b="b"/>
                  <a:pathLst>
                    <a:path w="1259" h="309">
                      <a:moveTo>
                        <a:pt x="1184" y="0"/>
                      </a:move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3"/>
                      </a:lnTo>
                      <a:lnTo>
                        <a:pt x="7" y="40"/>
                      </a:lnTo>
                      <a:lnTo>
                        <a:pt x="15" y="46"/>
                      </a:lnTo>
                      <a:lnTo>
                        <a:pt x="24" y="48"/>
                      </a:lnTo>
                      <a:lnTo>
                        <a:pt x="72" y="48"/>
                      </a:lnTo>
                      <a:lnTo>
                        <a:pt x="80" y="67"/>
                      </a:lnTo>
                      <a:lnTo>
                        <a:pt x="88" y="89"/>
                      </a:lnTo>
                      <a:lnTo>
                        <a:pt x="95" y="114"/>
                      </a:lnTo>
                      <a:lnTo>
                        <a:pt x="99" y="142"/>
                      </a:lnTo>
                      <a:lnTo>
                        <a:pt x="100" y="172"/>
                      </a:lnTo>
                      <a:lnTo>
                        <a:pt x="97" y="202"/>
                      </a:lnTo>
                      <a:lnTo>
                        <a:pt x="89" y="232"/>
                      </a:lnTo>
                      <a:lnTo>
                        <a:pt x="76" y="260"/>
                      </a:lnTo>
                      <a:lnTo>
                        <a:pt x="76" y="261"/>
                      </a:lnTo>
                      <a:lnTo>
                        <a:pt x="24" y="261"/>
                      </a:lnTo>
                      <a:lnTo>
                        <a:pt x="15" y="264"/>
                      </a:lnTo>
                      <a:lnTo>
                        <a:pt x="7" y="268"/>
                      </a:lnTo>
                      <a:lnTo>
                        <a:pt x="2" y="276"/>
                      </a:lnTo>
                      <a:lnTo>
                        <a:pt x="0" y="285"/>
                      </a:lnTo>
                      <a:lnTo>
                        <a:pt x="2" y="293"/>
                      </a:lnTo>
                      <a:lnTo>
                        <a:pt x="7" y="301"/>
                      </a:lnTo>
                      <a:lnTo>
                        <a:pt x="15" y="307"/>
                      </a:lnTo>
                      <a:lnTo>
                        <a:pt x="24" y="309"/>
                      </a:lnTo>
                      <a:lnTo>
                        <a:pt x="1184" y="309"/>
                      </a:lnTo>
                      <a:lnTo>
                        <a:pt x="1203" y="306"/>
                      </a:lnTo>
                      <a:lnTo>
                        <a:pt x="1220" y="296"/>
                      </a:lnTo>
                      <a:lnTo>
                        <a:pt x="1232" y="280"/>
                      </a:lnTo>
                      <a:lnTo>
                        <a:pt x="1243" y="259"/>
                      </a:lnTo>
                      <a:lnTo>
                        <a:pt x="1251" y="236"/>
                      </a:lnTo>
                      <a:lnTo>
                        <a:pt x="1255" y="211"/>
                      </a:lnTo>
                      <a:lnTo>
                        <a:pt x="1258" y="183"/>
                      </a:lnTo>
                      <a:lnTo>
                        <a:pt x="1259" y="154"/>
                      </a:lnTo>
                      <a:lnTo>
                        <a:pt x="1258" y="126"/>
                      </a:lnTo>
                      <a:lnTo>
                        <a:pt x="1255" y="98"/>
                      </a:lnTo>
                      <a:lnTo>
                        <a:pt x="1251" y="72"/>
                      </a:lnTo>
                      <a:lnTo>
                        <a:pt x="1243" y="48"/>
                      </a:lnTo>
                      <a:lnTo>
                        <a:pt x="1232" y="28"/>
                      </a:lnTo>
                      <a:lnTo>
                        <a:pt x="1220" y="13"/>
                      </a:lnTo>
                      <a:lnTo>
                        <a:pt x="1203" y="3"/>
                      </a:lnTo>
                      <a:lnTo>
                        <a:pt x="11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86880" y="2966760"/>
                  <a:ext cx="145800" cy="39600"/>
                </a:xfrm>
                <a:custGeom>
                  <a:avLst/>
                  <a:gdLst/>
                  <a:ahLst/>
                  <a:rect l="l" t="t" r="r" b="b"/>
                  <a:pathLst>
                    <a:path w="1088" h="213">
                      <a:moveTo>
                        <a:pt x="1060" y="213"/>
                      </a:moveTo>
                      <a:lnTo>
                        <a:pt x="5" y="213"/>
                      </a:lnTo>
                      <a:lnTo>
                        <a:pt x="15" y="185"/>
                      </a:lnTo>
                      <a:lnTo>
                        <a:pt x="22" y="156"/>
                      </a:lnTo>
                      <a:lnTo>
                        <a:pt x="24" y="127"/>
                      </a:lnTo>
                      <a:lnTo>
                        <a:pt x="24" y="99"/>
                      </a:lnTo>
                      <a:lnTo>
                        <a:pt x="21" y="71"/>
                      </a:lnTo>
                      <a:lnTo>
                        <a:pt x="15" y="45"/>
                      </a:lnTo>
                      <a:lnTo>
                        <a:pt x="7" y="22"/>
                      </a:lnTo>
                      <a:lnTo>
                        <a:pt x="0" y="0"/>
                      </a:lnTo>
                      <a:lnTo>
                        <a:pt x="1060" y="0"/>
                      </a:lnTo>
                      <a:lnTo>
                        <a:pt x="1068" y="7"/>
                      </a:lnTo>
                      <a:lnTo>
                        <a:pt x="1077" y="28"/>
                      </a:lnTo>
                      <a:lnTo>
                        <a:pt x="1085" y="61"/>
                      </a:lnTo>
                      <a:lnTo>
                        <a:pt x="1088" y="106"/>
                      </a:lnTo>
                      <a:lnTo>
                        <a:pt x="1085" y="153"/>
                      </a:lnTo>
                      <a:lnTo>
                        <a:pt x="1077" y="186"/>
                      </a:lnTo>
                      <a:lnTo>
                        <a:pt x="1068" y="207"/>
                      </a:lnTo>
                      <a:lnTo>
                        <a:pt x="1060" y="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81120" y="2925000"/>
                  <a:ext cx="181440" cy="31320"/>
                </a:xfrm>
                <a:custGeom>
                  <a:avLst/>
                  <a:gdLst/>
                  <a:ahLst/>
                  <a:rect l="l" t="t" r="r" b="b"/>
                  <a:pathLst>
                    <a:path w="1354" h="168">
                      <a:moveTo>
                        <a:pt x="0" y="88"/>
                      </a:moveTo>
                      <a:lnTo>
                        <a:pt x="1" y="104"/>
                      </a:lnTo>
                      <a:lnTo>
                        <a:pt x="4" y="118"/>
                      </a:lnTo>
                      <a:lnTo>
                        <a:pt x="11" y="130"/>
                      </a:lnTo>
                      <a:lnTo>
                        <a:pt x="18" y="142"/>
                      </a:lnTo>
                      <a:lnTo>
                        <a:pt x="24" y="148"/>
                      </a:lnTo>
                      <a:lnTo>
                        <a:pt x="29" y="153"/>
                      </a:lnTo>
                      <a:lnTo>
                        <a:pt x="36" y="158"/>
                      </a:lnTo>
                      <a:lnTo>
                        <a:pt x="43" y="161"/>
                      </a:lnTo>
                      <a:lnTo>
                        <a:pt x="50" y="165"/>
                      </a:lnTo>
                      <a:lnTo>
                        <a:pt x="58" y="166"/>
                      </a:lnTo>
                      <a:lnTo>
                        <a:pt x="66" y="168"/>
                      </a:lnTo>
                      <a:lnTo>
                        <a:pt x="75" y="168"/>
                      </a:lnTo>
                      <a:lnTo>
                        <a:pt x="1335" y="168"/>
                      </a:lnTo>
                      <a:lnTo>
                        <a:pt x="1342" y="167"/>
                      </a:lnTo>
                      <a:lnTo>
                        <a:pt x="1349" y="163"/>
                      </a:lnTo>
                      <a:lnTo>
                        <a:pt x="1353" y="157"/>
                      </a:lnTo>
                      <a:lnTo>
                        <a:pt x="1354" y="149"/>
                      </a:lnTo>
                      <a:lnTo>
                        <a:pt x="1353" y="143"/>
                      </a:lnTo>
                      <a:lnTo>
                        <a:pt x="1349" y="137"/>
                      </a:lnTo>
                      <a:lnTo>
                        <a:pt x="1342" y="134"/>
                      </a:lnTo>
                      <a:lnTo>
                        <a:pt x="1335" y="133"/>
                      </a:lnTo>
                      <a:lnTo>
                        <a:pt x="1255" y="133"/>
                      </a:lnTo>
                      <a:lnTo>
                        <a:pt x="1240" y="107"/>
                      </a:lnTo>
                      <a:lnTo>
                        <a:pt x="1238" y="81"/>
                      </a:lnTo>
                      <a:lnTo>
                        <a:pt x="1243" y="56"/>
                      </a:lnTo>
                      <a:lnTo>
                        <a:pt x="1252" y="37"/>
                      </a:lnTo>
                      <a:lnTo>
                        <a:pt x="1335" y="37"/>
                      </a:lnTo>
                      <a:lnTo>
                        <a:pt x="1342" y="35"/>
                      </a:lnTo>
                      <a:lnTo>
                        <a:pt x="1349" y="31"/>
                      </a:lnTo>
                      <a:lnTo>
                        <a:pt x="1353" y="26"/>
                      </a:lnTo>
                      <a:lnTo>
                        <a:pt x="1354" y="18"/>
                      </a:lnTo>
                      <a:lnTo>
                        <a:pt x="1353" y="11"/>
                      </a:lnTo>
                      <a:lnTo>
                        <a:pt x="1349" y="6"/>
                      </a:lnTo>
                      <a:lnTo>
                        <a:pt x="1342" y="1"/>
                      </a:lnTo>
                      <a:lnTo>
                        <a:pt x="1335" y="0"/>
                      </a:lnTo>
                      <a:lnTo>
                        <a:pt x="79" y="0"/>
                      </a:lnTo>
                      <a:lnTo>
                        <a:pt x="60" y="2"/>
                      </a:lnTo>
                      <a:lnTo>
                        <a:pt x="45" y="8"/>
                      </a:lnTo>
                      <a:lnTo>
                        <a:pt x="32" y="17"/>
                      </a:lnTo>
                      <a:lnTo>
                        <a:pt x="20" y="28"/>
                      </a:lnTo>
                      <a:lnTo>
                        <a:pt x="11" y="42"/>
                      </a:lnTo>
                      <a:lnTo>
                        <a:pt x="5" y="56"/>
                      </a:lnTo>
                      <a:lnTo>
                        <a:pt x="1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486160" y="2931840"/>
                  <a:ext cx="157680" cy="17640"/>
                </a:xfrm>
                <a:custGeom>
                  <a:avLst/>
                  <a:gdLst/>
                  <a:ahLst/>
                  <a:rect l="l" t="t" r="r" b="b"/>
                  <a:pathLst>
                    <a:path w="1176" h="96">
                      <a:moveTo>
                        <a:pt x="0" y="51"/>
                      </a:moveTo>
                      <a:lnTo>
                        <a:pt x="0" y="44"/>
                      </a:lnTo>
                      <a:lnTo>
                        <a:pt x="2" y="35"/>
                      </a:lnTo>
                      <a:lnTo>
                        <a:pt x="6" y="26"/>
                      </a:lnTo>
                      <a:lnTo>
                        <a:pt x="10" y="17"/>
                      </a:lnTo>
                      <a:lnTo>
                        <a:pt x="16" y="11"/>
                      </a:lnTo>
                      <a:lnTo>
                        <a:pt x="23" y="5"/>
                      </a:lnTo>
                      <a:lnTo>
                        <a:pt x="32" y="1"/>
                      </a:lnTo>
                      <a:lnTo>
                        <a:pt x="43" y="0"/>
                      </a:lnTo>
                      <a:lnTo>
                        <a:pt x="1176" y="0"/>
                      </a:lnTo>
                      <a:lnTo>
                        <a:pt x="1169" y="22"/>
                      </a:lnTo>
                      <a:lnTo>
                        <a:pt x="1166" y="46"/>
                      </a:lnTo>
                      <a:lnTo>
                        <a:pt x="1168" y="71"/>
                      </a:lnTo>
                      <a:lnTo>
                        <a:pt x="1176" y="96"/>
                      </a:lnTo>
                      <a:lnTo>
                        <a:pt x="39" y="96"/>
                      </a:lnTo>
                      <a:lnTo>
                        <a:pt x="30" y="95"/>
                      </a:lnTo>
                      <a:lnTo>
                        <a:pt x="22" y="92"/>
                      </a:lnTo>
                      <a:lnTo>
                        <a:pt x="16" y="89"/>
                      </a:lnTo>
                      <a:lnTo>
                        <a:pt x="10" y="84"/>
                      </a:lnTo>
                      <a:lnTo>
                        <a:pt x="6" y="77"/>
                      </a:lnTo>
                      <a:lnTo>
                        <a:pt x="2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492280" y="2936520"/>
                  <a:ext cx="143640" cy="216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6" y="0"/>
                      </a:lnTo>
                      <a:lnTo>
                        <a:pt x="1066" y="0"/>
                      </a:lnTo>
                      <a:lnTo>
                        <a:pt x="1068" y="0"/>
                      </a:lnTo>
                      <a:lnTo>
                        <a:pt x="1070" y="1"/>
                      </a:lnTo>
                      <a:lnTo>
                        <a:pt x="1071" y="3"/>
                      </a:lnTo>
                      <a:lnTo>
                        <a:pt x="1072" y="5"/>
                      </a:lnTo>
                      <a:lnTo>
                        <a:pt x="1071" y="8"/>
                      </a:lnTo>
                      <a:lnTo>
                        <a:pt x="1070" y="10"/>
                      </a:lnTo>
                      <a:lnTo>
                        <a:pt x="1068" y="11"/>
                      </a:lnTo>
                      <a:lnTo>
                        <a:pt x="1066" y="12"/>
                      </a:lnTo>
                      <a:lnTo>
                        <a:pt x="106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97320" y="2944080"/>
                  <a:ext cx="143640" cy="216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5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5" y="0"/>
                      </a:lnTo>
                      <a:lnTo>
                        <a:pt x="1065" y="0"/>
                      </a:lnTo>
                      <a:lnTo>
                        <a:pt x="1067" y="1"/>
                      </a:lnTo>
                      <a:lnTo>
                        <a:pt x="1070" y="2"/>
                      </a:lnTo>
                      <a:lnTo>
                        <a:pt x="1071" y="4"/>
                      </a:lnTo>
                      <a:lnTo>
                        <a:pt x="1072" y="6"/>
                      </a:lnTo>
                      <a:lnTo>
                        <a:pt x="1071" y="8"/>
                      </a:lnTo>
                      <a:lnTo>
                        <a:pt x="1070" y="11"/>
                      </a:lnTo>
                      <a:lnTo>
                        <a:pt x="1067" y="12"/>
                      </a:lnTo>
                      <a:lnTo>
                        <a:pt x="1065" y="12"/>
                      </a:lnTo>
                      <a:lnTo>
                        <a:pt x="106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470680" y="3019680"/>
                  <a:ext cx="191160" cy="49320"/>
                </a:xfrm>
                <a:custGeom>
                  <a:avLst/>
                  <a:gdLst/>
                  <a:ahLst/>
                  <a:rect l="l" t="t" r="r" b="b"/>
                  <a:pathLst>
                    <a:path w="1426" h="26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18" y="25"/>
                      </a:lnTo>
                      <a:lnTo>
                        <a:pt x="1323" y="27"/>
                      </a:lnTo>
                      <a:lnTo>
                        <a:pt x="1327" y="29"/>
                      </a:lnTo>
                      <a:lnTo>
                        <a:pt x="1329" y="33"/>
                      </a:lnTo>
                      <a:lnTo>
                        <a:pt x="1331" y="38"/>
                      </a:lnTo>
                      <a:lnTo>
                        <a:pt x="1329" y="42"/>
                      </a:lnTo>
                      <a:lnTo>
                        <a:pt x="1327" y="46"/>
                      </a:lnTo>
                      <a:lnTo>
                        <a:pt x="1323" y="49"/>
                      </a:lnTo>
                      <a:lnTo>
                        <a:pt x="1318" y="50"/>
                      </a:lnTo>
                      <a:lnTo>
                        <a:pt x="0" y="50"/>
                      </a:lnTo>
                      <a:lnTo>
                        <a:pt x="0" y="126"/>
                      </a:lnTo>
                      <a:lnTo>
                        <a:pt x="1318" y="126"/>
                      </a:lnTo>
                      <a:lnTo>
                        <a:pt x="1323" y="127"/>
                      </a:lnTo>
                      <a:lnTo>
                        <a:pt x="1327" y="129"/>
                      </a:lnTo>
                      <a:lnTo>
                        <a:pt x="1329" y="134"/>
                      </a:lnTo>
                      <a:lnTo>
                        <a:pt x="1331" y="138"/>
                      </a:lnTo>
                      <a:lnTo>
                        <a:pt x="1329" y="143"/>
                      </a:lnTo>
                      <a:lnTo>
                        <a:pt x="1327" y="147"/>
                      </a:lnTo>
                      <a:lnTo>
                        <a:pt x="1323" y="149"/>
                      </a:lnTo>
                      <a:lnTo>
                        <a:pt x="1318" y="150"/>
                      </a:lnTo>
                      <a:lnTo>
                        <a:pt x="0" y="150"/>
                      </a:lnTo>
                      <a:lnTo>
                        <a:pt x="0" y="219"/>
                      </a:lnTo>
                      <a:lnTo>
                        <a:pt x="1318" y="219"/>
                      </a:lnTo>
                      <a:lnTo>
                        <a:pt x="1323" y="220"/>
                      </a:lnTo>
                      <a:lnTo>
                        <a:pt x="1327" y="222"/>
                      </a:lnTo>
                      <a:lnTo>
                        <a:pt x="1329" y="227"/>
                      </a:lnTo>
                      <a:lnTo>
                        <a:pt x="1331" y="231"/>
                      </a:lnTo>
                      <a:lnTo>
                        <a:pt x="1329" y="235"/>
                      </a:lnTo>
                      <a:lnTo>
                        <a:pt x="1327" y="240"/>
                      </a:lnTo>
                      <a:lnTo>
                        <a:pt x="1323" y="242"/>
                      </a:lnTo>
                      <a:lnTo>
                        <a:pt x="1318" y="243"/>
                      </a:lnTo>
                      <a:lnTo>
                        <a:pt x="0" y="243"/>
                      </a:lnTo>
                      <a:lnTo>
                        <a:pt x="0" y="265"/>
                      </a:lnTo>
                      <a:lnTo>
                        <a:pt x="1426" y="265"/>
                      </a:lnTo>
                      <a:lnTo>
                        <a:pt x="14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74280" y="3033360"/>
                  <a:ext cx="181440" cy="432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7"/>
                      </a:lnTo>
                      <a:lnTo>
                        <a:pt x="1352" y="12"/>
                      </a:lnTo>
                      <a:lnTo>
                        <a:pt x="1351" y="8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474280" y="3052440"/>
                  <a:ext cx="181440" cy="432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6"/>
                      </a:lnTo>
                      <a:lnTo>
                        <a:pt x="1352" y="12"/>
                      </a:lnTo>
                      <a:lnTo>
                        <a:pt x="1351" y="7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589120" y="2976480"/>
                  <a:ext cx="36360" cy="63000"/>
                </a:xfrm>
                <a:custGeom>
                  <a:avLst/>
                  <a:gdLst/>
                  <a:ahLst/>
                  <a:rect l="l" t="t" r="r" b="b"/>
                  <a:pathLst>
                    <a:path w="273" h="338">
                      <a:moveTo>
                        <a:pt x="174" y="0"/>
                      </a:moveTo>
                      <a:lnTo>
                        <a:pt x="0" y="0"/>
                      </a:lnTo>
                      <a:lnTo>
                        <a:pt x="18" y="19"/>
                      </a:lnTo>
                      <a:lnTo>
                        <a:pt x="38" y="42"/>
                      </a:lnTo>
                      <a:lnTo>
                        <a:pt x="56" y="71"/>
                      </a:lnTo>
                      <a:lnTo>
                        <a:pt x="74" y="106"/>
                      </a:lnTo>
                      <a:lnTo>
                        <a:pt x="87" y="149"/>
                      </a:lnTo>
                      <a:lnTo>
                        <a:pt x="95" y="201"/>
                      </a:lnTo>
                      <a:lnTo>
                        <a:pt x="96" y="264"/>
                      </a:lnTo>
                      <a:lnTo>
                        <a:pt x="87" y="338"/>
                      </a:lnTo>
                      <a:lnTo>
                        <a:pt x="110" y="318"/>
                      </a:lnTo>
                      <a:lnTo>
                        <a:pt x="129" y="294"/>
                      </a:lnTo>
                      <a:lnTo>
                        <a:pt x="147" y="270"/>
                      </a:lnTo>
                      <a:lnTo>
                        <a:pt x="163" y="245"/>
                      </a:lnTo>
                      <a:lnTo>
                        <a:pt x="175" y="223"/>
                      </a:lnTo>
                      <a:lnTo>
                        <a:pt x="185" y="206"/>
                      </a:lnTo>
                      <a:lnTo>
                        <a:pt x="190" y="193"/>
                      </a:lnTo>
                      <a:lnTo>
                        <a:pt x="192" y="189"/>
                      </a:lnTo>
                      <a:lnTo>
                        <a:pt x="195" y="191"/>
                      </a:lnTo>
                      <a:lnTo>
                        <a:pt x="199" y="199"/>
                      </a:lnTo>
                      <a:lnTo>
                        <a:pt x="206" y="211"/>
                      </a:lnTo>
                      <a:lnTo>
                        <a:pt x="213" y="227"/>
                      </a:lnTo>
                      <a:lnTo>
                        <a:pt x="221" y="249"/>
                      </a:lnTo>
                      <a:lnTo>
                        <a:pt x="229" y="274"/>
                      </a:lnTo>
                      <a:lnTo>
                        <a:pt x="235" y="304"/>
                      </a:lnTo>
                      <a:lnTo>
                        <a:pt x="240" y="338"/>
                      </a:lnTo>
                      <a:lnTo>
                        <a:pt x="259" y="301"/>
                      </a:lnTo>
                      <a:lnTo>
                        <a:pt x="270" y="258"/>
                      </a:lnTo>
                      <a:lnTo>
                        <a:pt x="273" y="212"/>
                      </a:lnTo>
                      <a:lnTo>
                        <a:pt x="269" y="166"/>
                      </a:lnTo>
                      <a:lnTo>
                        <a:pt x="255" y="119"/>
                      </a:lnTo>
                      <a:lnTo>
                        <a:pt x="235" y="75"/>
                      </a:lnTo>
                      <a:lnTo>
                        <a:pt x="209" y="35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00920" y="2843280"/>
                  <a:ext cx="154440" cy="52920"/>
                </a:xfrm>
                <a:custGeom>
                  <a:avLst/>
                  <a:gdLst/>
                  <a:ahLst/>
                  <a:rect l="l" t="t" r="r" b="b"/>
                  <a:pathLst>
                    <a:path w="1152" h="283">
                      <a:moveTo>
                        <a:pt x="0" y="141"/>
                      </a:moveTo>
                      <a:lnTo>
                        <a:pt x="1" y="166"/>
                      </a:lnTo>
                      <a:lnTo>
                        <a:pt x="3" y="192"/>
                      </a:lnTo>
                      <a:lnTo>
                        <a:pt x="7" y="216"/>
                      </a:lnTo>
                      <a:lnTo>
                        <a:pt x="15" y="237"/>
                      </a:lnTo>
                      <a:lnTo>
                        <a:pt x="24" y="256"/>
                      </a:lnTo>
                      <a:lnTo>
                        <a:pt x="36" y="270"/>
                      </a:lnTo>
                      <a:lnTo>
                        <a:pt x="51" y="279"/>
                      </a:lnTo>
                      <a:lnTo>
                        <a:pt x="68" y="283"/>
                      </a:lnTo>
                      <a:lnTo>
                        <a:pt x="1130" y="283"/>
                      </a:lnTo>
                      <a:lnTo>
                        <a:pt x="1139" y="280"/>
                      </a:lnTo>
                      <a:lnTo>
                        <a:pt x="1146" y="276"/>
                      </a:lnTo>
                      <a:lnTo>
                        <a:pt x="1150" y="269"/>
                      </a:lnTo>
                      <a:lnTo>
                        <a:pt x="1152" y="260"/>
                      </a:lnTo>
                      <a:lnTo>
                        <a:pt x="1150" y="252"/>
                      </a:lnTo>
                      <a:lnTo>
                        <a:pt x="1146" y="245"/>
                      </a:lnTo>
                      <a:lnTo>
                        <a:pt x="1139" y="241"/>
                      </a:lnTo>
                      <a:lnTo>
                        <a:pt x="1130" y="238"/>
                      </a:lnTo>
                      <a:lnTo>
                        <a:pt x="1083" y="238"/>
                      </a:lnTo>
                      <a:lnTo>
                        <a:pt x="1083" y="238"/>
                      </a:lnTo>
                      <a:lnTo>
                        <a:pt x="1070" y="212"/>
                      </a:lnTo>
                      <a:lnTo>
                        <a:pt x="1063" y="185"/>
                      </a:lnTo>
                      <a:lnTo>
                        <a:pt x="1060" y="158"/>
                      </a:lnTo>
                      <a:lnTo>
                        <a:pt x="1062" y="131"/>
                      </a:lnTo>
                      <a:lnTo>
                        <a:pt x="1065" y="106"/>
                      </a:lnTo>
                      <a:lnTo>
                        <a:pt x="1071" y="81"/>
                      </a:lnTo>
                      <a:lnTo>
                        <a:pt x="1079" y="62"/>
                      </a:lnTo>
                      <a:lnTo>
                        <a:pt x="1087" y="44"/>
                      </a:lnTo>
                      <a:lnTo>
                        <a:pt x="1130" y="44"/>
                      </a:lnTo>
                      <a:lnTo>
                        <a:pt x="1139" y="42"/>
                      </a:lnTo>
                      <a:lnTo>
                        <a:pt x="1146" y="37"/>
                      </a:lnTo>
                      <a:lnTo>
                        <a:pt x="1150" y="31"/>
                      </a:lnTo>
                      <a:lnTo>
                        <a:pt x="1152" y="22"/>
                      </a:lnTo>
                      <a:lnTo>
                        <a:pt x="1150" y="13"/>
                      </a:lnTo>
                      <a:lnTo>
                        <a:pt x="1146" y="6"/>
                      </a:lnTo>
                      <a:lnTo>
                        <a:pt x="1139" y="2"/>
                      </a:lnTo>
                      <a:lnTo>
                        <a:pt x="1130" y="0"/>
                      </a:lnTo>
                      <a:lnTo>
                        <a:pt x="68" y="0"/>
                      </a:lnTo>
                      <a:lnTo>
                        <a:pt x="51" y="3"/>
                      </a:lnTo>
                      <a:lnTo>
                        <a:pt x="36" y="12"/>
                      </a:lnTo>
                      <a:lnTo>
                        <a:pt x="24" y="26"/>
                      </a:lnTo>
                      <a:lnTo>
                        <a:pt x="15" y="45"/>
                      </a:lnTo>
                      <a:lnTo>
                        <a:pt x="7" y="66"/>
                      </a:lnTo>
                      <a:lnTo>
                        <a:pt x="3" y="90"/>
                      </a:lnTo>
                      <a:lnTo>
                        <a:pt x="1" y="116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07040" y="2851560"/>
                  <a:ext cx="133200" cy="36000"/>
                </a:xfrm>
                <a:custGeom>
                  <a:avLst/>
                  <a:gdLst/>
                  <a:ahLst/>
                  <a:rect l="l" t="t" r="r" b="b"/>
                  <a:pathLst>
                    <a:path w="994" h="194">
                      <a:moveTo>
                        <a:pt x="0" y="97"/>
                      </a:moveTo>
                      <a:lnTo>
                        <a:pt x="3" y="55"/>
                      </a:lnTo>
                      <a:lnTo>
                        <a:pt x="10" y="25"/>
                      </a:lnTo>
                      <a:lnTo>
                        <a:pt x="18" y="6"/>
                      </a:lnTo>
                      <a:lnTo>
                        <a:pt x="24" y="0"/>
                      </a:lnTo>
                      <a:lnTo>
                        <a:pt x="994" y="0"/>
                      </a:lnTo>
                      <a:lnTo>
                        <a:pt x="987" y="20"/>
                      </a:lnTo>
                      <a:lnTo>
                        <a:pt x="981" y="42"/>
                      </a:lnTo>
                      <a:lnTo>
                        <a:pt x="976" y="65"/>
                      </a:lnTo>
                      <a:lnTo>
                        <a:pt x="973" y="89"/>
                      </a:lnTo>
                      <a:lnTo>
                        <a:pt x="972" y="115"/>
                      </a:lnTo>
                      <a:lnTo>
                        <a:pt x="976" y="141"/>
                      </a:lnTo>
                      <a:lnTo>
                        <a:pt x="981" y="168"/>
                      </a:lnTo>
                      <a:lnTo>
                        <a:pt x="990" y="194"/>
                      </a:lnTo>
                      <a:lnTo>
                        <a:pt x="24" y="194"/>
                      </a:lnTo>
                      <a:lnTo>
                        <a:pt x="18" y="188"/>
                      </a:lnTo>
                      <a:lnTo>
                        <a:pt x="10" y="170"/>
                      </a:lnTo>
                      <a:lnTo>
                        <a:pt x="3" y="139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1676520"/>
            <a:ext cx="2671920" cy="1675800"/>
            <a:chOff x="0" y="1676520"/>
            <a:chExt cx="2671920" cy="1675800"/>
          </a:xfrm>
        </p:grpSpPr>
        <p:grpSp>
          <p:nvGrpSpPr>
            <p:cNvPr id="323" name=""/>
            <p:cNvGrpSpPr/>
            <p:nvPr/>
          </p:nvGrpSpPr>
          <p:grpSpPr>
            <a:xfrm>
              <a:off x="0" y="1676520"/>
              <a:ext cx="972720" cy="1567800"/>
              <a:chOff x="0" y="1676520"/>
              <a:chExt cx="972720" cy="1567800"/>
            </a:xfrm>
          </p:grpSpPr>
          <p:sp>
            <p:nvSpPr>
              <p:cNvPr id="324" name=""/>
              <p:cNvSpPr/>
              <p:nvPr/>
            </p:nvSpPr>
            <p:spPr>
              <a:xfrm>
                <a:off x="330480" y="2596680"/>
                <a:ext cx="121320" cy="257040"/>
              </a:xfrm>
              <a:custGeom>
                <a:avLst/>
                <a:gdLst/>
                <a:ahLst/>
                <a:rect l="l" t="t" r="r" b="b"/>
                <a:pathLst>
                  <a:path w="232" h="384">
                    <a:moveTo>
                      <a:pt x="11" y="115"/>
                    </a:moveTo>
                    <a:lnTo>
                      <a:pt x="2" y="151"/>
                    </a:lnTo>
                    <a:lnTo>
                      <a:pt x="0" y="188"/>
                    </a:lnTo>
                    <a:lnTo>
                      <a:pt x="6" y="225"/>
                    </a:lnTo>
                    <a:lnTo>
                      <a:pt x="17" y="261"/>
                    </a:lnTo>
                    <a:lnTo>
                      <a:pt x="36" y="295"/>
                    </a:lnTo>
                    <a:lnTo>
                      <a:pt x="60" y="327"/>
                    </a:lnTo>
                    <a:lnTo>
                      <a:pt x="90" y="357"/>
                    </a:lnTo>
                    <a:lnTo>
                      <a:pt x="124" y="384"/>
                    </a:lnTo>
                    <a:lnTo>
                      <a:pt x="141" y="373"/>
                    </a:lnTo>
                    <a:lnTo>
                      <a:pt x="155" y="362"/>
                    </a:lnTo>
                    <a:lnTo>
                      <a:pt x="169" y="350"/>
                    </a:lnTo>
                    <a:lnTo>
                      <a:pt x="182" y="338"/>
                    </a:lnTo>
                    <a:lnTo>
                      <a:pt x="194" y="324"/>
                    </a:lnTo>
                    <a:lnTo>
                      <a:pt x="204" y="309"/>
                    </a:lnTo>
                    <a:lnTo>
                      <a:pt x="212" y="294"/>
                    </a:lnTo>
                    <a:lnTo>
                      <a:pt x="219" y="278"/>
                    </a:lnTo>
                    <a:lnTo>
                      <a:pt x="228" y="246"/>
                    </a:lnTo>
                    <a:lnTo>
                      <a:pt x="232" y="212"/>
                    </a:lnTo>
                    <a:lnTo>
                      <a:pt x="228" y="178"/>
                    </a:lnTo>
                    <a:lnTo>
                      <a:pt x="220" y="142"/>
                    </a:lnTo>
                    <a:lnTo>
                      <a:pt x="207" y="107"/>
                    </a:lnTo>
                    <a:lnTo>
                      <a:pt x="189" y="72"/>
                    </a:lnTo>
                    <a:lnTo>
                      <a:pt x="166" y="36"/>
                    </a:lnTo>
                    <a:lnTo>
                      <a:pt x="138" y="0"/>
                    </a:lnTo>
                    <a:lnTo>
                      <a:pt x="116" y="8"/>
                    </a:lnTo>
                    <a:lnTo>
                      <a:pt x="97" y="19"/>
                    </a:lnTo>
                    <a:lnTo>
                      <a:pt x="78" y="31"/>
                    </a:lnTo>
                    <a:lnTo>
                      <a:pt x="61" y="44"/>
                    </a:lnTo>
                    <a:lnTo>
                      <a:pt x="45" y="60"/>
                    </a:lnTo>
                    <a:lnTo>
                      <a:pt x="32" y="76"/>
                    </a:lnTo>
                    <a:lnTo>
                      <a:pt x="21" y="95"/>
                    </a:lnTo>
                    <a:lnTo>
                      <a:pt x="11" y="115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5280" y="2586960"/>
                <a:ext cx="214200" cy="302760"/>
              </a:xfrm>
              <a:custGeom>
                <a:avLst/>
                <a:gdLst/>
                <a:ahLst/>
                <a:rect l="l" t="t" r="r" b="b"/>
                <a:pathLst>
                  <a:path w="409" h="452">
                    <a:moveTo>
                      <a:pt x="204" y="17"/>
                    </a:moveTo>
                    <a:lnTo>
                      <a:pt x="192" y="13"/>
                    </a:lnTo>
                    <a:lnTo>
                      <a:pt x="180" y="10"/>
                    </a:lnTo>
                    <a:lnTo>
                      <a:pt x="167" y="6"/>
                    </a:lnTo>
                    <a:lnTo>
                      <a:pt x="155" y="4"/>
                    </a:lnTo>
                    <a:lnTo>
                      <a:pt x="142" y="3"/>
                    </a:lnTo>
                    <a:lnTo>
                      <a:pt x="131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2"/>
                    </a:lnTo>
                    <a:lnTo>
                      <a:pt x="71" y="3"/>
                    </a:lnTo>
                    <a:lnTo>
                      <a:pt x="58" y="4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5" y="11"/>
                    </a:lnTo>
                    <a:lnTo>
                      <a:pt x="14" y="14"/>
                    </a:lnTo>
                    <a:lnTo>
                      <a:pt x="42" y="50"/>
                    </a:lnTo>
                    <a:lnTo>
                      <a:pt x="65" y="86"/>
                    </a:lnTo>
                    <a:lnTo>
                      <a:pt x="83" y="121"/>
                    </a:lnTo>
                    <a:lnTo>
                      <a:pt x="96" y="156"/>
                    </a:lnTo>
                    <a:lnTo>
                      <a:pt x="104" y="192"/>
                    </a:lnTo>
                    <a:lnTo>
                      <a:pt x="108" y="226"/>
                    </a:lnTo>
                    <a:lnTo>
                      <a:pt x="104" y="260"/>
                    </a:lnTo>
                    <a:lnTo>
                      <a:pt x="95" y="292"/>
                    </a:lnTo>
                    <a:lnTo>
                      <a:pt x="88" y="308"/>
                    </a:lnTo>
                    <a:lnTo>
                      <a:pt x="80" y="323"/>
                    </a:lnTo>
                    <a:lnTo>
                      <a:pt x="70" y="338"/>
                    </a:lnTo>
                    <a:lnTo>
                      <a:pt x="58" y="352"/>
                    </a:lnTo>
                    <a:lnTo>
                      <a:pt x="45" y="364"/>
                    </a:lnTo>
                    <a:lnTo>
                      <a:pt x="31" y="376"/>
                    </a:lnTo>
                    <a:lnTo>
                      <a:pt x="17" y="387"/>
                    </a:lnTo>
                    <a:lnTo>
                      <a:pt x="0" y="398"/>
                    </a:lnTo>
                    <a:lnTo>
                      <a:pt x="7" y="402"/>
                    </a:lnTo>
                    <a:lnTo>
                      <a:pt x="15" y="407"/>
                    </a:lnTo>
                    <a:lnTo>
                      <a:pt x="23" y="412"/>
                    </a:lnTo>
                    <a:lnTo>
                      <a:pt x="31" y="415"/>
                    </a:lnTo>
                    <a:lnTo>
                      <a:pt x="40" y="420"/>
                    </a:lnTo>
                    <a:lnTo>
                      <a:pt x="48" y="423"/>
                    </a:lnTo>
                    <a:lnTo>
                      <a:pt x="57" y="427"/>
                    </a:lnTo>
                    <a:lnTo>
                      <a:pt x="65" y="430"/>
                    </a:lnTo>
                    <a:lnTo>
                      <a:pt x="91" y="439"/>
                    </a:lnTo>
                    <a:lnTo>
                      <a:pt x="118" y="446"/>
                    </a:lnTo>
                    <a:lnTo>
                      <a:pt x="144" y="450"/>
                    </a:lnTo>
                    <a:lnTo>
                      <a:pt x="170" y="452"/>
                    </a:lnTo>
                    <a:lnTo>
                      <a:pt x="196" y="452"/>
                    </a:lnTo>
                    <a:lnTo>
                      <a:pt x="220" y="450"/>
                    </a:lnTo>
                    <a:lnTo>
                      <a:pt x="245" y="445"/>
                    </a:lnTo>
                    <a:lnTo>
                      <a:pt x="268" y="439"/>
                    </a:lnTo>
                    <a:lnTo>
                      <a:pt x="290" y="431"/>
                    </a:lnTo>
                    <a:lnTo>
                      <a:pt x="310" y="421"/>
                    </a:lnTo>
                    <a:lnTo>
                      <a:pt x="330" y="408"/>
                    </a:lnTo>
                    <a:lnTo>
                      <a:pt x="347" y="394"/>
                    </a:lnTo>
                    <a:lnTo>
                      <a:pt x="363" y="378"/>
                    </a:lnTo>
                    <a:lnTo>
                      <a:pt x="377" y="361"/>
                    </a:lnTo>
                    <a:lnTo>
                      <a:pt x="389" y="342"/>
                    </a:lnTo>
                    <a:lnTo>
                      <a:pt x="398" y="322"/>
                    </a:lnTo>
                    <a:lnTo>
                      <a:pt x="405" y="301"/>
                    </a:lnTo>
                    <a:lnTo>
                      <a:pt x="408" y="279"/>
                    </a:lnTo>
                    <a:lnTo>
                      <a:pt x="409" y="258"/>
                    </a:lnTo>
                    <a:lnTo>
                      <a:pt x="408" y="237"/>
                    </a:lnTo>
                    <a:lnTo>
                      <a:pt x="405" y="216"/>
                    </a:lnTo>
                    <a:lnTo>
                      <a:pt x="398" y="194"/>
                    </a:lnTo>
                    <a:lnTo>
                      <a:pt x="390" y="173"/>
                    </a:lnTo>
                    <a:lnTo>
                      <a:pt x="379" y="152"/>
                    </a:lnTo>
                    <a:lnTo>
                      <a:pt x="369" y="156"/>
                    </a:lnTo>
                    <a:lnTo>
                      <a:pt x="358" y="158"/>
                    </a:lnTo>
                    <a:lnTo>
                      <a:pt x="347" y="159"/>
                    </a:lnTo>
                    <a:lnTo>
                      <a:pt x="336" y="159"/>
                    </a:lnTo>
                    <a:lnTo>
                      <a:pt x="324" y="159"/>
                    </a:lnTo>
                    <a:lnTo>
                      <a:pt x="313" y="157"/>
                    </a:lnTo>
                    <a:lnTo>
                      <a:pt x="301" y="155"/>
                    </a:lnTo>
                    <a:lnTo>
                      <a:pt x="290" y="151"/>
                    </a:lnTo>
                    <a:lnTo>
                      <a:pt x="270" y="142"/>
                    </a:lnTo>
                    <a:lnTo>
                      <a:pt x="252" y="129"/>
                    </a:lnTo>
                    <a:lnTo>
                      <a:pt x="237" y="114"/>
                    </a:lnTo>
                    <a:lnTo>
                      <a:pt x="224" y="97"/>
                    </a:lnTo>
                    <a:lnTo>
                      <a:pt x="215" y="79"/>
                    </a:lnTo>
                    <a:lnTo>
                      <a:pt x="208" y="58"/>
                    </a:lnTo>
                    <a:lnTo>
                      <a:pt x="204" y="37"/>
                    </a:lnTo>
                    <a:lnTo>
                      <a:pt x="204" y="17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1840" y="2516760"/>
                <a:ext cx="137880" cy="172440"/>
              </a:xfrm>
              <a:custGeom>
                <a:avLst/>
                <a:gdLst/>
                <a:ahLst/>
                <a:rect l="l" t="t" r="r" b="b"/>
                <a:pathLst>
                  <a:path w="264" h="255">
                    <a:moveTo>
                      <a:pt x="16" y="125"/>
                    </a:moveTo>
                    <a:lnTo>
                      <a:pt x="43" y="136"/>
                    </a:lnTo>
                    <a:lnTo>
                      <a:pt x="67" y="148"/>
                    </a:lnTo>
                    <a:lnTo>
                      <a:pt x="90" y="163"/>
                    </a:lnTo>
                    <a:lnTo>
                      <a:pt x="111" y="178"/>
                    </a:lnTo>
                    <a:lnTo>
                      <a:pt x="129" y="197"/>
                    </a:lnTo>
                    <a:lnTo>
                      <a:pt x="147" y="215"/>
                    </a:lnTo>
                    <a:lnTo>
                      <a:pt x="163" y="235"/>
                    </a:lnTo>
                    <a:lnTo>
                      <a:pt x="175" y="255"/>
                    </a:lnTo>
                    <a:lnTo>
                      <a:pt x="188" y="250"/>
                    </a:lnTo>
                    <a:lnTo>
                      <a:pt x="201" y="243"/>
                    </a:lnTo>
                    <a:lnTo>
                      <a:pt x="212" y="235"/>
                    </a:lnTo>
                    <a:lnTo>
                      <a:pt x="224" y="226"/>
                    </a:lnTo>
                    <a:lnTo>
                      <a:pt x="233" y="215"/>
                    </a:lnTo>
                    <a:lnTo>
                      <a:pt x="242" y="204"/>
                    </a:lnTo>
                    <a:lnTo>
                      <a:pt x="250" y="191"/>
                    </a:lnTo>
                    <a:lnTo>
                      <a:pt x="256" y="177"/>
                    </a:lnTo>
                    <a:lnTo>
                      <a:pt x="263" y="152"/>
                    </a:lnTo>
                    <a:lnTo>
                      <a:pt x="264" y="126"/>
                    </a:lnTo>
                    <a:lnTo>
                      <a:pt x="261" y="101"/>
                    </a:lnTo>
                    <a:lnTo>
                      <a:pt x="253" y="77"/>
                    </a:lnTo>
                    <a:lnTo>
                      <a:pt x="240" y="55"/>
                    </a:lnTo>
                    <a:lnTo>
                      <a:pt x="224" y="37"/>
                    </a:lnTo>
                    <a:lnTo>
                      <a:pt x="203" y="21"/>
                    </a:lnTo>
                    <a:lnTo>
                      <a:pt x="179" y="8"/>
                    </a:lnTo>
                    <a:lnTo>
                      <a:pt x="154" y="1"/>
                    </a:lnTo>
                    <a:lnTo>
                      <a:pt x="127" y="0"/>
                    </a:lnTo>
                    <a:lnTo>
                      <a:pt x="102" y="3"/>
                    </a:lnTo>
                    <a:lnTo>
                      <a:pt x="79" y="11"/>
                    </a:lnTo>
                    <a:lnTo>
                      <a:pt x="56" y="24"/>
                    </a:lnTo>
                    <a:lnTo>
                      <a:pt x="37" y="40"/>
                    </a:lnTo>
                    <a:lnTo>
                      <a:pt x="21" y="61"/>
                    </a:lnTo>
                    <a:lnTo>
                      <a:pt x="8" y="85"/>
                    </a:lnTo>
                    <a:lnTo>
                      <a:pt x="5" y="93"/>
                    </a:lnTo>
                    <a:lnTo>
                      <a:pt x="3" y="102"/>
                    </a:lnTo>
                    <a:lnTo>
                      <a:pt x="1" y="110"/>
                    </a:lnTo>
                    <a:lnTo>
                      <a:pt x="0" y="120"/>
                    </a:lnTo>
                    <a:lnTo>
                      <a:pt x="5" y="121"/>
                    </a:lnTo>
                    <a:lnTo>
                      <a:pt x="8" y="122"/>
                    </a:lnTo>
                    <a:lnTo>
                      <a:pt x="12" y="124"/>
                    </a:lnTo>
                    <a:lnTo>
                      <a:pt x="16" y="125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1840" y="259776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0"/>
                    </a:moveTo>
                    <a:lnTo>
                      <a:pt x="0" y="20"/>
                    </a:lnTo>
                    <a:lnTo>
                      <a:pt x="4" y="41"/>
                    </a:lnTo>
                    <a:lnTo>
                      <a:pt x="11" y="62"/>
                    </a:lnTo>
                    <a:lnTo>
                      <a:pt x="20" y="80"/>
                    </a:lnTo>
                    <a:lnTo>
                      <a:pt x="33" y="97"/>
                    </a:lnTo>
                    <a:lnTo>
                      <a:pt x="48" y="112"/>
                    </a:lnTo>
                    <a:lnTo>
                      <a:pt x="66" y="125"/>
                    </a:lnTo>
                    <a:lnTo>
                      <a:pt x="86" y="134"/>
                    </a:lnTo>
                    <a:lnTo>
                      <a:pt x="97" y="138"/>
                    </a:lnTo>
                    <a:lnTo>
                      <a:pt x="109" y="140"/>
                    </a:lnTo>
                    <a:lnTo>
                      <a:pt x="120" y="142"/>
                    </a:lnTo>
                    <a:lnTo>
                      <a:pt x="132" y="142"/>
                    </a:lnTo>
                    <a:lnTo>
                      <a:pt x="143" y="142"/>
                    </a:lnTo>
                    <a:lnTo>
                      <a:pt x="154" y="141"/>
                    </a:lnTo>
                    <a:lnTo>
                      <a:pt x="165" y="139"/>
                    </a:lnTo>
                    <a:lnTo>
                      <a:pt x="175" y="135"/>
                    </a:lnTo>
                    <a:lnTo>
                      <a:pt x="163" y="115"/>
                    </a:lnTo>
                    <a:lnTo>
                      <a:pt x="147" y="95"/>
                    </a:lnTo>
                    <a:lnTo>
                      <a:pt x="129" y="77"/>
                    </a:lnTo>
                    <a:lnTo>
                      <a:pt x="111" y="58"/>
                    </a:lnTo>
                    <a:lnTo>
                      <a:pt x="90" y="43"/>
                    </a:lnTo>
                    <a:lnTo>
                      <a:pt x="67" y="28"/>
                    </a:lnTo>
                    <a:lnTo>
                      <a:pt x="43" y="1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520" y="2475360"/>
                <a:ext cx="376560" cy="201600"/>
              </a:xfrm>
              <a:custGeom>
                <a:avLst/>
                <a:gdLst/>
                <a:ahLst/>
                <a:rect l="l" t="t" r="r" b="b"/>
                <a:pathLst>
                  <a:path w="719" h="299">
                    <a:moveTo>
                      <a:pt x="45" y="299"/>
                    </a:moveTo>
                    <a:lnTo>
                      <a:pt x="46" y="296"/>
                    </a:lnTo>
                    <a:lnTo>
                      <a:pt x="50" y="289"/>
                    </a:lnTo>
                    <a:lnTo>
                      <a:pt x="54" y="278"/>
                    </a:lnTo>
                    <a:lnTo>
                      <a:pt x="60" y="266"/>
                    </a:lnTo>
                    <a:lnTo>
                      <a:pt x="68" y="251"/>
                    </a:lnTo>
                    <a:lnTo>
                      <a:pt x="78" y="235"/>
                    </a:lnTo>
                    <a:lnTo>
                      <a:pt x="90" y="216"/>
                    </a:lnTo>
                    <a:lnTo>
                      <a:pt x="104" y="197"/>
                    </a:lnTo>
                    <a:lnTo>
                      <a:pt x="120" y="177"/>
                    </a:lnTo>
                    <a:lnTo>
                      <a:pt x="137" y="158"/>
                    </a:lnTo>
                    <a:lnTo>
                      <a:pt x="157" y="138"/>
                    </a:lnTo>
                    <a:lnTo>
                      <a:pt x="179" y="120"/>
                    </a:lnTo>
                    <a:lnTo>
                      <a:pt x="203" y="102"/>
                    </a:lnTo>
                    <a:lnTo>
                      <a:pt x="229" y="86"/>
                    </a:lnTo>
                    <a:lnTo>
                      <a:pt x="258" y="72"/>
                    </a:lnTo>
                    <a:lnTo>
                      <a:pt x="289" y="61"/>
                    </a:lnTo>
                    <a:lnTo>
                      <a:pt x="311" y="55"/>
                    </a:lnTo>
                    <a:lnTo>
                      <a:pt x="334" y="50"/>
                    </a:lnTo>
                    <a:lnTo>
                      <a:pt x="357" y="48"/>
                    </a:lnTo>
                    <a:lnTo>
                      <a:pt x="381" y="47"/>
                    </a:lnTo>
                    <a:lnTo>
                      <a:pt x="406" y="48"/>
                    </a:lnTo>
                    <a:lnTo>
                      <a:pt x="430" y="49"/>
                    </a:lnTo>
                    <a:lnTo>
                      <a:pt x="454" y="54"/>
                    </a:lnTo>
                    <a:lnTo>
                      <a:pt x="479" y="58"/>
                    </a:lnTo>
                    <a:lnTo>
                      <a:pt x="505" y="67"/>
                    </a:lnTo>
                    <a:lnTo>
                      <a:pt x="530" y="75"/>
                    </a:lnTo>
                    <a:lnTo>
                      <a:pt x="557" y="85"/>
                    </a:lnTo>
                    <a:lnTo>
                      <a:pt x="583" y="96"/>
                    </a:lnTo>
                    <a:lnTo>
                      <a:pt x="610" y="110"/>
                    </a:lnTo>
                    <a:lnTo>
                      <a:pt x="637" y="125"/>
                    </a:lnTo>
                    <a:lnTo>
                      <a:pt x="665" y="143"/>
                    </a:lnTo>
                    <a:lnTo>
                      <a:pt x="693" y="161"/>
                    </a:lnTo>
                    <a:lnTo>
                      <a:pt x="719" y="122"/>
                    </a:lnTo>
                    <a:lnTo>
                      <a:pt x="689" y="102"/>
                    </a:lnTo>
                    <a:lnTo>
                      <a:pt x="659" y="84"/>
                    </a:lnTo>
                    <a:lnTo>
                      <a:pt x="629" y="67"/>
                    </a:lnTo>
                    <a:lnTo>
                      <a:pt x="600" y="53"/>
                    </a:lnTo>
                    <a:lnTo>
                      <a:pt x="572" y="39"/>
                    </a:lnTo>
                    <a:lnTo>
                      <a:pt x="543" y="29"/>
                    </a:lnTo>
                    <a:lnTo>
                      <a:pt x="514" y="19"/>
                    </a:lnTo>
                    <a:lnTo>
                      <a:pt x="486" y="11"/>
                    </a:lnTo>
                    <a:lnTo>
                      <a:pt x="459" y="6"/>
                    </a:lnTo>
                    <a:lnTo>
                      <a:pt x="431" y="2"/>
                    </a:lnTo>
                    <a:lnTo>
                      <a:pt x="405" y="0"/>
                    </a:lnTo>
                    <a:lnTo>
                      <a:pt x="378" y="0"/>
                    </a:lnTo>
                    <a:lnTo>
                      <a:pt x="352" y="1"/>
                    </a:lnTo>
                    <a:lnTo>
                      <a:pt x="325" y="4"/>
                    </a:lnTo>
                    <a:lnTo>
                      <a:pt x="300" y="9"/>
                    </a:lnTo>
                    <a:lnTo>
                      <a:pt x="274" y="16"/>
                    </a:lnTo>
                    <a:lnTo>
                      <a:pt x="240" y="29"/>
                    </a:lnTo>
                    <a:lnTo>
                      <a:pt x="207" y="44"/>
                    </a:lnTo>
                    <a:lnTo>
                      <a:pt x="178" y="62"/>
                    </a:lnTo>
                    <a:lnTo>
                      <a:pt x="151" y="80"/>
                    </a:lnTo>
                    <a:lnTo>
                      <a:pt x="126" y="102"/>
                    </a:lnTo>
                    <a:lnTo>
                      <a:pt x="104" y="123"/>
                    </a:lnTo>
                    <a:lnTo>
                      <a:pt x="84" y="146"/>
                    </a:lnTo>
                    <a:lnTo>
                      <a:pt x="67" y="168"/>
                    </a:lnTo>
                    <a:lnTo>
                      <a:pt x="51" y="189"/>
                    </a:lnTo>
                    <a:lnTo>
                      <a:pt x="38" y="209"/>
                    </a:lnTo>
                    <a:lnTo>
                      <a:pt x="27" y="228"/>
                    </a:lnTo>
                    <a:lnTo>
                      <a:pt x="17" y="245"/>
                    </a:lnTo>
                    <a:lnTo>
                      <a:pt x="10" y="259"/>
                    </a:lnTo>
                    <a:lnTo>
                      <a:pt x="5" y="270"/>
                    </a:lnTo>
                    <a:lnTo>
                      <a:pt x="1" y="278"/>
                    </a:lnTo>
                    <a:lnTo>
                      <a:pt x="0" y="282"/>
                    </a:lnTo>
                    <a:lnTo>
                      <a:pt x="45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663640"/>
                <a:ext cx="126360" cy="124920"/>
              </a:xfrm>
              <a:custGeom>
                <a:avLst/>
                <a:gdLst/>
                <a:ahLst/>
                <a:rect l="l" t="t" r="r" b="b"/>
                <a:pathLst>
                  <a:path w="243" h="185">
                    <a:moveTo>
                      <a:pt x="25" y="0"/>
                    </a:moveTo>
                    <a:lnTo>
                      <a:pt x="27" y="1"/>
                    </a:lnTo>
                    <a:lnTo>
                      <a:pt x="34" y="3"/>
                    </a:lnTo>
                    <a:lnTo>
                      <a:pt x="45" y="7"/>
                    </a:lnTo>
                    <a:lnTo>
                      <a:pt x="59" y="11"/>
                    </a:lnTo>
                    <a:lnTo>
                      <a:pt x="75" y="17"/>
                    </a:lnTo>
                    <a:lnTo>
                      <a:pt x="94" y="23"/>
                    </a:lnTo>
                    <a:lnTo>
                      <a:pt x="113" y="30"/>
                    </a:lnTo>
                    <a:lnTo>
                      <a:pt x="134" y="36"/>
                    </a:lnTo>
                    <a:lnTo>
                      <a:pt x="155" y="43"/>
                    </a:lnTo>
                    <a:lnTo>
                      <a:pt x="174" y="50"/>
                    </a:lnTo>
                    <a:lnTo>
                      <a:pt x="193" y="57"/>
                    </a:lnTo>
                    <a:lnTo>
                      <a:pt x="209" y="63"/>
                    </a:lnTo>
                    <a:lnTo>
                      <a:pt x="223" y="68"/>
                    </a:lnTo>
                    <a:lnTo>
                      <a:pt x="234" y="71"/>
                    </a:lnTo>
                    <a:lnTo>
                      <a:pt x="241" y="73"/>
                    </a:lnTo>
                    <a:lnTo>
                      <a:pt x="243" y="74"/>
                    </a:lnTo>
                    <a:lnTo>
                      <a:pt x="241" y="79"/>
                    </a:lnTo>
                    <a:lnTo>
                      <a:pt x="239" y="87"/>
                    </a:lnTo>
                    <a:lnTo>
                      <a:pt x="235" y="96"/>
                    </a:lnTo>
                    <a:lnTo>
                      <a:pt x="233" y="101"/>
                    </a:lnTo>
                    <a:lnTo>
                      <a:pt x="233" y="101"/>
                    </a:lnTo>
                    <a:lnTo>
                      <a:pt x="226" y="117"/>
                    </a:lnTo>
                    <a:lnTo>
                      <a:pt x="219" y="133"/>
                    </a:lnTo>
                    <a:lnTo>
                      <a:pt x="211" y="147"/>
                    </a:lnTo>
                    <a:lnTo>
                      <a:pt x="203" y="161"/>
                    </a:lnTo>
                    <a:lnTo>
                      <a:pt x="194" y="171"/>
                    </a:lnTo>
                    <a:lnTo>
                      <a:pt x="187" y="179"/>
                    </a:lnTo>
                    <a:lnTo>
                      <a:pt x="179" y="185"/>
                    </a:lnTo>
                    <a:lnTo>
                      <a:pt x="173" y="185"/>
                    </a:lnTo>
                    <a:lnTo>
                      <a:pt x="166" y="173"/>
                    </a:lnTo>
                    <a:lnTo>
                      <a:pt x="166" y="150"/>
                    </a:lnTo>
                    <a:lnTo>
                      <a:pt x="170" y="121"/>
                    </a:lnTo>
                    <a:lnTo>
                      <a:pt x="177" y="89"/>
                    </a:lnTo>
                    <a:lnTo>
                      <a:pt x="170" y="106"/>
                    </a:lnTo>
                    <a:lnTo>
                      <a:pt x="163" y="122"/>
                    </a:lnTo>
                    <a:lnTo>
                      <a:pt x="155" y="135"/>
                    </a:lnTo>
                    <a:lnTo>
                      <a:pt x="147" y="149"/>
                    </a:lnTo>
                    <a:lnTo>
                      <a:pt x="137" y="160"/>
                    </a:lnTo>
                    <a:lnTo>
                      <a:pt x="131" y="168"/>
                    </a:lnTo>
                    <a:lnTo>
                      <a:pt x="122" y="173"/>
                    </a:lnTo>
                    <a:lnTo>
                      <a:pt x="117" y="173"/>
                    </a:lnTo>
                    <a:lnTo>
                      <a:pt x="110" y="162"/>
                    </a:lnTo>
                    <a:lnTo>
                      <a:pt x="110" y="137"/>
                    </a:lnTo>
                    <a:lnTo>
                      <a:pt x="113" y="104"/>
                    </a:lnTo>
                    <a:lnTo>
                      <a:pt x="122" y="71"/>
                    </a:lnTo>
                    <a:lnTo>
                      <a:pt x="116" y="86"/>
                    </a:lnTo>
                    <a:lnTo>
                      <a:pt x="109" y="101"/>
                    </a:lnTo>
                    <a:lnTo>
                      <a:pt x="101" y="115"/>
                    </a:lnTo>
                    <a:lnTo>
                      <a:pt x="93" y="126"/>
                    </a:lnTo>
                    <a:lnTo>
                      <a:pt x="84" y="137"/>
                    </a:lnTo>
                    <a:lnTo>
                      <a:pt x="78" y="145"/>
                    </a:lnTo>
                    <a:lnTo>
                      <a:pt x="71" y="149"/>
                    </a:lnTo>
                    <a:lnTo>
                      <a:pt x="65" y="149"/>
                    </a:lnTo>
                    <a:lnTo>
                      <a:pt x="58" y="138"/>
                    </a:lnTo>
                    <a:lnTo>
                      <a:pt x="58" y="115"/>
                    </a:lnTo>
                    <a:lnTo>
                      <a:pt x="61" y="85"/>
                    </a:lnTo>
                    <a:lnTo>
                      <a:pt x="68" y="54"/>
                    </a:lnTo>
                    <a:lnTo>
                      <a:pt x="61" y="70"/>
                    </a:lnTo>
                    <a:lnTo>
                      <a:pt x="54" y="86"/>
                    </a:lnTo>
                    <a:lnTo>
                      <a:pt x="46" y="100"/>
                    </a:lnTo>
                    <a:lnTo>
                      <a:pt x="38" y="114"/>
                    </a:lnTo>
                    <a:lnTo>
                      <a:pt x="29" y="124"/>
                    </a:lnTo>
                    <a:lnTo>
                      <a:pt x="22" y="132"/>
                    </a:lnTo>
                    <a:lnTo>
                      <a:pt x="14" y="138"/>
                    </a:lnTo>
                    <a:lnTo>
                      <a:pt x="8" y="138"/>
                    </a:lnTo>
                    <a:lnTo>
                      <a:pt x="1" y="125"/>
                    </a:lnTo>
                    <a:lnTo>
                      <a:pt x="0" y="97"/>
                    </a:lnTo>
                    <a:lnTo>
                      <a:pt x="6" y="64"/>
                    </a:lnTo>
                    <a:lnTo>
                      <a:pt x="16" y="27"/>
                    </a:lnTo>
                    <a:lnTo>
                      <a:pt x="18" y="21"/>
                    </a:lnTo>
                    <a:lnTo>
                      <a:pt x="21" y="13"/>
                    </a:lnTo>
                    <a:lnTo>
                      <a:pt x="2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2000" y="1809720"/>
                <a:ext cx="153720" cy="184680"/>
              </a:xfrm>
              <a:custGeom>
                <a:avLst/>
                <a:gdLst/>
                <a:ahLst/>
                <a:rect l="l" t="t" r="r" b="b"/>
                <a:pathLst>
                  <a:path w="293" h="275">
                    <a:moveTo>
                      <a:pt x="48" y="275"/>
                    </a:moveTo>
                    <a:lnTo>
                      <a:pt x="50" y="274"/>
                    </a:lnTo>
                    <a:lnTo>
                      <a:pt x="58" y="272"/>
                    </a:lnTo>
                    <a:lnTo>
                      <a:pt x="71" y="270"/>
                    </a:lnTo>
                    <a:lnTo>
                      <a:pt x="86" y="267"/>
                    </a:lnTo>
                    <a:lnTo>
                      <a:pt x="104" y="263"/>
                    </a:lnTo>
                    <a:lnTo>
                      <a:pt x="125" y="259"/>
                    </a:lnTo>
                    <a:lnTo>
                      <a:pt x="148" y="254"/>
                    </a:lnTo>
                    <a:lnTo>
                      <a:pt x="171" y="248"/>
                    </a:lnTo>
                    <a:lnTo>
                      <a:pt x="193" y="244"/>
                    </a:lnTo>
                    <a:lnTo>
                      <a:pt x="216" y="239"/>
                    </a:lnTo>
                    <a:lnTo>
                      <a:pt x="237" y="234"/>
                    </a:lnTo>
                    <a:lnTo>
                      <a:pt x="255" y="231"/>
                    </a:lnTo>
                    <a:lnTo>
                      <a:pt x="270" y="228"/>
                    </a:lnTo>
                    <a:lnTo>
                      <a:pt x="283" y="225"/>
                    </a:lnTo>
                    <a:lnTo>
                      <a:pt x="291" y="224"/>
                    </a:lnTo>
                    <a:lnTo>
                      <a:pt x="293" y="223"/>
                    </a:lnTo>
                    <a:lnTo>
                      <a:pt x="291" y="216"/>
                    </a:lnTo>
                    <a:lnTo>
                      <a:pt x="289" y="206"/>
                    </a:lnTo>
                    <a:lnTo>
                      <a:pt x="287" y="196"/>
                    </a:lnTo>
                    <a:lnTo>
                      <a:pt x="285" y="192"/>
                    </a:lnTo>
                    <a:lnTo>
                      <a:pt x="280" y="173"/>
                    </a:lnTo>
                    <a:lnTo>
                      <a:pt x="273" y="156"/>
                    </a:lnTo>
                    <a:lnTo>
                      <a:pt x="266" y="139"/>
                    </a:lnTo>
                    <a:lnTo>
                      <a:pt x="258" y="125"/>
                    </a:lnTo>
                    <a:lnTo>
                      <a:pt x="250" y="112"/>
                    </a:lnTo>
                    <a:lnTo>
                      <a:pt x="243" y="103"/>
                    </a:lnTo>
                    <a:lnTo>
                      <a:pt x="236" y="99"/>
                    </a:lnTo>
                    <a:lnTo>
                      <a:pt x="229" y="97"/>
                    </a:lnTo>
                    <a:lnTo>
                      <a:pt x="221" y="108"/>
                    </a:lnTo>
                    <a:lnTo>
                      <a:pt x="217" y="130"/>
                    </a:lnTo>
                    <a:lnTo>
                      <a:pt x="217" y="162"/>
                    </a:lnTo>
                    <a:lnTo>
                      <a:pt x="222" y="196"/>
                    </a:lnTo>
                    <a:lnTo>
                      <a:pt x="216" y="178"/>
                    </a:lnTo>
                    <a:lnTo>
                      <a:pt x="209" y="160"/>
                    </a:lnTo>
                    <a:lnTo>
                      <a:pt x="202" y="141"/>
                    </a:lnTo>
                    <a:lnTo>
                      <a:pt x="194" y="126"/>
                    </a:lnTo>
                    <a:lnTo>
                      <a:pt x="186" y="112"/>
                    </a:lnTo>
                    <a:lnTo>
                      <a:pt x="179" y="102"/>
                    </a:lnTo>
                    <a:lnTo>
                      <a:pt x="172" y="96"/>
                    </a:lnTo>
                    <a:lnTo>
                      <a:pt x="166" y="95"/>
                    </a:lnTo>
                    <a:lnTo>
                      <a:pt x="156" y="107"/>
                    </a:lnTo>
                    <a:lnTo>
                      <a:pt x="153" y="134"/>
                    </a:lnTo>
                    <a:lnTo>
                      <a:pt x="155" y="170"/>
                    </a:lnTo>
                    <a:lnTo>
                      <a:pt x="161" y="209"/>
                    </a:lnTo>
                    <a:lnTo>
                      <a:pt x="155" y="192"/>
                    </a:lnTo>
                    <a:lnTo>
                      <a:pt x="148" y="173"/>
                    </a:lnTo>
                    <a:lnTo>
                      <a:pt x="141" y="155"/>
                    </a:lnTo>
                    <a:lnTo>
                      <a:pt x="133" y="139"/>
                    </a:lnTo>
                    <a:lnTo>
                      <a:pt x="125" y="125"/>
                    </a:lnTo>
                    <a:lnTo>
                      <a:pt x="117" y="114"/>
                    </a:lnTo>
                    <a:lnTo>
                      <a:pt x="110" y="107"/>
                    </a:lnTo>
                    <a:lnTo>
                      <a:pt x="104" y="105"/>
                    </a:lnTo>
                    <a:lnTo>
                      <a:pt x="95" y="116"/>
                    </a:lnTo>
                    <a:lnTo>
                      <a:pt x="92" y="139"/>
                    </a:lnTo>
                    <a:lnTo>
                      <a:pt x="92" y="170"/>
                    </a:lnTo>
                    <a:lnTo>
                      <a:pt x="96" y="206"/>
                    </a:lnTo>
                    <a:lnTo>
                      <a:pt x="91" y="181"/>
                    </a:lnTo>
                    <a:lnTo>
                      <a:pt x="81" y="150"/>
                    </a:lnTo>
                    <a:lnTo>
                      <a:pt x="71" y="115"/>
                    </a:lnTo>
                    <a:lnTo>
                      <a:pt x="58" y="78"/>
                    </a:lnTo>
                    <a:lnTo>
                      <a:pt x="46" y="44"/>
                    </a:lnTo>
                    <a:lnTo>
                      <a:pt x="32" y="18"/>
                    </a:lnTo>
                    <a:lnTo>
                      <a:pt x="19" y="2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49"/>
                    </a:lnTo>
                    <a:lnTo>
                      <a:pt x="5" y="93"/>
                    </a:lnTo>
                    <a:lnTo>
                      <a:pt x="16" y="142"/>
                    </a:lnTo>
                    <a:lnTo>
                      <a:pt x="26" y="191"/>
                    </a:lnTo>
                    <a:lnTo>
                      <a:pt x="36" y="232"/>
                    </a:lnTo>
                    <a:lnTo>
                      <a:pt x="45" y="262"/>
                    </a:lnTo>
                    <a:lnTo>
                      <a:pt x="48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800" y="1738440"/>
                <a:ext cx="255960" cy="259920"/>
              </a:xfrm>
              <a:custGeom>
                <a:avLst/>
                <a:gdLst/>
                <a:ahLst/>
                <a:rect l="l" t="t" r="r" b="b"/>
                <a:pathLst>
                  <a:path w="491" h="386">
                    <a:moveTo>
                      <a:pt x="362" y="261"/>
                    </a:moveTo>
                    <a:lnTo>
                      <a:pt x="219" y="49"/>
                    </a:lnTo>
                    <a:lnTo>
                      <a:pt x="221" y="293"/>
                    </a:lnTo>
                    <a:lnTo>
                      <a:pt x="0" y="149"/>
                    </a:lnTo>
                    <a:lnTo>
                      <a:pt x="137" y="386"/>
                    </a:lnTo>
                    <a:lnTo>
                      <a:pt x="491" y="273"/>
                    </a:lnTo>
                    <a:lnTo>
                      <a:pt x="464" y="0"/>
                    </a:lnTo>
                    <a:lnTo>
                      <a:pt x="362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2640" y="1779840"/>
                <a:ext cx="34200" cy="442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43" y="64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5" y="36"/>
                    </a:lnTo>
                    <a:lnTo>
                      <a:pt x="64" y="23"/>
                    </a:lnTo>
                    <a:lnTo>
                      <a:pt x="62" y="16"/>
                    </a:lnTo>
                    <a:lnTo>
                      <a:pt x="58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3" y="49"/>
                    </a:lnTo>
                    <a:lnTo>
                      <a:pt x="8" y="54"/>
                    </a:lnTo>
                    <a:lnTo>
                      <a:pt x="12" y="59"/>
                    </a:lnTo>
                    <a:lnTo>
                      <a:pt x="17" y="62"/>
                    </a:lnTo>
                    <a:lnTo>
                      <a:pt x="24" y="64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3560" y="167652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44" y="65"/>
                    </a:moveTo>
                    <a:lnTo>
                      <a:pt x="56" y="58"/>
                    </a:lnTo>
                    <a:lnTo>
                      <a:pt x="64" y="48"/>
                    </a:lnTo>
                    <a:lnTo>
                      <a:pt x="67" y="35"/>
                    </a:lnTo>
                    <a:lnTo>
                      <a:pt x="66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2" y="8"/>
                    </a:lnTo>
                    <a:lnTo>
                      <a:pt x="4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3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4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1800" y="1713960"/>
                <a:ext cx="34560" cy="442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44" y="66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7" y="36"/>
                    </a:lnTo>
                    <a:lnTo>
                      <a:pt x="66" y="23"/>
                    </a:lnTo>
                    <a:lnTo>
                      <a:pt x="63" y="17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3" y="49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3"/>
                    </a:lnTo>
                    <a:lnTo>
                      <a:pt x="24" y="66"/>
                    </a:lnTo>
                    <a:lnTo>
                      <a:pt x="31" y="67"/>
                    </a:lnTo>
                    <a:lnTo>
                      <a:pt x="37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8120" y="1941840"/>
                <a:ext cx="201600" cy="138600"/>
              </a:xfrm>
              <a:custGeom>
                <a:avLst/>
                <a:gdLst/>
                <a:ahLst/>
                <a:rect l="l" t="t" r="r" b="b"/>
                <a:pathLst>
                  <a:path w="388" h="207">
                    <a:moveTo>
                      <a:pt x="388" y="88"/>
                    </a:moveTo>
                    <a:lnTo>
                      <a:pt x="360" y="0"/>
                    </a:lnTo>
                    <a:lnTo>
                      <a:pt x="0" y="116"/>
                    </a:lnTo>
                    <a:lnTo>
                      <a:pt x="29" y="207"/>
                    </a:lnTo>
                    <a:lnTo>
                      <a:pt x="38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6120" y="2013120"/>
                <a:ext cx="200880" cy="131760"/>
              </a:xfrm>
              <a:custGeom>
                <a:avLst/>
                <a:gdLst/>
                <a:ahLst/>
                <a:rect l="l" t="t" r="r" b="b"/>
                <a:pathLst>
                  <a:path w="385" h="197">
                    <a:moveTo>
                      <a:pt x="0" y="118"/>
                    </a:moveTo>
                    <a:lnTo>
                      <a:pt x="25" y="197"/>
                    </a:lnTo>
                    <a:lnTo>
                      <a:pt x="385" y="82"/>
                    </a:lnTo>
                    <a:lnTo>
                      <a:pt x="358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4240" y="2491560"/>
                <a:ext cx="664200" cy="752760"/>
              </a:xfrm>
              <a:custGeom>
                <a:avLst/>
                <a:gdLst/>
                <a:ahLst/>
                <a:rect l="l" t="t" r="r" b="b"/>
                <a:pathLst>
                  <a:path w="1270" h="1118">
                    <a:moveTo>
                      <a:pt x="521" y="0"/>
                    </a:moveTo>
                    <a:lnTo>
                      <a:pt x="1006" y="602"/>
                    </a:lnTo>
                    <a:lnTo>
                      <a:pt x="1270" y="586"/>
                    </a:lnTo>
                    <a:lnTo>
                      <a:pt x="897" y="908"/>
                    </a:lnTo>
                    <a:lnTo>
                      <a:pt x="555" y="515"/>
                    </a:lnTo>
                    <a:lnTo>
                      <a:pt x="290" y="887"/>
                    </a:lnTo>
                    <a:lnTo>
                      <a:pt x="349" y="1118"/>
                    </a:lnTo>
                    <a:lnTo>
                      <a:pt x="0" y="827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8720" y="2403720"/>
                <a:ext cx="526320" cy="51588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421" y="9"/>
                    </a:moveTo>
                    <a:lnTo>
                      <a:pt x="429" y="15"/>
                    </a:lnTo>
                    <a:lnTo>
                      <a:pt x="438" y="21"/>
                    </a:lnTo>
                    <a:lnTo>
                      <a:pt x="446" y="25"/>
                    </a:lnTo>
                    <a:lnTo>
                      <a:pt x="457" y="29"/>
                    </a:lnTo>
                    <a:lnTo>
                      <a:pt x="466" y="31"/>
                    </a:lnTo>
                    <a:lnTo>
                      <a:pt x="477" y="33"/>
                    </a:lnTo>
                    <a:lnTo>
                      <a:pt x="490" y="34"/>
                    </a:lnTo>
                    <a:lnTo>
                      <a:pt x="503" y="34"/>
                    </a:lnTo>
                    <a:lnTo>
                      <a:pt x="515" y="33"/>
                    </a:lnTo>
                    <a:lnTo>
                      <a:pt x="527" y="31"/>
                    </a:lnTo>
                    <a:lnTo>
                      <a:pt x="539" y="27"/>
                    </a:lnTo>
                    <a:lnTo>
                      <a:pt x="550" y="23"/>
                    </a:lnTo>
                    <a:lnTo>
                      <a:pt x="560" y="17"/>
                    </a:lnTo>
                    <a:lnTo>
                      <a:pt x="570" y="11"/>
                    </a:lnTo>
                    <a:lnTo>
                      <a:pt x="579" y="6"/>
                    </a:lnTo>
                    <a:lnTo>
                      <a:pt x="587" y="0"/>
                    </a:lnTo>
                    <a:lnTo>
                      <a:pt x="1005" y="555"/>
                    </a:lnTo>
                    <a:lnTo>
                      <a:pt x="955" y="597"/>
                    </a:lnTo>
                    <a:lnTo>
                      <a:pt x="904" y="635"/>
                    </a:lnTo>
                    <a:lnTo>
                      <a:pt x="854" y="668"/>
                    </a:lnTo>
                    <a:lnTo>
                      <a:pt x="805" y="694"/>
                    </a:lnTo>
                    <a:lnTo>
                      <a:pt x="756" y="716"/>
                    </a:lnTo>
                    <a:lnTo>
                      <a:pt x="709" y="735"/>
                    </a:lnTo>
                    <a:lnTo>
                      <a:pt x="663" y="748"/>
                    </a:lnTo>
                    <a:lnTo>
                      <a:pt x="617" y="758"/>
                    </a:lnTo>
                    <a:lnTo>
                      <a:pt x="573" y="763"/>
                    </a:lnTo>
                    <a:lnTo>
                      <a:pt x="529" y="766"/>
                    </a:lnTo>
                    <a:lnTo>
                      <a:pt x="488" y="766"/>
                    </a:lnTo>
                    <a:lnTo>
                      <a:pt x="446" y="762"/>
                    </a:lnTo>
                    <a:lnTo>
                      <a:pt x="407" y="756"/>
                    </a:lnTo>
                    <a:lnTo>
                      <a:pt x="369" y="748"/>
                    </a:lnTo>
                    <a:lnTo>
                      <a:pt x="332" y="738"/>
                    </a:lnTo>
                    <a:lnTo>
                      <a:pt x="298" y="725"/>
                    </a:lnTo>
                    <a:lnTo>
                      <a:pt x="264" y="713"/>
                    </a:lnTo>
                    <a:lnTo>
                      <a:pt x="232" y="698"/>
                    </a:lnTo>
                    <a:lnTo>
                      <a:pt x="202" y="683"/>
                    </a:lnTo>
                    <a:lnTo>
                      <a:pt x="174" y="667"/>
                    </a:lnTo>
                    <a:lnTo>
                      <a:pt x="148" y="650"/>
                    </a:lnTo>
                    <a:lnTo>
                      <a:pt x="124" y="634"/>
                    </a:lnTo>
                    <a:lnTo>
                      <a:pt x="101" y="618"/>
                    </a:lnTo>
                    <a:lnTo>
                      <a:pt x="80" y="602"/>
                    </a:lnTo>
                    <a:lnTo>
                      <a:pt x="63" y="587"/>
                    </a:lnTo>
                    <a:lnTo>
                      <a:pt x="47" y="573"/>
                    </a:lnTo>
                    <a:lnTo>
                      <a:pt x="33" y="562"/>
                    </a:lnTo>
                    <a:lnTo>
                      <a:pt x="21" y="550"/>
                    </a:lnTo>
                    <a:lnTo>
                      <a:pt x="12" y="542"/>
                    </a:lnTo>
                    <a:lnTo>
                      <a:pt x="6" y="535"/>
                    </a:lnTo>
                    <a:lnTo>
                      <a:pt x="2" y="531"/>
                    </a:lnTo>
                    <a:lnTo>
                      <a:pt x="0" y="53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160" y="2499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50" y="36"/>
                    </a:lnTo>
                    <a:lnTo>
                      <a:pt x="52" y="26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7" y="9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6" y="51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5320" y="26312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6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49" y="36"/>
                    </a:lnTo>
                    <a:lnTo>
                      <a:pt x="52" y="26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0"/>
                    </a:lnTo>
                    <a:lnTo>
                      <a:pt x="15" y="3"/>
                    </a:lnTo>
                    <a:lnTo>
                      <a:pt x="7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8" y="44"/>
                    </a:lnTo>
                    <a:lnTo>
                      <a:pt x="16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0920" y="2083320"/>
                <a:ext cx="321120" cy="345960"/>
              </a:xfrm>
              <a:custGeom>
                <a:avLst/>
                <a:gdLst/>
                <a:ahLst/>
                <a:rect l="l" t="t" r="r" b="b"/>
                <a:pathLst>
                  <a:path w="615" h="514">
                    <a:moveTo>
                      <a:pt x="407" y="12"/>
                    </a:moveTo>
                    <a:lnTo>
                      <a:pt x="425" y="18"/>
                    </a:lnTo>
                    <a:lnTo>
                      <a:pt x="441" y="28"/>
                    </a:lnTo>
                    <a:lnTo>
                      <a:pt x="457" y="37"/>
                    </a:lnTo>
                    <a:lnTo>
                      <a:pt x="473" y="48"/>
                    </a:lnTo>
                    <a:lnTo>
                      <a:pt x="488" y="61"/>
                    </a:lnTo>
                    <a:lnTo>
                      <a:pt x="502" y="76"/>
                    </a:lnTo>
                    <a:lnTo>
                      <a:pt x="516" y="91"/>
                    </a:lnTo>
                    <a:lnTo>
                      <a:pt x="528" y="108"/>
                    </a:lnTo>
                    <a:lnTo>
                      <a:pt x="535" y="119"/>
                    </a:lnTo>
                    <a:lnTo>
                      <a:pt x="541" y="130"/>
                    </a:lnTo>
                    <a:lnTo>
                      <a:pt x="546" y="141"/>
                    </a:lnTo>
                    <a:lnTo>
                      <a:pt x="550" y="152"/>
                    </a:lnTo>
                    <a:lnTo>
                      <a:pt x="608" y="142"/>
                    </a:lnTo>
                    <a:lnTo>
                      <a:pt x="615" y="188"/>
                    </a:lnTo>
                    <a:lnTo>
                      <a:pt x="560" y="200"/>
                    </a:lnTo>
                    <a:lnTo>
                      <a:pt x="561" y="214"/>
                    </a:lnTo>
                    <a:lnTo>
                      <a:pt x="562" y="229"/>
                    </a:lnTo>
                    <a:lnTo>
                      <a:pt x="561" y="244"/>
                    </a:lnTo>
                    <a:lnTo>
                      <a:pt x="560" y="257"/>
                    </a:lnTo>
                    <a:lnTo>
                      <a:pt x="407" y="251"/>
                    </a:lnTo>
                    <a:lnTo>
                      <a:pt x="407" y="305"/>
                    </a:lnTo>
                    <a:lnTo>
                      <a:pt x="525" y="313"/>
                    </a:lnTo>
                    <a:lnTo>
                      <a:pt x="518" y="325"/>
                    </a:lnTo>
                    <a:lnTo>
                      <a:pt x="512" y="336"/>
                    </a:lnTo>
                    <a:lnTo>
                      <a:pt x="505" y="347"/>
                    </a:lnTo>
                    <a:lnTo>
                      <a:pt x="498" y="356"/>
                    </a:lnTo>
                    <a:lnTo>
                      <a:pt x="490" y="366"/>
                    </a:lnTo>
                    <a:lnTo>
                      <a:pt x="481" y="374"/>
                    </a:lnTo>
                    <a:lnTo>
                      <a:pt x="472" y="384"/>
                    </a:lnTo>
                    <a:lnTo>
                      <a:pt x="460" y="392"/>
                    </a:lnTo>
                    <a:lnTo>
                      <a:pt x="442" y="403"/>
                    </a:lnTo>
                    <a:lnTo>
                      <a:pt x="422" y="412"/>
                    </a:lnTo>
                    <a:lnTo>
                      <a:pt x="403" y="419"/>
                    </a:lnTo>
                    <a:lnTo>
                      <a:pt x="382" y="425"/>
                    </a:lnTo>
                    <a:lnTo>
                      <a:pt x="362" y="428"/>
                    </a:lnTo>
                    <a:lnTo>
                      <a:pt x="343" y="430"/>
                    </a:lnTo>
                    <a:lnTo>
                      <a:pt x="323" y="430"/>
                    </a:lnTo>
                    <a:lnTo>
                      <a:pt x="304" y="427"/>
                    </a:lnTo>
                    <a:lnTo>
                      <a:pt x="295" y="447"/>
                    </a:lnTo>
                    <a:lnTo>
                      <a:pt x="283" y="463"/>
                    </a:lnTo>
                    <a:lnTo>
                      <a:pt x="270" y="477"/>
                    </a:lnTo>
                    <a:lnTo>
                      <a:pt x="254" y="488"/>
                    </a:lnTo>
                    <a:lnTo>
                      <a:pt x="238" y="498"/>
                    </a:lnTo>
                    <a:lnTo>
                      <a:pt x="221" y="504"/>
                    </a:lnTo>
                    <a:lnTo>
                      <a:pt x="205" y="510"/>
                    </a:lnTo>
                    <a:lnTo>
                      <a:pt x="187" y="513"/>
                    </a:lnTo>
                    <a:lnTo>
                      <a:pt x="161" y="514"/>
                    </a:lnTo>
                    <a:lnTo>
                      <a:pt x="137" y="513"/>
                    </a:lnTo>
                    <a:lnTo>
                      <a:pt x="115" y="508"/>
                    </a:lnTo>
                    <a:lnTo>
                      <a:pt x="96" y="501"/>
                    </a:lnTo>
                    <a:lnTo>
                      <a:pt x="78" y="493"/>
                    </a:lnTo>
                    <a:lnTo>
                      <a:pt x="63" y="483"/>
                    </a:lnTo>
                    <a:lnTo>
                      <a:pt x="50" y="471"/>
                    </a:lnTo>
                    <a:lnTo>
                      <a:pt x="39" y="460"/>
                    </a:lnTo>
                    <a:lnTo>
                      <a:pt x="28" y="448"/>
                    </a:lnTo>
                    <a:lnTo>
                      <a:pt x="20" y="437"/>
                    </a:lnTo>
                    <a:lnTo>
                      <a:pt x="13" y="425"/>
                    </a:lnTo>
                    <a:lnTo>
                      <a:pt x="8" y="415"/>
                    </a:lnTo>
                    <a:lnTo>
                      <a:pt x="4" y="407"/>
                    </a:lnTo>
                    <a:lnTo>
                      <a:pt x="2" y="400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46" y="405"/>
                    </a:lnTo>
                    <a:lnTo>
                      <a:pt x="77" y="403"/>
                    </a:lnTo>
                    <a:lnTo>
                      <a:pt x="93" y="393"/>
                    </a:lnTo>
                    <a:lnTo>
                      <a:pt x="100" y="375"/>
                    </a:lnTo>
                    <a:lnTo>
                      <a:pt x="100" y="357"/>
                    </a:lnTo>
                    <a:lnTo>
                      <a:pt x="96" y="339"/>
                    </a:lnTo>
                    <a:lnTo>
                      <a:pt x="92" y="326"/>
                    </a:lnTo>
                    <a:lnTo>
                      <a:pt x="89" y="320"/>
                    </a:lnTo>
                    <a:lnTo>
                      <a:pt x="91" y="319"/>
                    </a:lnTo>
                    <a:lnTo>
                      <a:pt x="78" y="282"/>
                    </a:lnTo>
                    <a:lnTo>
                      <a:pt x="71" y="243"/>
                    </a:lnTo>
                    <a:lnTo>
                      <a:pt x="72" y="205"/>
                    </a:lnTo>
                    <a:lnTo>
                      <a:pt x="80" y="167"/>
                    </a:lnTo>
                    <a:lnTo>
                      <a:pt x="95" y="130"/>
                    </a:lnTo>
                    <a:lnTo>
                      <a:pt x="116" y="96"/>
                    </a:lnTo>
                    <a:lnTo>
                      <a:pt x="142" y="66"/>
                    </a:lnTo>
                    <a:lnTo>
                      <a:pt x="176" y="39"/>
                    </a:lnTo>
                    <a:lnTo>
                      <a:pt x="184" y="35"/>
                    </a:lnTo>
                    <a:lnTo>
                      <a:pt x="192" y="30"/>
                    </a:lnTo>
                    <a:lnTo>
                      <a:pt x="201" y="25"/>
                    </a:lnTo>
                    <a:lnTo>
                      <a:pt x="209" y="21"/>
                    </a:lnTo>
                    <a:lnTo>
                      <a:pt x="218" y="17"/>
                    </a:lnTo>
                    <a:lnTo>
                      <a:pt x="227" y="14"/>
                    </a:lnTo>
                    <a:lnTo>
                      <a:pt x="236" y="10"/>
                    </a:lnTo>
                    <a:lnTo>
                      <a:pt x="244" y="8"/>
                    </a:lnTo>
                    <a:lnTo>
                      <a:pt x="250" y="7"/>
                    </a:lnTo>
                    <a:lnTo>
                      <a:pt x="263" y="6"/>
                    </a:lnTo>
                    <a:lnTo>
                      <a:pt x="284" y="2"/>
                    </a:lnTo>
                    <a:lnTo>
                      <a:pt x="309" y="1"/>
                    </a:lnTo>
                    <a:lnTo>
                      <a:pt x="336" y="0"/>
                    </a:lnTo>
                    <a:lnTo>
                      <a:pt x="364" y="1"/>
                    </a:lnTo>
                    <a:lnTo>
                      <a:pt x="388" y="5"/>
                    </a:lnTo>
                    <a:lnTo>
                      <a:pt x="40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6200" y="214668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5"/>
                    </a:lnTo>
                    <a:lnTo>
                      <a:pt x="8" y="7"/>
                    </a:lnTo>
                    <a:lnTo>
                      <a:pt x="16" y="3"/>
                    </a:lnTo>
                    <a:lnTo>
                      <a:pt x="25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4880" y="2084400"/>
                <a:ext cx="26280" cy="349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8320" y="2007720"/>
                <a:ext cx="374400" cy="649080"/>
              </a:xfrm>
              <a:custGeom>
                <a:avLst/>
                <a:gdLst/>
                <a:ahLst/>
                <a:rect l="l" t="t" r="r" b="b"/>
                <a:pathLst>
                  <a:path w="714" h="963">
                    <a:moveTo>
                      <a:pt x="530" y="14"/>
                    </a:moveTo>
                    <a:lnTo>
                      <a:pt x="559" y="54"/>
                    </a:lnTo>
                    <a:lnTo>
                      <a:pt x="586" y="98"/>
                    </a:lnTo>
                    <a:lnTo>
                      <a:pt x="610" y="143"/>
                    </a:lnTo>
                    <a:lnTo>
                      <a:pt x="631" y="190"/>
                    </a:lnTo>
                    <a:lnTo>
                      <a:pt x="648" y="239"/>
                    </a:lnTo>
                    <a:lnTo>
                      <a:pt x="660" y="288"/>
                    </a:lnTo>
                    <a:lnTo>
                      <a:pt x="666" y="337"/>
                    </a:lnTo>
                    <a:lnTo>
                      <a:pt x="665" y="384"/>
                    </a:lnTo>
                    <a:lnTo>
                      <a:pt x="661" y="409"/>
                    </a:lnTo>
                    <a:lnTo>
                      <a:pt x="657" y="432"/>
                    </a:lnTo>
                    <a:lnTo>
                      <a:pt x="648" y="454"/>
                    </a:lnTo>
                    <a:lnTo>
                      <a:pt x="639" y="475"/>
                    </a:lnTo>
                    <a:lnTo>
                      <a:pt x="627" y="496"/>
                    </a:lnTo>
                    <a:lnTo>
                      <a:pt x="613" y="513"/>
                    </a:lnTo>
                    <a:lnTo>
                      <a:pt x="597" y="530"/>
                    </a:lnTo>
                    <a:lnTo>
                      <a:pt x="578" y="546"/>
                    </a:lnTo>
                    <a:lnTo>
                      <a:pt x="568" y="553"/>
                    </a:lnTo>
                    <a:lnTo>
                      <a:pt x="556" y="559"/>
                    </a:lnTo>
                    <a:lnTo>
                      <a:pt x="544" y="563"/>
                    </a:lnTo>
                    <a:lnTo>
                      <a:pt x="530" y="568"/>
                    </a:lnTo>
                    <a:lnTo>
                      <a:pt x="515" y="573"/>
                    </a:lnTo>
                    <a:lnTo>
                      <a:pt x="499" y="575"/>
                    </a:lnTo>
                    <a:lnTo>
                      <a:pt x="483" y="578"/>
                    </a:lnTo>
                    <a:lnTo>
                      <a:pt x="466" y="580"/>
                    </a:lnTo>
                    <a:lnTo>
                      <a:pt x="449" y="582"/>
                    </a:lnTo>
                    <a:lnTo>
                      <a:pt x="432" y="583"/>
                    </a:lnTo>
                    <a:lnTo>
                      <a:pt x="415" y="584"/>
                    </a:lnTo>
                    <a:lnTo>
                      <a:pt x="398" y="585"/>
                    </a:lnTo>
                    <a:lnTo>
                      <a:pt x="382" y="585"/>
                    </a:lnTo>
                    <a:lnTo>
                      <a:pt x="366" y="587"/>
                    </a:lnTo>
                    <a:lnTo>
                      <a:pt x="351" y="587"/>
                    </a:lnTo>
                    <a:lnTo>
                      <a:pt x="337" y="587"/>
                    </a:lnTo>
                    <a:lnTo>
                      <a:pt x="326" y="587"/>
                    </a:lnTo>
                    <a:lnTo>
                      <a:pt x="315" y="587"/>
                    </a:lnTo>
                    <a:lnTo>
                      <a:pt x="305" y="587"/>
                    </a:lnTo>
                    <a:lnTo>
                      <a:pt x="296" y="587"/>
                    </a:lnTo>
                    <a:lnTo>
                      <a:pt x="288" y="587"/>
                    </a:lnTo>
                    <a:lnTo>
                      <a:pt x="281" y="588"/>
                    </a:lnTo>
                    <a:lnTo>
                      <a:pt x="274" y="588"/>
                    </a:lnTo>
                    <a:lnTo>
                      <a:pt x="268" y="589"/>
                    </a:lnTo>
                    <a:lnTo>
                      <a:pt x="245" y="595"/>
                    </a:lnTo>
                    <a:lnTo>
                      <a:pt x="221" y="601"/>
                    </a:lnTo>
                    <a:lnTo>
                      <a:pt x="198" y="611"/>
                    </a:lnTo>
                    <a:lnTo>
                      <a:pt x="174" y="621"/>
                    </a:lnTo>
                    <a:lnTo>
                      <a:pt x="152" y="634"/>
                    </a:lnTo>
                    <a:lnTo>
                      <a:pt x="129" y="649"/>
                    </a:lnTo>
                    <a:lnTo>
                      <a:pt x="108" y="667"/>
                    </a:lnTo>
                    <a:lnTo>
                      <a:pt x="87" y="687"/>
                    </a:lnTo>
                    <a:lnTo>
                      <a:pt x="69" y="710"/>
                    </a:lnTo>
                    <a:lnTo>
                      <a:pt x="53" y="736"/>
                    </a:lnTo>
                    <a:lnTo>
                      <a:pt x="37" y="765"/>
                    </a:lnTo>
                    <a:lnTo>
                      <a:pt x="24" y="797"/>
                    </a:lnTo>
                    <a:lnTo>
                      <a:pt x="14" y="833"/>
                    </a:lnTo>
                    <a:lnTo>
                      <a:pt x="7" y="872"/>
                    </a:lnTo>
                    <a:lnTo>
                      <a:pt x="1" y="916"/>
                    </a:lnTo>
                    <a:lnTo>
                      <a:pt x="0" y="963"/>
                    </a:lnTo>
                    <a:lnTo>
                      <a:pt x="48" y="963"/>
                    </a:lnTo>
                    <a:lnTo>
                      <a:pt x="49" y="929"/>
                    </a:lnTo>
                    <a:lnTo>
                      <a:pt x="52" y="896"/>
                    </a:lnTo>
                    <a:lnTo>
                      <a:pt x="56" y="866"/>
                    </a:lnTo>
                    <a:lnTo>
                      <a:pt x="62" y="838"/>
                    </a:lnTo>
                    <a:lnTo>
                      <a:pt x="70" y="811"/>
                    </a:lnTo>
                    <a:lnTo>
                      <a:pt x="79" y="786"/>
                    </a:lnTo>
                    <a:lnTo>
                      <a:pt x="91" y="763"/>
                    </a:lnTo>
                    <a:lnTo>
                      <a:pt x="105" y="741"/>
                    </a:lnTo>
                    <a:lnTo>
                      <a:pt x="120" y="721"/>
                    </a:lnTo>
                    <a:lnTo>
                      <a:pt x="137" y="704"/>
                    </a:lnTo>
                    <a:lnTo>
                      <a:pt x="155" y="688"/>
                    </a:lnTo>
                    <a:lnTo>
                      <a:pt x="176" y="674"/>
                    </a:lnTo>
                    <a:lnTo>
                      <a:pt x="199" y="663"/>
                    </a:lnTo>
                    <a:lnTo>
                      <a:pt x="223" y="652"/>
                    </a:lnTo>
                    <a:lnTo>
                      <a:pt x="250" y="643"/>
                    </a:lnTo>
                    <a:lnTo>
                      <a:pt x="277" y="636"/>
                    </a:lnTo>
                    <a:lnTo>
                      <a:pt x="282" y="636"/>
                    </a:lnTo>
                    <a:lnTo>
                      <a:pt x="287" y="635"/>
                    </a:lnTo>
                    <a:lnTo>
                      <a:pt x="294" y="635"/>
                    </a:lnTo>
                    <a:lnTo>
                      <a:pt x="302" y="635"/>
                    </a:lnTo>
                    <a:lnTo>
                      <a:pt x="310" y="634"/>
                    </a:lnTo>
                    <a:lnTo>
                      <a:pt x="319" y="634"/>
                    </a:lnTo>
                    <a:lnTo>
                      <a:pt x="328" y="634"/>
                    </a:lnTo>
                    <a:lnTo>
                      <a:pt x="338" y="634"/>
                    </a:lnTo>
                    <a:lnTo>
                      <a:pt x="355" y="634"/>
                    </a:lnTo>
                    <a:lnTo>
                      <a:pt x="371" y="634"/>
                    </a:lnTo>
                    <a:lnTo>
                      <a:pt x="388" y="634"/>
                    </a:lnTo>
                    <a:lnTo>
                      <a:pt x="406" y="633"/>
                    </a:lnTo>
                    <a:lnTo>
                      <a:pt x="425" y="631"/>
                    </a:lnTo>
                    <a:lnTo>
                      <a:pt x="443" y="630"/>
                    </a:lnTo>
                    <a:lnTo>
                      <a:pt x="462" y="629"/>
                    </a:lnTo>
                    <a:lnTo>
                      <a:pt x="480" y="627"/>
                    </a:lnTo>
                    <a:lnTo>
                      <a:pt x="499" y="625"/>
                    </a:lnTo>
                    <a:lnTo>
                      <a:pt x="517" y="621"/>
                    </a:lnTo>
                    <a:lnTo>
                      <a:pt x="534" y="618"/>
                    </a:lnTo>
                    <a:lnTo>
                      <a:pt x="552" y="612"/>
                    </a:lnTo>
                    <a:lnTo>
                      <a:pt x="567" y="607"/>
                    </a:lnTo>
                    <a:lnTo>
                      <a:pt x="582" y="600"/>
                    </a:lnTo>
                    <a:lnTo>
                      <a:pt x="595" y="592"/>
                    </a:lnTo>
                    <a:lnTo>
                      <a:pt x="608" y="584"/>
                    </a:lnTo>
                    <a:lnTo>
                      <a:pt x="630" y="565"/>
                    </a:lnTo>
                    <a:lnTo>
                      <a:pt x="650" y="544"/>
                    </a:lnTo>
                    <a:lnTo>
                      <a:pt x="667" y="522"/>
                    </a:lnTo>
                    <a:lnTo>
                      <a:pt x="682" y="498"/>
                    </a:lnTo>
                    <a:lnTo>
                      <a:pt x="693" y="472"/>
                    </a:lnTo>
                    <a:lnTo>
                      <a:pt x="703" y="446"/>
                    </a:lnTo>
                    <a:lnTo>
                      <a:pt x="710" y="418"/>
                    </a:lnTo>
                    <a:lnTo>
                      <a:pt x="713" y="388"/>
                    </a:lnTo>
                    <a:lnTo>
                      <a:pt x="714" y="339"/>
                    </a:lnTo>
                    <a:lnTo>
                      <a:pt x="708" y="287"/>
                    </a:lnTo>
                    <a:lnTo>
                      <a:pt x="697" y="236"/>
                    </a:lnTo>
                    <a:lnTo>
                      <a:pt x="681" y="186"/>
                    </a:lnTo>
                    <a:lnTo>
                      <a:pt x="660" y="136"/>
                    </a:lnTo>
                    <a:lnTo>
                      <a:pt x="636" y="88"/>
                    </a:lnTo>
                    <a:lnTo>
                      <a:pt x="608" y="43"/>
                    </a:lnTo>
                    <a:lnTo>
                      <a:pt x="579" y="0"/>
                    </a:lnTo>
                    <a:lnTo>
                      <a:pt x="5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1066680" y="1981080"/>
              <a:ext cx="1136880" cy="976320"/>
            </a:xfrm>
            <a:prstGeom prst="wedgeRoundRectCallout">
              <a:avLst>
                <a:gd name="adj1" fmla="val -87712"/>
                <a:gd name="adj2" fmla="val 270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8120" y="2892600"/>
              <a:ext cx="163800" cy="2840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72"/>
                  </a:moveTo>
                  <a:cubicBezTo>
                    <a:pt x="35" y="43"/>
                    <a:pt x="13" y="2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86000" y="3016080"/>
              <a:ext cx="32400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2133720" y="327636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600200" y="1981080"/>
            <a:ext cx="1066680" cy="1447920"/>
            <a:chOff x="1600200" y="1981080"/>
            <a:chExt cx="1066680" cy="1447920"/>
          </a:xfrm>
        </p:grpSpPr>
        <p:sp>
          <p:nvSpPr>
            <p:cNvPr id="352" name=""/>
            <p:cNvSpPr/>
            <p:nvPr/>
          </p:nvSpPr>
          <p:spPr>
            <a:xfrm>
              <a:off x="1895400" y="1981080"/>
              <a:ext cx="311400" cy="338400"/>
            </a:xfrm>
            <a:custGeom>
              <a:avLst/>
              <a:gdLst/>
              <a:ahLst/>
              <a:rect l="l" t="t" r="r" b="b"/>
              <a:pathLst>
                <a:path w="507" h="658">
                  <a:moveTo>
                    <a:pt x="105" y="30"/>
                  </a:moveTo>
                  <a:lnTo>
                    <a:pt x="161" y="0"/>
                  </a:lnTo>
                  <a:lnTo>
                    <a:pt x="202" y="22"/>
                  </a:lnTo>
                  <a:lnTo>
                    <a:pt x="245" y="93"/>
                  </a:lnTo>
                  <a:lnTo>
                    <a:pt x="272" y="196"/>
                  </a:lnTo>
                  <a:lnTo>
                    <a:pt x="275" y="268"/>
                  </a:lnTo>
                  <a:lnTo>
                    <a:pt x="279" y="362"/>
                  </a:lnTo>
                  <a:lnTo>
                    <a:pt x="460" y="358"/>
                  </a:lnTo>
                  <a:lnTo>
                    <a:pt x="507" y="371"/>
                  </a:lnTo>
                  <a:lnTo>
                    <a:pt x="501" y="415"/>
                  </a:lnTo>
                  <a:lnTo>
                    <a:pt x="403" y="397"/>
                  </a:lnTo>
                  <a:lnTo>
                    <a:pt x="275" y="425"/>
                  </a:lnTo>
                  <a:lnTo>
                    <a:pt x="249" y="518"/>
                  </a:lnTo>
                  <a:lnTo>
                    <a:pt x="212" y="599"/>
                  </a:lnTo>
                  <a:lnTo>
                    <a:pt x="168" y="630"/>
                  </a:lnTo>
                  <a:lnTo>
                    <a:pt x="121" y="658"/>
                  </a:lnTo>
                  <a:lnTo>
                    <a:pt x="87" y="640"/>
                  </a:lnTo>
                  <a:lnTo>
                    <a:pt x="40" y="567"/>
                  </a:lnTo>
                  <a:lnTo>
                    <a:pt x="7" y="478"/>
                  </a:lnTo>
                  <a:lnTo>
                    <a:pt x="0" y="403"/>
                  </a:lnTo>
                  <a:lnTo>
                    <a:pt x="18" y="249"/>
                  </a:lnTo>
                  <a:lnTo>
                    <a:pt x="57" y="134"/>
                  </a:lnTo>
                  <a:lnTo>
                    <a:pt x="87" y="67"/>
                  </a:lnTo>
                  <a:lnTo>
                    <a:pt x="124" y="26"/>
                  </a:lnTo>
                  <a:lnTo>
                    <a:pt x="10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960" y="2306520"/>
              <a:ext cx="637920" cy="158760"/>
            </a:xfrm>
            <a:custGeom>
              <a:avLst/>
              <a:gdLst/>
              <a:ahLst/>
              <a:rect l="l" t="t" r="r" b="b"/>
              <a:pathLst>
                <a:path w="1037" h="246">
                  <a:moveTo>
                    <a:pt x="0" y="157"/>
                  </a:moveTo>
                  <a:lnTo>
                    <a:pt x="87" y="117"/>
                  </a:lnTo>
                  <a:lnTo>
                    <a:pt x="272" y="99"/>
                  </a:lnTo>
                  <a:lnTo>
                    <a:pt x="426" y="81"/>
                  </a:lnTo>
                  <a:lnTo>
                    <a:pt x="598" y="46"/>
                  </a:lnTo>
                  <a:lnTo>
                    <a:pt x="725" y="40"/>
                  </a:lnTo>
                  <a:lnTo>
                    <a:pt x="893" y="14"/>
                  </a:lnTo>
                  <a:lnTo>
                    <a:pt x="1034" y="0"/>
                  </a:lnTo>
                  <a:lnTo>
                    <a:pt x="1037" y="28"/>
                  </a:lnTo>
                  <a:lnTo>
                    <a:pt x="1003" y="63"/>
                  </a:lnTo>
                  <a:lnTo>
                    <a:pt x="876" y="63"/>
                  </a:lnTo>
                  <a:lnTo>
                    <a:pt x="887" y="107"/>
                  </a:lnTo>
                  <a:lnTo>
                    <a:pt x="869" y="161"/>
                  </a:lnTo>
                  <a:lnTo>
                    <a:pt x="835" y="196"/>
                  </a:lnTo>
                  <a:lnTo>
                    <a:pt x="782" y="196"/>
                  </a:lnTo>
                  <a:lnTo>
                    <a:pt x="738" y="179"/>
                  </a:lnTo>
                  <a:lnTo>
                    <a:pt x="722" y="121"/>
                  </a:lnTo>
                  <a:lnTo>
                    <a:pt x="722" y="85"/>
                  </a:lnTo>
                  <a:lnTo>
                    <a:pt x="601" y="89"/>
                  </a:lnTo>
                  <a:lnTo>
                    <a:pt x="551" y="107"/>
                  </a:lnTo>
                  <a:lnTo>
                    <a:pt x="450" y="143"/>
                  </a:lnTo>
                  <a:lnTo>
                    <a:pt x="305" y="166"/>
                  </a:lnTo>
                  <a:lnTo>
                    <a:pt x="184" y="170"/>
                  </a:lnTo>
                  <a:lnTo>
                    <a:pt x="105" y="192"/>
                  </a:lnTo>
                  <a:lnTo>
                    <a:pt x="31" y="246"/>
                  </a:lnTo>
                  <a:lnTo>
                    <a:pt x="0" y="192"/>
                  </a:lnTo>
                  <a:lnTo>
                    <a:pt x="21" y="143"/>
                  </a:lnTo>
                  <a:lnTo>
                    <a:pt x="37" y="131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30240" y="2335320"/>
              <a:ext cx="247680" cy="569880"/>
            </a:xfrm>
            <a:custGeom>
              <a:avLst/>
              <a:gdLst/>
              <a:ahLst/>
              <a:rect l="l" t="t" r="r" b="b"/>
              <a:pathLst>
                <a:path w="405" h="1128">
                  <a:moveTo>
                    <a:pt x="180" y="0"/>
                  </a:moveTo>
                  <a:lnTo>
                    <a:pt x="230" y="12"/>
                  </a:lnTo>
                  <a:lnTo>
                    <a:pt x="290" y="12"/>
                  </a:lnTo>
                  <a:lnTo>
                    <a:pt x="371" y="65"/>
                  </a:lnTo>
                  <a:lnTo>
                    <a:pt x="401" y="174"/>
                  </a:lnTo>
                  <a:lnTo>
                    <a:pt x="405" y="322"/>
                  </a:lnTo>
                  <a:lnTo>
                    <a:pt x="374" y="486"/>
                  </a:lnTo>
                  <a:lnTo>
                    <a:pt x="321" y="644"/>
                  </a:lnTo>
                  <a:lnTo>
                    <a:pt x="281" y="778"/>
                  </a:lnTo>
                  <a:lnTo>
                    <a:pt x="240" y="966"/>
                  </a:lnTo>
                  <a:lnTo>
                    <a:pt x="193" y="1078"/>
                  </a:lnTo>
                  <a:lnTo>
                    <a:pt x="134" y="1128"/>
                  </a:lnTo>
                  <a:lnTo>
                    <a:pt x="83" y="1128"/>
                  </a:lnTo>
                  <a:lnTo>
                    <a:pt x="23" y="1078"/>
                  </a:lnTo>
                  <a:lnTo>
                    <a:pt x="0" y="1006"/>
                  </a:lnTo>
                  <a:lnTo>
                    <a:pt x="0" y="889"/>
                  </a:lnTo>
                  <a:lnTo>
                    <a:pt x="33" y="737"/>
                  </a:lnTo>
                  <a:lnTo>
                    <a:pt x="60" y="527"/>
                  </a:lnTo>
                  <a:lnTo>
                    <a:pt x="69" y="267"/>
                  </a:lnTo>
                  <a:lnTo>
                    <a:pt x="53" y="71"/>
                  </a:lnTo>
                  <a:lnTo>
                    <a:pt x="103" y="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16040" y="2355840"/>
              <a:ext cx="284040" cy="511200"/>
            </a:xfrm>
            <a:custGeom>
              <a:avLst/>
              <a:gdLst/>
              <a:ahLst/>
              <a:rect l="l" t="t" r="r" b="b"/>
              <a:pathLst>
                <a:path w="462" h="1009">
                  <a:moveTo>
                    <a:pt x="352" y="40"/>
                  </a:moveTo>
                  <a:lnTo>
                    <a:pt x="402" y="0"/>
                  </a:lnTo>
                  <a:lnTo>
                    <a:pt x="439" y="0"/>
                  </a:lnTo>
                  <a:lnTo>
                    <a:pt x="462" y="32"/>
                  </a:lnTo>
                  <a:lnTo>
                    <a:pt x="449" y="93"/>
                  </a:lnTo>
                  <a:lnTo>
                    <a:pt x="418" y="134"/>
                  </a:lnTo>
                  <a:lnTo>
                    <a:pt x="362" y="174"/>
                  </a:lnTo>
                  <a:lnTo>
                    <a:pt x="251" y="233"/>
                  </a:lnTo>
                  <a:lnTo>
                    <a:pt x="110" y="336"/>
                  </a:lnTo>
                  <a:lnTo>
                    <a:pt x="57" y="340"/>
                  </a:lnTo>
                  <a:lnTo>
                    <a:pt x="87" y="435"/>
                  </a:lnTo>
                  <a:lnTo>
                    <a:pt x="147" y="537"/>
                  </a:lnTo>
                  <a:lnTo>
                    <a:pt x="197" y="664"/>
                  </a:lnTo>
                  <a:lnTo>
                    <a:pt x="218" y="794"/>
                  </a:lnTo>
                  <a:lnTo>
                    <a:pt x="207" y="834"/>
                  </a:lnTo>
                  <a:lnTo>
                    <a:pt x="178" y="861"/>
                  </a:lnTo>
                  <a:lnTo>
                    <a:pt x="137" y="879"/>
                  </a:lnTo>
                  <a:lnTo>
                    <a:pt x="97" y="919"/>
                  </a:lnTo>
                  <a:lnTo>
                    <a:pt x="80" y="960"/>
                  </a:lnTo>
                  <a:lnTo>
                    <a:pt x="70" y="1009"/>
                  </a:lnTo>
                  <a:lnTo>
                    <a:pt x="39" y="1009"/>
                  </a:lnTo>
                  <a:lnTo>
                    <a:pt x="29" y="972"/>
                  </a:lnTo>
                  <a:lnTo>
                    <a:pt x="50" y="914"/>
                  </a:lnTo>
                  <a:lnTo>
                    <a:pt x="107" y="875"/>
                  </a:lnTo>
                  <a:lnTo>
                    <a:pt x="141" y="834"/>
                  </a:lnTo>
                  <a:lnTo>
                    <a:pt x="170" y="812"/>
                  </a:lnTo>
                  <a:lnTo>
                    <a:pt x="181" y="771"/>
                  </a:lnTo>
                  <a:lnTo>
                    <a:pt x="167" y="664"/>
                  </a:lnTo>
                  <a:lnTo>
                    <a:pt x="120" y="583"/>
                  </a:lnTo>
                  <a:lnTo>
                    <a:pt x="80" y="511"/>
                  </a:lnTo>
                  <a:lnTo>
                    <a:pt x="29" y="431"/>
                  </a:lnTo>
                  <a:lnTo>
                    <a:pt x="0" y="354"/>
                  </a:lnTo>
                  <a:lnTo>
                    <a:pt x="0" y="309"/>
                  </a:lnTo>
                  <a:lnTo>
                    <a:pt x="26" y="287"/>
                  </a:lnTo>
                  <a:lnTo>
                    <a:pt x="131" y="206"/>
                  </a:lnTo>
                  <a:lnTo>
                    <a:pt x="231" y="134"/>
                  </a:lnTo>
                  <a:lnTo>
                    <a:pt x="331" y="67"/>
                  </a:lnTo>
                  <a:lnTo>
                    <a:pt x="35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84240" y="2859120"/>
              <a:ext cx="225720" cy="549360"/>
            </a:xfrm>
            <a:custGeom>
              <a:avLst/>
              <a:gdLst/>
              <a:ahLst/>
              <a:rect l="l" t="t" r="r" b="b"/>
              <a:pathLst>
                <a:path w="308" h="1093">
                  <a:moveTo>
                    <a:pt x="57" y="126"/>
                  </a:moveTo>
                  <a:lnTo>
                    <a:pt x="17" y="55"/>
                  </a:lnTo>
                  <a:lnTo>
                    <a:pt x="31" y="0"/>
                  </a:lnTo>
                  <a:lnTo>
                    <a:pt x="71" y="0"/>
                  </a:lnTo>
                  <a:lnTo>
                    <a:pt x="118" y="59"/>
                  </a:lnTo>
                  <a:lnTo>
                    <a:pt x="178" y="180"/>
                  </a:lnTo>
                  <a:lnTo>
                    <a:pt x="212" y="296"/>
                  </a:lnTo>
                  <a:lnTo>
                    <a:pt x="241" y="409"/>
                  </a:lnTo>
                  <a:lnTo>
                    <a:pt x="252" y="511"/>
                  </a:lnTo>
                  <a:lnTo>
                    <a:pt x="249" y="565"/>
                  </a:lnTo>
                  <a:lnTo>
                    <a:pt x="218" y="632"/>
                  </a:lnTo>
                  <a:lnTo>
                    <a:pt x="168" y="812"/>
                  </a:lnTo>
                  <a:lnTo>
                    <a:pt x="110" y="914"/>
                  </a:lnTo>
                  <a:lnTo>
                    <a:pt x="97" y="960"/>
                  </a:lnTo>
                  <a:lnTo>
                    <a:pt x="151" y="968"/>
                  </a:lnTo>
                  <a:lnTo>
                    <a:pt x="221" y="968"/>
                  </a:lnTo>
                  <a:lnTo>
                    <a:pt x="308" y="1008"/>
                  </a:lnTo>
                  <a:lnTo>
                    <a:pt x="302" y="1039"/>
                  </a:lnTo>
                  <a:lnTo>
                    <a:pt x="289" y="1075"/>
                  </a:lnTo>
                  <a:lnTo>
                    <a:pt x="262" y="1093"/>
                  </a:lnTo>
                  <a:lnTo>
                    <a:pt x="208" y="1067"/>
                  </a:lnTo>
                  <a:lnTo>
                    <a:pt x="151" y="1027"/>
                  </a:lnTo>
                  <a:lnTo>
                    <a:pt x="71" y="1021"/>
                  </a:lnTo>
                  <a:lnTo>
                    <a:pt x="20" y="1035"/>
                  </a:lnTo>
                  <a:lnTo>
                    <a:pt x="0" y="1013"/>
                  </a:lnTo>
                  <a:lnTo>
                    <a:pt x="0" y="982"/>
                  </a:lnTo>
                  <a:lnTo>
                    <a:pt x="28" y="946"/>
                  </a:lnTo>
                  <a:lnTo>
                    <a:pt x="71" y="887"/>
                  </a:lnTo>
                  <a:lnTo>
                    <a:pt x="147" y="739"/>
                  </a:lnTo>
                  <a:lnTo>
                    <a:pt x="181" y="610"/>
                  </a:lnTo>
                  <a:lnTo>
                    <a:pt x="191" y="484"/>
                  </a:lnTo>
                  <a:lnTo>
                    <a:pt x="188" y="417"/>
                  </a:lnTo>
                  <a:lnTo>
                    <a:pt x="162" y="296"/>
                  </a:lnTo>
                  <a:lnTo>
                    <a:pt x="91" y="166"/>
                  </a:lnTo>
                  <a:lnTo>
                    <a:pt x="41" y="99"/>
                  </a:lnTo>
                  <a:lnTo>
                    <a:pt x="5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0200" y="2822400"/>
              <a:ext cx="289080" cy="606600"/>
            </a:xfrm>
            <a:custGeom>
              <a:avLst/>
              <a:gdLst/>
              <a:ahLst/>
              <a:rect l="l" t="t" r="r" b="b"/>
              <a:pathLst>
                <a:path w="452" h="1205">
                  <a:moveTo>
                    <a:pt x="264" y="211"/>
                  </a:moveTo>
                  <a:lnTo>
                    <a:pt x="332" y="95"/>
                  </a:lnTo>
                  <a:lnTo>
                    <a:pt x="392" y="0"/>
                  </a:lnTo>
                  <a:lnTo>
                    <a:pt x="432" y="10"/>
                  </a:lnTo>
                  <a:lnTo>
                    <a:pt x="452" y="49"/>
                  </a:lnTo>
                  <a:lnTo>
                    <a:pt x="452" y="121"/>
                  </a:lnTo>
                  <a:lnTo>
                    <a:pt x="416" y="162"/>
                  </a:lnTo>
                  <a:lnTo>
                    <a:pt x="351" y="215"/>
                  </a:lnTo>
                  <a:lnTo>
                    <a:pt x="301" y="282"/>
                  </a:lnTo>
                  <a:lnTo>
                    <a:pt x="245" y="372"/>
                  </a:lnTo>
                  <a:lnTo>
                    <a:pt x="221" y="439"/>
                  </a:lnTo>
                  <a:lnTo>
                    <a:pt x="195" y="520"/>
                  </a:lnTo>
                  <a:lnTo>
                    <a:pt x="180" y="628"/>
                  </a:lnTo>
                  <a:lnTo>
                    <a:pt x="180" y="725"/>
                  </a:lnTo>
                  <a:lnTo>
                    <a:pt x="195" y="847"/>
                  </a:lnTo>
                  <a:lnTo>
                    <a:pt x="231" y="964"/>
                  </a:lnTo>
                  <a:lnTo>
                    <a:pt x="261" y="1031"/>
                  </a:lnTo>
                  <a:lnTo>
                    <a:pt x="281" y="1075"/>
                  </a:lnTo>
                  <a:lnTo>
                    <a:pt x="281" y="1112"/>
                  </a:lnTo>
                  <a:lnTo>
                    <a:pt x="261" y="1124"/>
                  </a:lnTo>
                  <a:lnTo>
                    <a:pt x="214" y="1124"/>
                  </a:lnTo>
                  <a:lnTo>
                    <a:pt x="140" y="1142"/>
                  </a:lnTo>
                  <a:lnTo>
                    <a:pt x="83" y="1169"/>
                  </a:lnTo>
                  <a:lnTo>
                    <a:pt x="50" y="1205"/>
                  </a:lnTo>
                  <a:lnTo>
                    <a:pt x="19" y="1191"/>
                  </a:lnTo>
                  <a:lnTo>
                    <a:pt x="0" y="1142"/>
                  </a:lnTo>
                  <a:lnTo>
                    <a:pt x="3" y="1102"/>
                  </a:lnTo>
                  <a:lnTo>
                    <a:pt x="60" y="1071"/>
                  </a:lnTo>
                  <a:lnTo>
                    <a:pt x="150" y="1062"/>
                  </a:lnTo>
                  <a:lnTo>
                    <a:pt x="234" y="1062"/>
                  </a:lnTo>
                  <a:lnTo>
                    <a:pt x="201" y="1008"/>
                  </a:lnTo>
                  <a:lnTo>
                    <a:pt x="184" y="940"/>
                  </a:lnTo>
                  <a:lnTo>
                    <a:pt x="161" y="847"/>
                  </a:lnTo>
                  <a:lnTo>
                    <a:pt x="134" y="749"/>
                  </a:lnTo>
                  <a:lnTo>
                    <a:pt x="134" y="632"/>
                  </a:lnTo>
                  <a:lnTo>
                    <a:pt x="140" y="520"/>
                  </a:lnTo>
                  <a:lnTo>
                    <a:pt x="171" y="417"/>
                  </a:lnTo>
                  <a:lnTo>
                    <a:pt x="224" y="282"/>
                  </a:lnTo>
                  <a:lnTo>
                    <a:pt x="26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2374920"/>
              <a:ext cx="241200" cy="4395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2413080"/>
              <a:ext cx="588960" cy="177840"/>
            </a:xfrm>
            <a:custGeom>
              <a:avLst/>
              <a:gdLst/>
              <a:ahLst/>
              <a:rect l="l" t="t" r="r" b="b"/>
              <a:pathLst>
                <a:path w="480" h="182">
                  <a:moveTo>
                    <a:pt x="42" y="0"/>
                  </a:moveTo>
                  <a:cubicBezTo>
                    <a:pt x="4" y="38"/>
                    <a:pt x="0" y="97"/>
                    <a:pt x="55" y="124"/>
                  </a:cubicBezTo>
                  <a:cubicBezTo>
                    <a:pt x="122" y="158"/>
                    <a:pt x="231" y="176"/>
                    <a:pt x="302" y="179"/>
                  </a:cubicBezTo>
                  <a:cubicBezTo>
                    <a:pt x="361" y="182"/>
                    <a:pt x="421" y="179"/>
                    <a:pt x="480" y="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2840" y="2595600"/>
              <a:ext cx="203040" cy="1584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cubicBezTo>
                    <a:pt x="13" y="4"/>
                    <a:pt x="25" y="0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7000" y="259560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8"/>
                    <a:pt x="0" y="13"/>
                    <a:pt x="9" y="16"/>
                  </a:cubicBezTo>
                  <a:cubicBezTo>
                    <a:pt x="17" y="13"/>
                    <a:pt x="15" y="10"/>
                    <a:pt x="21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heisst Mark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komm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914400" cy="128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komm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600200" y="1981080"/>
            <a:ext cx="1066680" cy="1447920"/>
            <a:chOff x="1600200" y="1981080"/>
            <a:chExt cx="1066680" cy="1447920"/>
          </a:xfrm>
        </p:grpSpPr>
        <p:sp>
          <p:nvSpPr>
            <p:cNvPr id="368" name=""/>
            <p:cNvSpPr/>
            <p:nvPr/>
          </p:nvSpPr>
          <p:spPr>
            <a:xfrm>
              <a:off x="1895400" y="1981080"/>
              <a:ext cx="311400" cy="338400"/>
            </a:xfrm>
            <a:custGeom>
              <a:avLst/>
              <a:gdLst/>
              <a:ahLst/>
              <a:rect l="l" t="t" r="r" b="b"/>
              <a:pathLst>
                <a:path w="507" h="658">
                  <a:moveTo>
                    <a:pt x="105" y="30"/>
                  </a:moveTo>
                  <a:lnTo>
                    <a:pt x="161" y="0"/>
                  </a:lnTo>
                  <a:lnTo>
                    <a:pt x="202" y="22"/>
                  </a:lnTo>
                  <a:lnTo>
                    <a:pt x="245" y="93"/>
                  </a:lnTo>
                  <a:lnTo>
                    <a:pt x="272" y="196"/>
                  </a:lnTo>
                  <a:lnTo>
                    <a:pt x="275" y="268"/>
                  </a:lnTo>
                  <a:lnTo>
                    <a:pt x="279" y="362"/>
                  </a:lnTo>
                  <a:lnTo>
                    <a:pt x="460" y="358"/>
                  </a:lnTo>
                  <a:lnTo>
                    <a:pt x="507" y="371"/>
                  </a:lnTo>
                  <a:lnTo>
                    <a:pt x="501" y="415"/>
                  </a:lnTo>
                  <a:lnTo>
                    <a:pt x="403" y="397"/>
                  </a:lnTo>
                  <a:lnTo>
                    <a:pt x="275" y="425"/>
                  </a:lnTo>
                  <a:lnTo>
                    <a:pt x="249" y="518"/>
                  </a:lnTo>
                  <a:lnTo>
                    <a:pt x="212" y="599"/>
                  </a:lnTo>
                  <a:lnTo>
                    <a:pt x="168" y="630"/>
                  </a:lnTo>
                  <a:lnTo>
                    <a:pt x="121" y="658"/>
                  </a:lnTo>
                  <a:lnTo>
                    <a:pt x="87" y="640"/>
                  </a:lnTo>
                  <a:lnTo>
                    <a:pt x="40" y="567"/>
                  </a:lnTo>
                  <a:lnTo>
                    <a:pt x="7" y="478"/>
                  </a:lnTo>
                  <a:lnTo>
                    <a:pt x="0" y="403"/>
                  </a:lnTo>
                  <a:lnTo>
                    <a:pt x="18" y="249"/>
                  </a:lnTo>
                  <a:lnTo>
                    <a:pt x="57" y="134"/>
                  </a:lnTo>
                  <a:lnTo>
                    <a:pt x="87" y="67"/>
                  </a:lnTo>
                  <a:lnTo>
                    <a:pt x="124" y="26"/>
                  </a:lnTo>
                  <a:lnTo>
                    <a:pt x="10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8960" y="2306520"/>
              <a:ext cx="637920" cy="158760"/>
            </a:xfrm>
            <a:custGeom>
              <a:avLst/>
              <a:gdLst/>
              <a:ahLst/>
              <a:rect l="l" t="t" r="r" b="b"/>
              <a:pathLst>
                <a:path w="1037" h="246">
                  <a:moveTo>
                    <a:pt x="0" y="157"/>
                  </a:moveTo>
                  <a:lnTo>
                    <a:pt x="87" y="117"/>
                  </a:lnTo>
                  <a:lnTo>
                    <a:pt x="272" y="99"/>
                  </a:lnTo>
                  <a:lnTo>
                    <a:pt x="426" y="81"/>
                  </a:lnTo>
                  <a:lnTo>
                    <a:pt x="598" y="46"/>
                  </a:lnTo>
                  <a:lnTo>
                    <a:pt x="725" y="40"/>
                  </a:lnTo>
                  <a:lnTo>
                    <a:pt x="893" y="14"/>
                  </a:lnTo>
                  <a:lnTo>
                    <a:pt x="1034" y="0"/>
                  </a:lnTo>
                  <a:lnTo>
                    <a:pt x="1037" y="28"/>
                  </a:lnTo>
                  <a:lnTo>
                    <a:pt x="1003" y="63"/>
                  </a:lnTo>
                  <a:lnTo>
                    <a:pt x="876" y="63"/>
                  </a:lnTo>
                  <a:lnTo>
                    <a:pt x="887" y="107"/>
                  </a:lnTo>
                  <a:lnTo>
                    <a:pt x="869" y="161"/>
                  </a:lnTo>
                  <a:lnTo>
                    <a:pt x="835" y="196"/>
                  </a:lnTo>
                  <a:lnTo>
                    <a:pt x="782" y="196"/>
                  </a:lnTo>
                  <a:lnTo>
                    <a:pt x="738" y="179"/>
                  </a:lnTo>
                  <a:lnTo>
                    <a:pt x="722" y="121"/>
                  </a:lnTo>
                  <a:lnTo>
                    <a:pt x="722" y="85"/>
                  </a:lnTo>
                  <a:lnTo>
                    <a:pt x="601" y="89"/>
                  </a:lnTo>
                  <a:lnTo>
                    <a:pt x="551" y="107"/>
                  </a:lnTo>
                  <a:lnTo>
                    <a:pt x="450" y="143"/>
                  </a:lnTo>
                  <a:lnTo>
                    <a:pt x="305" y="166"/>
                  </a:lnTo>
                  <a:lnTo>
                    <a:pt x="184" y="170"/>
                  </a:lnTo>
                  <a:lnTo>
                    <a:pt x="105" y="192"/>
                  </a:lnTo>
                  <a:lnTo>
                    <a:pt x="31" y="246"/>
                  </a:lnTo>
                  <a:lnTo>
                    <a:pt x="0" y="192"/>
                  </a:lnTo>
                  <a:lnTo>
                    <a:pt x="21" y="143"/>
                  </a:lnTo>
                  <a:lnTo>
                    <a:pt x="37" y="131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0240" y="2335320"/>
              <a:ext cx="247680" cy="569880"/>
            </a:xfrm>
            <a:custGeom>
              <a:avLst/>
              <a:gdLst/>
              <a:ahLst/>
              <a:rect l="l" t="t" r="r" b="b"/>
              <a:pathLst>
                <a:path w="405" h="1128">
                  <a:moveTo>
                    <a:pt x="180" y="0"/>
                  </a:moveTo>
                  <a:lnTo>
                    <a:pt x="230" y="12"/>
                  </a:lnTo>
                  <a:lnTo>
                    <a:pt x="290" y="12"/>
                  </a:lnTo>
                  <a:lnTo>
                    <a:pt x="371" y="65"/>
                  </a:lnTo>
                  <a:lnTo>
                    <a:pt x="401" y="174"/>
                  </a:lnTo>
                  <a:lnTo>
                    <a:pt x="405" y="322"/>
                  </a:lnTo>
                  <a:lnTo>
                    <a:pt x="374" y="486"/>
                  </a:lnTo>
                  <a:lnTo>
                    <a:pt x="321" y="644"/>
                  </a:lnTo>
                  <a:lnTo>
                    <a:pt x="281" y="778"/>
                  </a:lnTo>
                  <a:lnTo>
                    <a:pt x="240" y="966"/>
                  </a:lnTo>
                  <a:lnTo>
                    <a:pt x="193" y="1078"/>
                  </a:lnTo>
                  <a:lnTo>
                    <a:pt x="134" y="1128"/>
                  </a:lnTo>
                  <a:lnTo>
                    <a:pt x="83" y="1128"/>
                  </a:lnTo>
                  <a:lnTo>
                    <a:pt x="23" y="1078"/>
                  </a:lnTo>
                  <a:lnTo>
                    <a:pt x="0" y="1006"/>
                  </a:lnTo>
                  <a:lnTo>
                    <a:pt x="0" y="889"/>
                  </a:lnTo>
                  <a:lnTo>
                    <a:pt x="33" y="737"/>
                  </a:lnTo>
                  <a:lnTo>
                    <a:pt x="60" y="527"/>
                  </a:lnTo>
                  <a:lnTo>
                    <a:pt x="69" y="267"/>
                  </a:lnTo>
                  <a:lnTo>
                    <a:pt x="53" y="71"/>
                  </a:lnTo>
                  <a:lnTo>
                    <a:pt x="103" y="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6040" y="2355840"/>
              <a:ext cx="284040" cy="511200"/>
            </a:xfrm>
            <a:custGeom>
              <a:avLst/>
              <a:gdLst/>
              <a:ahLst/>
              <a:rect l="l" t="t" r="r" b="b"/>
              <a:pathLst>
                <a:path w="462" h="1009">
                  <a:moveTo>
                    <a:pt x="352" y="40"/>
                  </a:moveTo>
                  <a:lnTo>
                    <a:pt x="402" y="0"/>
                  </a:lnTo>
                  <a:lnTo>
                    <a:pt x="439" y="0"/>
                  </a:lnTo>
                  <a:lnTo>
                    <a:pt x="462" y="32"/>
                  </a:lnTo>
                  <a:lnTo>
                    <a:pt x="449" y="93"/>
                  </a:lnTo>
                  <a:lnTo>
                    <a:pt x="418" y="134"/>
                  </a:lnTo>
                  <a:lnTo>
                    <a:pt x="362" y="174"/>
                  </a:lnTo>
                  <a:lnTo>
                    <a:pt x="251" y="233"/>
                  </a:lnTo>
                  <a:lnTo>
                    <a:pt x="110" y="336"/>
                  </a:lnTo>
                  <a:lnTo>
                    <a:pt x="57" y="340"/>
                  </a:lnTo>
                  <a:lnTo>
                    <a:pt x="87" y="435"/>
                  </a:lnTo>
                  <a:lnTo>
                    <a:pt x="147" y="537"/>
                  </a:lnTo>
                  <a:lnTo>
                    <a:pt x="197" y="664"/>
                  </a:lnTo>
                  <a:lnTo>
                    <a:pt x="218" y="794"/>
                  </a:lnTo>
                  <a:lnTo>
                    <a:pt x="207" y="834"/>
                  </a:lnTo>
                  <a:lnTo>
                    <a:pt x="178" y="861"/>
                  </a:lnTo>
                  <a:lnTo>
                    <a:pt x="137" y="879"/>
                  </a:lnTo>
                  <a:lnTo>
                    <a:pt x="97" y="919"/>
                  </a:lnTo>
                  <a:lnTo>
                    <a:pt x="80" y="960"/>
                  </a:lnTo>
                  <a:lnTo>
                    <a:pt x="70" y="1009"/>
                  </a:lnTo>
                  <a:lnTo>
                    <a:pt x="39" y="1009"/>
                  </a:lnTo>
                  <a:lnTo>
                    <a:pt x="29" y="972"/>
                  </a:lnTo>
                  <a:lnTo>
                    <a:pt x="50" y="914"/>
                  </a:lnTo>
                  <a:lnTo>
                    <a:pt x="107" y="875"/>
                  </a:lnTo>
                  <a:lnTo>
                    <a:pt x="141" y="834"/>
                  </a:lnTo>
                  <a:lnTo>
                    <a:pt x="170" y="812"/>
                  </a:lnTo>
                  <a:lnTo>
                    <a:pt x="181" y="771"/>
                  </a:lnTo>
                  <a:lnTo>
                    <a:pt x="167" y="664"/>
                  </a:lnTo>
                  <a:lnTo>
                    <a:pt x="120" y="583"/>
                  </a:lnTo>
                  <a:lnTo>
                    <a:pt x="80" y="511"/>
                  </a:lnTo>
                  <a:lnTo>
                    <a:pt x="29" y="431"/>
                  </a:lnTo>
                  <a:lnTo>
                    <a:pt x="0" y="354"/>
                  </a:lnTo>
                  <a:lnTo>
                    <a:pt x="0" y="309"/>
                  </a:lnTo>
                  <a:lnTo>
                    <a:pt x="26" y="287"/>
                  </a:lnTo>
                  <a:lnTo>
                    <a:pt x="131" y="206"/>
                  </a:lnTo>
                  <a:lnTo>
                    <a:pt x="231" y="134"/>
                  </a:lnTo>
                  <a:lnTo>
                    <a:pt x="331" y="67"/>
                  </a:lnTo>
                  <a:lnTo>
                    <a:pt x="35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4240" y="2859120"/>
              <a:ext cx="225720" cy="549360"/>
            </a:xfrm>
            <a:custGeom>
              <a:avLst/>
              <a:gdLst/>
              <a:ahLst/>
              <a:rect l="l" t="t" r="r" b="b"/>
              <a:pathLst>
                <a:path w="308" h="1093">
                  <a:moveTo>
                    <a:pt x="57" y="126"/>
                  </a:moveTo>
                  <a:lnTo>
                    <a:pt x="17" y="55"/>
                  </a:lnTo>
                  <a:lnTo>
                    <a:pt x="31" y="0"/>
                  </a:lnTo>
                  <a:lnTo>
                    <a:pt x="71" y="0"/>
                  </a:lnTo>
                  <a:lnTo>
                    <a:pt x="118" y="59"/>
                  </a:lnTo>
                  <a:lnTo>
                    <a:pt x="178" y="180"/>
                  </a:lnTo>
                  <a:lnTo>
                    <a:pt x="212" y="296"/>
                  </a:lnTo>
                  <a:lnTo>
                    <a:pt x="241" y="409"/>
                  </a:lnTo>
                  <a:lnTo>
                    <a:pt x="252" y="511"/>
                  </a:lnTo>
                  <a:lnTo>
                    <a:pt x="249" y="565"/>
                  </a:lnTo>
                  <a:lnTo>
                    <a:pt x="218" y="632"/>
                  </a:lnTo>
                  <a:lnTo>
                    <a:pt x="168" y="812"/>
                  </a:lnTo>
                  <a:lnTo>
                    <a:pt x="110" y="914"/>
                  </a:lnTo>
                  <a:lnTo>
                    <a:pt x="97" y="960"/>
                  </a:lnTo>
                  <a:lnTo>
                    <a:pt x="151" y="968"/>
                  </a:lnTo>
                  <a:lnTo>
                    <a:pt x="221" y="968"/>
                  </a:lnTo>
                  <a:lnTo>
                    <a:pt x="308" y="1008"/>
                  </a:lnTo>
                  <a:lnTo>
                    <a:pt x="302" y="1039"/>
                  </a:lnTo>
                  <a:lnTo>
                    <a:pt x="289" y="1075"/>
                  </a:lnTo>
                  <a:lnTo>
                    <a:pt x="262" y="1093"/>
                  </a:lnTo>
                  <a:lnTo>
                    <a:pt x="208" y="1067"/>
                  </a:lnTo>
                  <a:lnTo>
                    <a:pt x="151" y="1027"/>
                  </a:lnTo>
                  <a:lnTo>
                    <a:pt x="71" y="1021"/>
                  </a:lnTo>
                  <a:lnTo>
                    <a:pt x="20" y="1035"/>
                  </a:lnTo>
                  <a:lnTo>
                    <a:pt x="0" y="1013"/>
                  </a:lnTo>
                  <a:lnTo>
                    <a:pt x="0" y="982"/>
                  </a:lnTo>
                  <a:lnTo>
                    <a:pt x="28" y="946"/>
                  </a:lnTo>
                  <a:lnTo>
                    <a:pt x="71" y="887"/>
                  </a:lnTo>
                  <a:lnTo>
                    <a:pt x="147" y="739"/>
                  </a:lnTo>
                  <a:lnTo>
                    <a:pt x="181" y="610"/>
                  </a:lnTo>
                  <a:lnTo>
                    <a:pt x="191" y="484"/>
                  </a:lnTo>
                  <a:lnTo>
                    <a:pt x="188" y="417"/>
                  </a:lnTo>
                  <a:lnTo>
                    <a:pt x="162" y="296"/>
                  </a:lnTo>
                  <a:lnTo>
                    <a:pt x="91" y="166"/>
                  </a:lnTo>
                  <a:lnTo>
                    <a:pt x="41" y="99"/>
                  </a:lnTo>
                  <a:lnTo>
                    <a:pt x="5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2822400"/>
              <a:ext cx="289080" cy="606600"/>
            </a:xfrm>
            <a:custGeom>
              <a:avLst/>
              <a:gdLst/>
              <a:ahLst/>
              <a:rect l="l" t="t" r="r" b="b"/>
              <a:pathLst>
                <a:path w="452" h="1205">
                  <a:moveTo>
                    <a:pt x="264" y="211"/>
                  </a:moveTo>
                  <a:lnTo>
                    <a:pt x="332" y="95"/>
                  </a:lnTo>
                  <a:lnTo>
                    <a:pt x="392" y="0"/>
                  </a:lnTo>
                  <a:lnTo>
                    <a:pt x="432" y="10"/>
                  </a:lnTo>
                  <a:lnTo>
                    <a:pt x="452" y="49"/>
                  </a:lnTo>
                  <a:lnTo>
                    <a:pt x="452" y="121"/>
                  </a:lnTo>
                  <a:lnTo>
                    <a:pt x="416" y="162"/>
                  </a:lnTo>
                  <a:lnTo>
                    <a:pt x="351" y="215"/>
                  </a:lnTo>
                  <a:lnTo>
                    <a:pt x="301" y="282"/>
                  </a:lnTo>
                  <a:lnTo>
                    <a:pt x="245" y="372"/>
                  </a:lnTo>
                  <a:lnTo>
                    <a:pt x="221" y="439"/>
                  </a:lnTo>
                  <a:lnTo>
                    <a:pt x="195" y="520"/>
                  </a:lnTo>
                  <a:lnTo>
                    <a:pt x="180" y="628"/>
                  </a:lnTo>
                  <a:lnTo>
                    <a:pt x="180" y="725"/>
                  </a:lnTo>
                  <a:lnTo>
                    <a:pt x="195" y="847"/>
                  </a:lnTo>
                  <a:lnTo>
                    <a:pt x="231" y="964"/>
                  </a:lnTo>
                  <a:lnTo>
                    <a:pt x="261" y="1031"/>
                  </a:lnTo>
                  <a:lnTo>
                    <a:pt x="281" y="1075"/>
                  </a:lnTo>
                  <a:lnTo>
                    <a:pt x="281" y="1112"/>
                  </a:lnTo>
                  <a:lnTo>
                    <a:pt x="261" y="1124"/>
                  </a:lnTo>
                  <a:lnTo>
                    <a:pt x="214" y="1124"/>
                  </a:lnTo>
                  <a:lnTo>
                    <a:pt x="140" y="1142"/>
                  </a:lnTo>
                  <a:lnTo>
                    <a:pt x="83" y="1169"/>
                  </a:lnTo>
                  <a:lnTo>
                    <a:pt x="50" y="1205"/>
                  </a:lnTo>
                  <a:lnTo>
                    <a:pt x="19" y="1191"/>
                  </a:lnTo>
                  <a:lnTo>
                    <a:pt x="0" y="1142"/>
                  </a:lnTo>
                  <a:lnTo>
                    <a:pt x="3" y="1102"/>
                  </a:lnTo>
                  <a:lnTo>
                    <a:pt x="60" y="1071"/>
                  </a:lnTo>
                  <a:lnTo>
                    <a:pt x="150" y="1062"/>
                  </a:lnTo>
                  <a:lnTo>
                    <a:pt x="234" y="1062"/>
                  </a:lnTo>
                  <a:lnTo>
                    <a:pt x="201" y="1008"/>
                  </a:lnTo>
                  <a:lnTo>
                    <a:pt x="184" y="940"/>
                  </a:lnTo>
                  <a:lnTo>
                    <a:pt x="161" y="847"/>
                  </a:lnTo>
                  <a:lnTo>
                    <a:pt x="134" y="749"/>
                  </a:lnTo>
                  <a:lnTo>
                    <a:pt x="134" y="632"/>
                  </a:lnTo>
                  <a:lnTo>
                    <a:pt x="140" y="520"/>
                  </a:lnTo>
                  <a:lnTo>
                    <a:pt x="171" y="417"/>
                  </a:lnTo>
                  <a:lnTo>
                    <a:pt x="224" y="282"/>
                  </a:lnTo>
                  <a:lnTo>
                    <a:pt x="26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2374920"/>
              <a:ext cx="241200" cy="4395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09720" y="2413080"/>
              <a:ext cx="588960" cy="177840"/>
            </a:xfrm>
            <a:custGeom>
              <a:avLst/>
              <a:gdLst/>
              <a:ahLst/>
              <a:rect l="l" t="t" r="r" b="b"/>
              <a:pathLst>
                <a:path w="480" h="182">
                  <a:moveTo>
                    <a:pt x="42" y="0"/>
                  </a:moveTo>
                  <a:cubicBezTo>
                    <a:pt x="4" y="38"/>
                    <a:pt x="0" y="97"/>
                    <a:pt x="55" y="124"/>
                  </a:cubicBezTo>
                  <a:cubicBezTo>
                    <a:pt x="122" y="158"/>
                    <a:pt x="231" y="176"/>
                    <a:pt x="302" y="179"/>
                  </a:cubicBezTo>
                  <a:cubicBezTo>
                    <a:pt x="361" y="182"/>
                    <a:pt x="421" y="179"/>
                    <a:pt x="480" y="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82840" y="2595600"/>
              <a:ext cx="203040" cy="1584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cubicBezTo>
                    <a:pt x="13" y="4"/>
                    <a:pt x="25" y="0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7000" y="259560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8"/>
                    <a:pt x="0" y="13"/>
                    <a:pt x="9" y="16"/>
                  </a:cubicBezTo>
                  <a:cubicBezTo>
                    <a:pt x="17" y="13"/>
                    <a:pt x="15" y="10"/>
                    <a:pt x="21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seid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2193480"/>
            <a:ext cx="1142640" cy="1057680"/>
            <a:chOff x="1371600" y="2193480"/>
            <a:chExt cx="1142640" cy="1057680"/>
          </a:xfrm>
        </p:grpSpPr>
        <p:grpSp>
          <p:nvGrpSpPr>
            <p:cNvPr id="381" name=""/>
            <p:cNvGrpSpPr/>
            <p:nvPr/>
          </p:nvGrpSpPr>
          <p:grpSpPr>
            <a:xfrm>
              <a:off x="1371600" y="2392920"/>
              <a:ext cx="650520" cy="858240"/>
              <a:chOff x="1371600" y="2392920"/>
              <a:chExt cx="650520" cy="858240"/>
            </a:xfrm>
          </p:grpSpPr>
          <p:sp>
            <p:nvSpPr>
              <p:cNvPr id="382" name=""/>
              <p:cNvSpPr/>
              <p:nvPr/>
            </p:nvSpPr>
            <p:spPr>
              <a:xfrm rot="3711600">
                <a:off x="1702440" y="2467800"/>
                <a:ext cx="302400" cy="22032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1600" y="2480400"/>
                <a:ext cx="176760" cy="4010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53760" y="244800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59960" y="2734560"/>
                <a:ext cx="240840" cy="459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1800" y="2759760"/>
                <a:ext cx="202680" cy="4914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2000160" y="2527920"/>
              <a:ext cx="514080" cy="599040"/>
              <a:chOff x="2000160" y="2527920"/>
              <a:chExt cx="514080" cy="5990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000160" y="2527920"/>
                <a:ext cx="514080" cy="599040"/>
                <a:chOff x="2000160" y="2527920"/>
                <a:chExt cx="514080" cy="599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396880" y="2821680"/>
                  <a:ext cx="35640" cy="32760"/>
                </a:xfrm>
                <a:custGeom>
                  <a:avLst/>
                  <a:gdLst/>
                  <a:ahLst/>
                  <a:rect l="l" t="t" r="r" b="b"/>
                  <a:pathLst>
                    <a:path w="139" h="89">
                      <a:moveTo>
                        <a:pt x="139" y="16"/>
                      </a:moveTo>
                      <a:lnTo>
                        <a:pt x="0" y="89"/>
                      </a:lnTo>
                      <a:lnTo>
                        <a:pt x="12" y="0"/>
                      </a:lnTo>
                      <a:lnTo>
                        <a:pt x="139" y="16"/>
                      </a:lnTo>
                      <a:close/>
                    </a:path>
                  </a:pathLst>
                </a:custGeom>
                <a:solidFill>
                  <a:srgbClr val="75b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000160" y="2875680"/>
                  <a:ext cx="1116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280">
                      <a:moveTo>
                        <a:pt x="426" y="90"/>
                      </a:moveTo>
                      <a:lnTo>
                        <a:pt x="428" y="89"/>
                      </a:lnTo>
                      <a:lnTo>
                        <a:pt x="429" y="86"/>
                      </a:lnTo>
                      <a:lnTo>
                        <a:pt x="431" y="80"/>
                      </a:lnTo>
                      <a:lnTo>
                        <a:pt x="432" y="73"/>
                      </a:lnTo>
                      <a:lnTo>
                        <a:pt x="434" y="64"/>
                      </a:lnTo>
                      <a:lnTo>
                        <a:pt x="434" y="55"/>
                      </a:lnTo>
                      <a:lnTo>
                        <a:pt x="432" y="45"/>
                      </a:lnTo>
                      <a:lnTo>
                        <a:pt x="429" y="36"/>
                      </a:lnTo>
                      <a:lnTo>
                        <a:pt x="422" y="27"/>
                      </a:lnTo>
                      <a:lnTo>
                        <a:pt x="411" y="18"/>
                      </a:lnTo>
                      <a:lnTo>
                        <a:pt x="398" y="11"/>
                      </a:lnTo>
                      <a:lnTo>
                        <a:pt x="379" y="5"/>
                      </a:lnTo>
                      <a:lnTo>
                        <a:pt x="355" y="2"/>
                      </a:lnTo>
                      <a:lnTo>
                        <a:pt x="326" y="0"/>
                      </a:lnTo>
                      <a:lnTo>
                        <a:pt x="290" y="2"/>
                      </a:lnTo>
                      <a:lnTo>
                        <a:pt x="249" y="6"/>
                      </a:lnTo>
                      <a:lnTo>
                        <a:pt x="244" y="8"/>
                      </a:lnTo>
                      <a:lnTo>
                        <a:pt x="232" y="13"/>
                      </a:lnTo>
                      <a:lnTo>
                        <a:pt x="212" y="22"/>
                      </a:lnTo>
                      <a:lnTo>
                        <a:pt x="188" y="34"/>
                      </a:lnTo>
                      <a:lnTo>
                        <a:pt x="160" y="48"/>
                      </a:lnTo>
                      <a:lnTo>
                        <a:pt x="130" y="64"/>
                      </a:lnTo>
                      <a:lnTo>
                        <a:pt x="100" y="82"/>
                      </a:lnTo>
                      <a:lnTo>
                        <a:pt x="71" y="102"/>
                      </a:lnTo>
                      <a:lnTo>
                        <a:pt x="46" y="123"/>
                      </a:lnTo>
                      <a:lnTo>
                        <a:pt x="24" y="144"/>
                      </a:lnTo>
                      <a:lnTo>
                        <a:pt x="9" y="166"/>
                      </a:lnTo>
                      <a:lnTo>
                        <a:pt x="0" y="189"/>
                      </a:lnTo>
                      <a:lnTo>
                        <a:pt x="1" y="212"/>
                      </a:lnTo>
                      <a:lnTo>
                        <a:pt x="13" y="234"/>
                      </a:lnTo>
                      <a:lnTo>
                        <a:pt x="37" y="255"/>
                      </a:lnTo>
                      <a:lnTo>
                        <a:pt x="74" y="276"/>
                      </a:lnTo>
                      <a:lnTo>
                        <a:pt x="77" y="276"/>
                      </a:lnTo>
                      <a:lnTo>
                        <a:pt x="86" y="278"/>
                      </a:lnTo>
                      <a:lnTo>
                        <a:pt x="100" y="279"/>
                      </a:lnTo>
                      <a:lnTo>
                        <a:pt x="119" y="280"/>
                      </a:lnTo>
                      <a:lnTo>
                        <a:pt x="141" y="280"/>
                      </a:lnTo>
                      <a:lnTo>
                        <a:pt x="166" y="280"/>
                      </a:lnTo>
                      <a:lnTo>
                        <a:pt x="194" y="277"/>
                      </a:lnTo>
                      <a:lnTo>
                        <a:pt x="222" y="272"/>
                      </a:lnTo>
                      <a:lnTo>
                        <a:pt x="252" y="264"/>
                      </a:lnTo>
                      <a:lnTo>
                        <a:pt x="282" y="254"/>
                      </a:lnTo>
                      <a:lnTo>
                        <a:pt x="312" y="239"/>
                      </a:lnTo>
                      <a:lnTo>
                        <a:pt x="340" y="219"/>
                      </a:lnTo>
                      <a:lnTo>
                        <a:pt x="366" y="196"/>
                      </a:lnTo>
                      <a:lnTo>
                        <a:pt x="390" y="166"/>
                      </a:lnTo>
                      <a:lnTo>
                        <a:pt x="410" y="132"/>
                      </a:lnTo>
                      <a:lnTo>
                        <a:pt x="4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19960" y="2898000"/>
                  <a:ext cx="71280" cy="67680"/>
                </a:xfrm>
                <a:custGeom>
                  <a:avLst/>
                  <a:gdLst/>
                  <a:ahLst/>
                  <a:rect l="l" t="t" r="r" b="b"/>
                  <a:pathLst>
                    <a:path w="278" h="180">
                      <a:moveTo>
                        <a:pt x="274" y="58"/>
                      </a:moveTo>
                      <a:lnTo>
                        <a:pt x="275" y="54"/>
                      </a:lnTo>
                      <a:lnTo>
                        <a:pt x="278" y="46"/>
                      </a:lnTo>
                      <a:lnTo>
                        <a:pt x="278" y="34"/>
                      </a:lnTo>
                      <a:lnTo>
                        <a:pt x="275" y="23"/>
                      </a:lnTo>
                      <a:lnTo>
                        <a:pt x="264" y="11"/>
                      </a:lnTo>
                      <a:lnTo>
                        <a:pt x="242" y="3"/>
                      </a:lnTo>
                      <a:lnTo>
                        <a:pt x="209" y="0"/>
                      </a:lnTo>
                      <a:lnTo>
                        <a:pt x="159" y="3"/>
                      </a:lnTo>
                      <a:lnTo>
                        <a:pt x="156" y="5"/>
                      </a:lnTo>
                      <a:lnTo>
                        <a:pt x="148" y="8"/>
                      </a:lnTo>
                      <a:lnTo>
                        <a:pt x="136" y="14"/>
                      </a:lnTo>
                      <a:lnTo>
                        <a:pt x="120" y="21"/>
                      </a:lnTo>
                      <a:lnTo>
                        <a:pt x="103" y="30"/>
                      </a:lnTo>
                      <a:lnTo>
                        <a:pt x="83" y="40"/>
                      </a:lnTo>
                      <a:lnTo>
                        <a:pt x="65" y="52"/>
                      </a:lnTo>
                      <a:lnTo>
                        <a:pt x="47" y="64"/>
                      </a:lnTo>
                      <a:lnTo>
                        <a:pt x="29" y="78"/>
                      </a:lnTo>
                      <a:lnTo>
                        <a:pt x="15" y="92"/>
                      </a:lnTo>
                      <a:lnTo>
                        <a:pt x="6" y="107"/>
                      </a:lnTo>
                      <a:lnTo>
                        <a:pt x="0" y="121"/>
                      </a:lnTo>
                      <a:lnTo>
                        <a:pt x="2" y="136"/>
                      </a:lnTo>
                      <a:lnTo>
                        <a:pt x="8" y="150"/>
                      </a:lnTo>
                      <a:lnTo>
                        <a:pt x="23" y="164"/>
                      </a:lnTo>
                      <a:lnTo>
                        <a:pt x="48" y="176"/>
                      </a:lnTo>
                      <a:lnTo>
                        <a:pt x="50" y="176"/>
                      </a:lnTo>
                      <a:lnTo>
                        <a:pt x="56" y="177"/>
                      </a:lnTo>
                      <a:lnTo>
                        <a:pt x="65" y="178"/>
                      </a:lnTo>
                      <a:lnTo>
                        <a:pt x="76" y="180"/>
                      </a:lnTo>
                      <a:lnTo>
                        <a:pt x="90" y="180"/>
                      </a:lnTo>
                      <a:lnTo>
                        <a:pt x="106" y="178"/>
                      </a:lnTo>
                      <a:lnTo>
                        <a:pt x="124" y="177"/>
                      </a:lnTo>
                      <a:lnTo>
                        <a:pt x="143" y="174"/>
                      </a:lnTo>
                      <a:lnTo>
                        <a:pt x="162" y="169"/>
                      </a:lnTo>
                      <a:lnTo>
                        <a:pt x="181" y="162"/>
                      </a:lnTo>
                      <a:lnTo>
                        <a:pt x="200" y="153"/>
                      </a:lnTo>
                      <a:lnTo>
                        <a:pt x="218" y="140"/>
                      </a:lnTo>
                      <a:lnTo>
                        <a:pt x="236" y="125"/>
                      </a:lnTo>
                      <a:lnTo>
                        <a:pt x="250" y="107"/>
                      </a:lnTo>
                      <a:lnTo>
                        <a:pt x="263" y="84"/>
                      </a:lnTo>
                      <a:lnTo>
                        <a:pt x="274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013120" y="2719440"/>
                  <a:ext cx="152280" cy="140040"/>
                </a:xfrm>
                <a:custGeom>
                  <a:avLst/>
                  <a:gdLst/>
                  <a:ahLst/>
                  <a:rect l="l" t="t" r="r" b="b"/>
                  <a:pathLst>
                    <a:path w="594" h="371">
                      <a:moveTo>
                        <a:pt x="594" y="223"/>
                      </a:moveTo>
                      <a:lnTo>
                        <a:pt x="528" y="371"/>
                      </a:lnTo>
                      <a:lnTo>
                        <a:pt x="209" y="284"/>
                      </a:lnTo>
                      <a:lnTo>
                        <a:pt x="207" y="286"/>
                      </a:lnTo>
                      <a:lnTo>
                        <a:pt x="201" y="289"/>
                      </a:lnTo>
                      <a:lnTo>
                        <a:pt x="193" y="292"/>
                      </a:lnTo>
                      <a:lnTo>
                        <a:pt x="180" y="297"/>
                      </a:lnTo>
                      <a:lnTo>
                        <a:pt x="166" y="303"/>
                      </a:lnTo>
                      <a:lnTo>
                        <a:pt x="151" y="306"/>
                      </a:lnTo>
                      <a:lnTo>
                        <a:pt x="134" y="309"/>
                      </a:lnTo>
                      <a:lnTo>
                        <a:pt x="116" y="309"/>
                      </a:lnTo>
                      <a:lnTo>
                        <a:pt x="97" y="306"/>
                      </a:lnTo>
                      <a:lnTo>
                        <a:pt x="80" y="300"/>
                      </a:lnTo>
                      <a:lnTo>
                        <a:pt x="63" y="291"/>
                      </a:lnTo>
                      <a:lnTo>
                        <a:pt x="45" y="276"/>
                      </a:lnTo>
                      <a:lnTo>
                        <a:pt x="30" y="257"/>
                      </a:lnTo>
                      <a:lnTo>
                        <a:pt x="18" y="230"/>
                      </a:lnTo>
                      <a:lnTo>
                        <a:pt x="7" y="198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3" y="131"/>
                      </a:lnTo>
                      <a:lnTo>
                        <a:pt x="7" y="104"/>
                      </a:lnTo>
                      <a:lnTo>
                        <a:pt x="15" y="74"/>
                      </a:lnTo>
                      <a:lnTo>
                        <a:pt x="26" y="44"/>
                      </a:lnTo>
                      <a:lnTo>
                        <a:pt x="42" y="18"/>
                      </a:lnTo>
                      <a:lnTo>
                        <a:pt x="63" y="2"/>
                      </a:lnTo>
                      <a:lnTo>
                        <a:pt x="89" y="0"/>
                      </a:lnTo>
                      <a:lnTo>
                        <a:pt x="98" y="2"/>
                      </a:lnTo>
                      <a:lnTo>
                        <a:pt x="107" y="6"/>
                      </a:lnTo>
                      <a:lnTo>
                        <a:pt x="118" y="11"/>
                      </a:lnTo>
                      <a:lnTo>
                        <a:pt x="128" y="18"/>
                      </a:lnTo>
                      <a:lnTo>
                        <a:pt x="140" y="26"/>
                      </a:lnTo>
                      <a:lnTo>
                        <a:pt x="151" y="38"/>
                      </a:lnTo>
                      <a:lnTo>
                        <a:pt x="164" y="51"/>
                      </a:lnTo>
                      <a:lnTo>
                        <a:pt x="177" y="65"/>
                      </a:lnTo>
                      <a:lnTo>
                        <a:pt x="179" y="65"/>
                      </a:lnTo>
                      <a:lnTo>
                        <a:pt x="186" y="67"/>
                      </a:lnTo>
                      <a:lnTo>
                        <a:pt x="196" y="67"/>
                      </a:lnTo>
                      <a:lnTo>
                        <a:pt x="209" y="69"/>
                      </a:lnTo>
                      <a:lnTo>
                        <a:pt x="224" y="71"/>
                      </a:lnTo>
                      <a:lnTo>
                        <a:pt x="240" y="74"/>
                      </a:lnTo>
                      <a:lnTo>
                        <a:pt x="257" y="78"/>
                      </a:lnTo>
                      <a:lnTo>
                        <a:pt x="273" y="83"/>
                      </a:lnTo>
                      <a:lnTo>
                        <a:pt x="290" y="90"/>
                      </a:lnTo>
                      <a:lnTo>
                        <a:pt x="303" y="98"/>
                      </a:lnTo>
                      <a:lnTo>
                        <a:pt x="314" y="107"/>
                      </a:lnTo>
                      <a:lnTo>
                        <a:pt x="322" y="117"/>
                      </a:lnTo>
                      <a:lnTo>
                        <a:pt x="326" y="130"/>
                      </a:lnTo>
                      <a:lnTo>
                        <a:pt x="325" y="145"/>
                      </a:lnTo>
                      <a:lnTo>
                        <a:pt x="318" y="161"/>
                      </a:lnTo>
                      <a:lnTo>
                        <a:pt x="306" y="180"/>
                      </a:lnTo>
                      <a:lnTo>
                        <a:pt x="59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135880" y="2630160"/>
                  <a:ext cx="227160" cy="240840"/>
                </a:xfrm>
                <a:custGeom>
                  <a:avLst/>
                  <a:gdLst/>
                  <a:ahLst/>
                  <a:rect l="l" t="t" r="r" b="b"/>
                  <a:pathLst>
                    <a:path w="883" h="641">
                      <a:moveTo>
                        <a:pt x="137" y="435"/>
                      </a:moveTo>
                      <a:lnTo>
                        <a:pt x="91" y="371"/>
                      </a:lnTo>
                      <a:lnTo>
                        <a:pt x="54" y="315"/>
                      </a:lnTo>
                      <a:lnTo>
                        <a:pt x="28" y="265"/>
                      </a:lnTo>
                      <a:lnTo>
                        <a:pt x="9" y="222"/>
                      </a:lnTo>
                      <a:lnTo>
                        <a:pt x="0" y="182"/>
                      </a:lnTo>
                      <a:lnTo>
                        <a:pt x="0" y="150"/>
                      </a:lnTo>
                      <a:lnTo>
                        <a:pt x="8" y="121"/>
                      </a:lnTo>
                      <a:lnTo>
                        <a:pt x="24" y="97"/>
                      </a:lnTo>
                      <a:lnTo>
                        <a:pt x="47" y="76"/>
                      </a:lnTo>
                      <a:lnTo>
                        <a:pt x="78" y="59"/>
                      </a:lnTo>
                      <a:lnTo>
                        <a:pt x="115" y="45"/>
                      </a:lnTo>
                      <a:lnTo>
                        <a:pt x="160" y="33"/>
                      </a:lnTo>
                      <a:lnTo>
                        <a:pt x="211" y="23"/>
                      </a:lnTo>
                      <a:lnTo>
                        <a:pt x="267" y="14"/>
                      </a:lnTo>
                      <a:lnTo>
                        <a:pt x="329" y="7"/>
                      </a:lnTo>
                      <a:lnTo>
                        <a:pt x="397" y="0"/>
                      </a:lnTo>
                      <a:lnTo>
                        <a:pt x="399" y="2"/>
                      </a:lnTo>
                      <a:lnTo>
                        <a:pt x="406" y="4"/>
                      </a:lnTo>
                      <a:lnTo>
                        <a:pt x="416" y="7"/>
                      </a:lnTo>
                      <a:lnTo>
                        <a:pt x="431" y="13"/>
                      </a:lnTo>
                      <a:lnTo>
                        <a:pt x="450" y="21"/>
                      </a:lnTo>
                      <a:lnTo>
                        <a:pt x="470" y="29"/>
                      </a:lnTo>
                      <a:lnTo>
                        <a:pt x="493" y="40"/>
                      </a:lnTo>
                      <a:lnTo>
                        <a:pt x="519" y="51"/>
                      </a:lnTo>
                      <a:lnTo>
                        <a:pt x="545" y="64"/>
                      </a:lnTo>
                      <a:lnTo>
                        <a:pt x="574" y="78"/>
                      </a:lnTo>
                      <a:lnTo>
                        <a:pt x="603" y="94"/>
                      </a:lnTo>
                      <a:lnTo>
                        <a:pt x="633" y="110"/>
                      </a:lnTo>
                      <a:lnTo>
                        <a:pt x="662" y="127"/>
                      </a:lnTo>
                      <a:lnTo>
                        <a:pt x="692" y="147"/>
                      </a:lnTo>
                      <a:lnTo>
                        <a:pt x="720" y="166"/>
                      </a:lnTo>
                      <a:lnTo>
                        <a:pt x="748" y="188"/>
                      </a:lnTo>
                      <a:lnTo>
                        <a:pt x="775" y="210"/>
                      </a:lnTo>
                      <a:lnTo>
                        <a:pt x="799" y="233"/>
                      </a:lnTo>
                      <a:lnTo>
                        <a:pt x="821" y="257"/>
                      </a:lnTo>
                      <a:lnTo>
                        <a:pt x="840" y="283"/>
                      </a:lnTo>
                      <a:lnTo>
                        <a:pt x="856" y="309"/>
                      </a:lnTo>
                      <a:lnTo>
                        <a:pt x="869" y="336"/>
                      </a:lnTo>
                      <a:lnTo>
                        <a:pt x="878" y="363"/>
                      </a:lnTo>
                      <a:lnTo>
                        <a:pt x="883" y="392"/>
                      </a:lnTo>
                      <a:lnTo>
                        <a:pt x="883" y="421"/>
                      </a:lnTo>
                      <a:lnTo>
                        <a:pt x="878" y="451"/>
                      </a:lnTo>
                      <a:lnTo>
                        <a:pt x="867" y="481"/>
                      </a:lnTo>
                      <a:lnTo>
                        <a:pt x="851" y="512"/>
                      </a:lnTo>
                      <a:lnTo>
                        <a:pt x="829" y="543"/>
                      </a:lnTo>
                      <a:lnTo>
                        <a:pt x="799" y="575"/>
                      </a:lnTo>
                      <a:lnTo>
                        <a:pt x="763" y="608"/>
                      </a:lnTo>
                      <a:lnTo>
                        <a:pt x="719" y="641"/>
                      </a:lnTo>
                      <a:lnTo>
                        <a:pt x="715" y="641"/>
                      </a:lnTo>
                      <a:lnTo>
                        <a:pt x="703" y="639"/>
                      </a:lnTo>
                      <a:lnTo>
                        <a:pt x="685" y="635"/>
                      </a:lnTo>
                      <a:lnTo>
                        <a:pt x="660" y="632"/>
                      </a:lnTo>
                      <a:lnTo>
                        <a:pt x="629" y="626"/>
                      </a:lnTo>
                      <a:lnTo>
                        <a:pt x="595" y="618"/>
                      </a:lnTo>
                      <a:lnTo>
                        <a:pt x="556" y="609"/>
                      </a:lnTo>
                      <a:lnTo>
                        <a:pt x="513" y="598"/>
                      </a:lnTo>
                      <a:lnTo>
                        <a:pt x="468" y="586"/>
                      </a:lnTo>
                      <a:lnTo>
                        <a:pt x="421" y="571"/>
                      </a:lnTo>
                      <a:lnTo>
                        <a:pt x="372" y="555"/>
                      </a:lnTo>
                      <a:lnTo>
                        <a:pt x="324" y="535"/>
                      </a:lnTo>
                      <a:lnTo>
                        <a:pt x="274" y="514"/>
                      </a:lnTo>
                      <a:lnTo>
                        <a:pt x="227" y="490"/>
                      </a:lnTo>
                      <a:lnTo>
                        <a:pt x="181" y="464"/>
                      </a:lnTo>
                      <a:lnTo>
                        <a:pt x="137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234520" y="2728440"/>
                  <a:ext cx="44280" cy="70560"/>
                </a:xfrm>
                <a:custGeom>
                  <a:avLst/>
                  <a:gdLst/>
                  <a:ahLst/>
                  <a:rect l="l" t="t" r="r" b="b"/>
                  <a:pathLst>
                    <a:path w="170" h="189">
                      <a:moveTo>
                        <a:pt x="139" y="0"/>
                      </a:moveTo>
                      <a:lnTo>
                        <a:pt x="141" y="7"/>
                      </a:lnTo>
                      <a:lnTo>
                        <a:pt x="148" y="26"/>
                      </a:lnTo>
                      <a:lnTo>
                        <a:pt x="158" y="53"/>
                      </a:lnTo>
                      <a:lnTo>
                        <a:pt x="166" y="85"/>
                      </a:lnTo>
                      <a:lnTo>
                        <a:pt x="170" y="119"/>
                      </a:lnTo>
                      <a:lnTo>
                        <a:pt x="170" y="150"/>
                      </a:lnTo>
                      <a:lnTo>
                        <a:pt x="163" y="174"/>
                      </a:lnTo>
                      <a:lnTo>
                        <a:pt x="146" y="189"/>
                      </a:lnTo>
                      <a:lnTo>
                        <a:pt x="0" y="146"/>
                      </a:lnTo>
                      <a:lnTo>
                        <a:pt x="128" y="12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80240" y="274320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40"/>
                      </a:moveTo>
                      <a:lnTo>
                        <a:pt x="3" y="55"/>
                      </a:lnTo>
                      <a:lnTo>
                        <a:pt x="10" y="68"/>
                      </a:lnTo>
                      <a:lnTo>
                        <a:pt x="19" y="76"/>
                      </a:lnTo>
                      <a:lnTo>
                        <a:pt x="32" y="80"/>
                      </a:lnTo>
                      <a:lnTo>
                        <a:pt x="43" y="76"/>
                      </a:lnTo>
                      <a:lnTo>
                        <a:pt x="52" y="68"/>
                      </a:lnTo>
                      <a:lnTo>
                        <a:pt x="59" y="55"/>
                      </a:lnTo>
                      <a:lnTo>
                        <a:pt x="62" y="40"/>
                      </a:lnTo>
                      <a:lnTo>
                        <a:pt x="59" y="25"/>
                      </a:lnTo>
                      <a:lnTo>
                        <a:pt x="52" y="12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19" y="4"/>
                      </a:lnTo>
                      <a:lnTo>
                        <a:pt x="10" y="12"/>
                      </a:lnTo>
                      <a:lnTo>
                        <a:pt x="3" y="25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122560" y="2527920"/>
                  <a:ext cx="284400" cy="351360"/>
                </a:xfrm>
                <a:custGeom>
                  <a:avLst/>
                  <a:gdLst/>
                  <a:ahLst/>
                  <a:rect l="l" t="t" r="r" b="b"/>
                  <a:pathLst>
                    <a:path w="1103" h="932">
                      <a:moveTo>
                        <a:pt x="11" y="365"/>
                      </a:moveTo>
                      <a:lnTo>
                        <a:pt x="15" y="356"/>
                      </a:lnTo>
                      <a:lnTo>
                        <a:pt x="20" y="347"/>
                      </a:lnTo>
                      <a:lnTo>
                        <a:pt x="24" y="339"/>
                      </a:lnTo>
                      <a:lnTo>
                        <a:pt x="30" y="331"/>
                      </a:lnTo>
                      <a:lnTo>
                        <a:pt x="36" y="323"/>
                      </a:lnTo>
                      <a:lnTo>
                        <a:pt x="41" y="315"/>
                      </a:lnTo>
                      <a:lnTo>
                        <a:pt x="48" y="308"/>
                      </a:lnTo>
                      <a:lnTo>
                        <a:pt x="55" y="301"/>
                      </a:lnTo>
                      <a:lnTo>
                        <a:pt x="62" y="295"/>
                      </a:lnTo>
                      <a:lnTo>
                        <a:pt x="70" y="288"/>
                      </a:lnTo>
                      <a:lnTo>
                        <a:pt x="79" y="282"/>
                      </a:lnTo>
                      <a:lnTo>
                        <a:pt x="88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90" y="276"/>
                      </a:lnTo>
                      <a:lnTo>
                        <a:pt x="132" y="234"/>
                      </a:lnTo>
                      <a:lnTo>
                        <a:pt x="83" y="83"/>
                      </a:lnTo>
                      <a:lnTo>
                        <a:pt x="200" y="0"/>
                      </a:lnTo>
                      <a:lnTo>
                        <a:pt x="245" y="96"/>
                      </a:lnTo>
                      <a:lnTo>
                        <a:pt x="177" y="132"/>
                      </a:lnTo>
                      <a:lnTo>
                        <a:pt x="210" y="214"/>
                      </a:lnTo>
                      <a:lnTo>
                        <a:pt x="225" y="209"/>
                      </a:lnTo>
                      <a:lnTo>
                        <a:pt x="243" y="203"/>
                      </a:lnTo>
                      <a:lnTo>
                        <a:pt x="265" y="199"/>
                      </a:lnTo>
                      <a:lnTo>
                        <a:pt x="287" y="197"/>
                      </a:lnTo>
                      <a:lnTo>
                        <a:pt x="307" y="195"/>
                      </a:lnTo>
                      <a:lnTo>
                        <a:pt x="324" y="195"/>
                      </a:lnTo>
                      <a:lnTo>
                        <a:pt x="335" y="194"/>
                      </a:lnTo>
                      <a:lnTo>
                        <a:pt x="340" y="194"/>
                      </a:lnTo>
                      <a:lnTo>
                        <a:pt x="332" y="38"/>
                      </a:lnTo>
                      <a:lnTo>
                        <a:pt x="460" y="22"/>
                      </a:lnTo>
                      <a:lnTo>
                        <a:pt x="467" y="118"/>
                      </a:lnTo>
                      <a:lnTo>
                        <a:pt x="396" y="112"/>
                      </a:lnTo>
                      <a:lnTo>
                        <a:pt x="407" y="204"/>
                      </a:lnTo>
                      <a:lnTo>
                        <a:pt x="418" y="198"/>
                      </a:lnTo>
                      <a:lnTo>
                        <a:pt x="438" y="197"/>
                      </a:lnTo>
                      <a:lnTo>
                        <a:pt x="462" y="198"/>
                      </a:lnTo>
                      <a:lnTo>
                        <a:pt x="487" y="202"/>
                      </a:lnTo>
                      <a:lnTo>
                        <a:pt x="513" y="208"/>
                      </a:lnTo>
                      <a:lnTo>
                        <a:pt x="534" y="212"/>
                      </a:lnTo>
                      <a:lnTo>
                        <a:pt x="549" y="216"/>
                      </a:lnTo>
                      <a:lnTo>
                        <a:pt x="554" y="217"/>
                      </a:lnTo>
                      <a:lnTo>
                        <a:pt x="574" y="98"/>
                      </a:lnTo>
                      <a:lnTo>
                        <a:pt x="727" y="140"/>
                      </a:lnTo>
                      <a:lnTo>
                        <a:pt x="702" y="220"/>
                      </a:lnTo>
                      <a:lnTo>
                        <a:pt x="630" y="189"/>
                      </a:lnTo>
                      <a:lnTo>
                        <a:pt x="613" y="252"/>
                      </a:lnTo>
                      <a:lnTo>
                        <a:pt x="630" y="256"/>
                      </a:lnTo>
                      <a:lnTo>
                        <a:pt x="652" y="266"/>
                      </a:lnTo>
                      <a:lnTo>
                        <a:pt x="676" y="281"/>
                      </a:lnTo>
                      <a:lnTo>
                        <a:pt x="701" y="299"/>
                      </a:lnTo>
                      <a:lnTo>
                        <a:pt x="724" y="315"/>
                      </a:lnTo>
                      <a:lnTo>
                        <a:pt x="742" y="330"/>
                      </a:lnTo>
                      <a:lnTo>
                        <a:pt x="755" y="341"/>
                      </a:lnTo>
                      <a:lnTo>
                        <a:pt x="759" y="345"/>
                      </a:lnTo>
                      <a:lnTo>
                        <a:pt x="841" y="250"/>
                      </a:lnTo>
                      <a:lnTo>
                        <a:pt x="952" y="323"/>
                      </a:lnTo>
                      <a:lnTo>
                        <a:pt x="912" y="395"/>
                      </a:lnTo>
                      <a:lnTo>
                        <a:pt x="845" y="342"/>
                      </a:lnTo>
                      <a:lnTo>
                        <a:pt x="815" y="402"/>
                      </a:lnTo>
                      <a:lnTo>
                        <a:pt x="834" y="415"/>
                      </a:lnTo>
                      <a:lnTo>
                        <a:pt x="855" y="433"/>
                      </a:lnTo>
                      <a:lnTo>
                        <a:pt x="875" y="453"/>
                      </a:lnTo>
                      <a:lnTo>
                        <a:pt x="894" y="474"/>
                      </a:lnTo>
                      <a:lnTo>
                        <a:pt x="910" y="493"/>
                      </a:lnTo>
                      <a:lnTo>
                        <a:pt x="923" y="511"/>
                      </a:lnTo>
                      <a:lnTo>
                        <a:pt x="931" y="521"/>
                      </a:lnTo>
                      <a:lnTo>
                        <a:pt x="935" y="525"/>
                      </a:lnTo>
                      <a:lnTo>
                        <a:pt x="1061" y="508"/>
                      </a:lnTo>
                      <a:lnTo>
                        <a:pt x="1103" y="591"/>
                      </a:lnTo>
                      <a:lnTo>
                        <a:pt x="1034" y="627"/>
                      </a:lnTo>
                      <a:lnTo>
                        <a:pt x="997" y="565"/>
                      </a:lnTo>
                      <a:lnTo>
                        <a:pt x="932" y="591"/>
                      </a:lnTo>
                      <a:lnTo>
                        <a:pt x="943" y="611"/>
                      </a:lnTo>
                      <a:lnTo>
                        <a:pt x="953" y="630"/>
                      </a:lnTo>
                      <a:lnTo>
                        <a:pt x="960" y="650"/>
                      </a:lnTo>
                      <a:lnTo>
                        <a:pt x="967" y="668"/>
                      </a:lnTo>
                      <a:lnTo>
                        <a:pt x="971" y="688"/>
                      </a:lnTo>
                      <a:lnTo>
                        <a:pt x="975" y="706"/>
                      </a:lnTo>
                      <a:lnTo>
                        <a:pt x="976" y="725"/>
                      </a:lnTo>
                      <a:lnTo>
                        <a:pt x="976" y="743"/>
                      </a:lnTo>
                      <a:lnTo>
                        <a:pt x="883" y="743"/>
                      </a:lnTo>
                      <a:lnTo>
                        <a:pt x="886" y="720"/>
                      </a:lnTo>
                      <a:lnTo>
                        <a:pt x="886" y="696"/>
                      </a:lnTo>
                      <a:lnTo>
                        <a:pt x="883" y="672"/>
                      </a:lnTo>
                      <a:lnTo>
                        <a:pt x="876" y="646"/>
                      </a:lnTo>
                      <a:lnTo>
                        <a:pt x="867" y="621"/>
                      </a:lnTo>
                      <a:lnTo>
                        <a:pt x="853" y="596"/>
                      </a:lnTo>
                      <a:lnTo>
                        <a:pt x="837" y="570"/>
                      </a:lnTo>
                      <a:lnTo>
                        <a:pt x="818" y="545"/>
                      </a:lnTo>
                      <a:lnTo>
                        <a:pt x="796" y="520"/>
                      </a:lnTo>
                      <a:lnTo>
                        <a:pt x="772" y="494"/>
                      </a:lnTo>
                      <a:lnTo>
                        <a:pt x="746" y="471"/>
                      </a:lnTo>
                      <a:lnTo>
                        <a:pt x="717" y="448"/>
                      </a:lnTo>
                      <a:lnTo>
                        <a:pt x="686" y="426"/>
                      </a:lnTo>
                      <a:lnTo>
                        <a:pt x="653" y="405"/>
                      </a:lnTo>
                      <a:lnTo>
                        <a:pt x="618" y="386"/>
                      </a:lnTo>
                      <a:lnTo>
                        <a:pt x="581" y="368"/>
                      </a:lnTo>
                      <a:lnTo>
                        <a:pt x="549" y="354"/>
                      </a:lnTo>
                      <a:lnTo>
                        <a:pt x="517" y="342"/>
                      </a:lnTo>
                      <a:lnTo>
                        <a:pt x="486" y="332"/>
                      </a:lnTo>
                      <a:lnTo>
                        <a:pt x="455" y="324"/>
                      </a:lnTo>
                      <a:lnTo>
                        <a:pt x="425" y="317"/>
                      </a:lnTo>
                      <a:lnTo>
                        <a:pt x="395" y="312"/>
                      </a:lnTo>
                      <a:lnTo>
                        <a:pt x="366" y="309"/>
                      </a:lnTo>
                      <a:lnTo>
                        <a:pt x="339" y="307"/>
                      </a:lnTo>
                      <a:lnTo>
                        <a:pt x="312" y="307"/>
                      </a:lnTo>
                      <a:lnTo>
                        <a:pt x="286" y="309"/>
                      </a:lnTo>
                      <a:lnTo>
                        <a:pt x="262" y="312"/>
                      </a:lnTo>
                      <a:lnTo>
                        <a:pt x="239" y="317"/>
                      </a:lnTo>
                      <a:lnTo>
                        <a:pt x="217" y="324"/>
                      </a:lnTo>
                      <a:lnTo>
                        <a:pt x="197" y="332"/>
                      </a:lnTo>
                      <a:lnTo>
                        <a:pt x="179" y="341"/>
                      </a:lnTo>
                      <a:lnTo>
                        <a:pt x="161" y="353"/>
                      </a:lnTo>
                      <a:lnTo>
                        <a:pt x="153" y="358"/>
                      </a:lnTo>
                      <a:lnTo>
                        <a:pt x="145" y="365"/>
                      </a:lnTo>
                      <a:lnTo>
                        <a:pt x="138" y="372"/>
                      </a:lnTo>
                      <a:lnTo>
                        <a:pt x="132" y="380"/>
                      </a:lnTo>
                      <a:lnTo>
                        <a:pt x="128" y="388"/>
                      </a:lnTo>
                      <a:lnTo>
                        <a:pt x="122" y="396"/>
                      </a:lnTo>
                      <a:lnTo>
                        <a:pt x="119" y="405"/>
                      </a:lnTo>
                      <a:lnTo>
                        <a:pt x="115" y="413"/>
                      </a:lnTo>
                      <a:lnTo>
                        <a:pt x="108" y="436"/>
                      </a:lnTo>
                      <a:lnTo>
                        <a:pt x="106" y="460"/>
                      </a:lnTo>
                      <a:lnTo>
                        <a:pt x="107" y="485"/>
                      </a:lnTo>
                      <a:lnTo>
                        <a:pt x="112" y="512"/>
                      </a:lnTo>
                      <a:lnTo>
                        <a:pt x="121" y="538"/>
                      </a:lnTo>
                      <a:lnTo>
                        <a:pt x="132" y="565"/>
                      </a:lnTo>
                      <a:lnTo>
                        <a:pt x="147" y="591"/>
                      </a:lnTo>
                      <a:lnTo>
                        <a:pt x="166" y="619"/>
                      </a:lnTo>
                      <a:lnTo>
                        <a:pt x="188" y="645"/>
                      </a:lnTo>
                      <a:lnTo>
                        <a:pt x="212" y="671"/>
                      </a:lnTo>
                      <a:lnTo>
                        <a:pt x="240" y="696"/>
                      </a:lnTo>
                      <a:lnTo>
                        <a:pt x="268" y="720"/>
                      </a:lnTo>
                      <a:lnTo>
                        <a:pt x="301" y="744"/>
                      </a:lnTo>
                      <a:lnTo>
                        <a:pt x="335" y="766"/>
                      </a:lnTo>
                      <a:lnTo>
                        <a:pt x="372" y="787"/>
                      </a:lnTo>
                      <a:lnTo>
                        <a:pt x="410" y="805"/>
                      </a:lnTo>
                      <a:lnTo>
                        <a:pt x="447" y="820"/>
                      </a:lnTo>
                      <a:lnTo>
                        <a:pt x="484" y="834"/>
                      </a:lnTo>
                      <a:lnTo>
                        <a:pt x="520" y="845"/>
                      </a:lnTo>
                      <a:lnTo>
                        <a:pt x="555" y="854"/>
                      </a:lnTo>
                      <a:lnTo>
                        <a:pt x="590" y="860"/>
                      </a:lnTo>
                      <a:lnTo>
                        <a:pt x="625" y="864"/>
                      </a:lnTo>
                      <a:lnTo>
                        <a:pt x="657" y="865"/>
                      </a:lnTo>
                      <a:lnTo>
                        <a:pt x="688" y="865"/>
                      </a:lnTo>
                      <a:lnTo>
                        <a:pt x="718" y="862"/>
                      </a:lnTo>
                      <a:lnTo>
                        <a:pt x="746" y="857"/>
                      </a:lnTo>
                      <a:lnTo>
                        <a:pt x="771" y="850"/>
                      </a:lnTo>
                      <a:lnTo>
                        <a:pt x="795" y="841"/>
                      </a:lnTo>
                      <a:lnTo>
                        <a:pt x="817" y="830"/>
                      </a:lnTo>
                      <a:lnTo>
                        <a:pt x="835" y="817"/>
                      </a:lnTo>
                      <a:lnTo>
                        <a:pt x="852" y="801"/>
                      </a:lnTo>
                      <a:lnTo>
                        <a:pt x="865" y="784"/>
                      </a:lnTo>
                      <a:lnTo>
                        <a:pt x="970" y="784"/>
                      </a:lnTo>
                      <a:lnTo>
                        <a:pt x="969" y="787"/>
                      </a:lnTo>
                      <a:lnTo>
                        <a:pt x="968" y="792"/>
                      </a:lnTo>
                      <a:lnTo>
                        <a:pt x="967" y="795"/>
                      </a:lnTo>
                      <a:lnTo>
                        <a:pt x="966" y="800"/>
                      </a:lnTo>
                      <a:lnTo>
                        <a:pt x="952" y="826"/>
                      </a:lnTo>
                      <a:lnTo>
                        <a:pt x="935" y="850"/>
                      </a:lnTo>
                      <a:lnTo>
                        <a:pt x="913" y="871"/>
                      </a:lnTo>
                      <a:lnTo>
                        <a:pt x="886" y="889"/>
                      </a:lnTo>
                      <a:lnTo>
                        <a:pt x="857" y="903"/>
                      </a:lnTo>
                      <a:lnTo>
                        <a:pt x="825" y="915"/>
                      </a:lnTo>
                      <a:lnTo>
                        <a:pt x="789" y="924"/>
                      </a:lnTo>
                      <a:lnTo>
                        <a:pt x="750" y="930"/>
                      </a:lnTo>
                      <a:lnTo>
                        <a:pt x="710" y="932"/>
                      </a:lnTo>
                      <a:lnTo>
                        <a:pt x="667" y="931"/>
                      </a:lnTo>
                      <a:lnTo>
                        <a:pt x="622" y="926"/>
                      </a:lnTo>
                      <a:lnTo>
                        <a:pt x="576" y="919"/>
                      </a:lnTo>
                      <a:lnTo>
                        <a:pt x="528" y="908"/>
                      </a:lnTo>
                      <a:lnTo>
                        <a:pt x="479" y="894"/>
                      </a:lnTo>
                      <a:lnTo>
                        <a:pt x="431" y="877"/>
                      </a:lnTo>
                      <a:lnTo>
                        <a:pt x="381" y="856"/>
                      </a:lnTo>
                      <a:lnTo>
                        <a:pt x="333" y="832"/>
                      </a:lnTo>
                      <a:lnTo>
                        <a:pt x="288" y="807"/>
                      </a:lnTo>
                      <a:lnTo>
                        <a:pt x="244" y="779"/>
                      </a:lnTo>
                      <a:lnTo>
                        <a:pt x="204" y="750"/>
                      </a:lnTo>
                      <a:lnTo>
                        <a:pt x="167" y="719"/>
                      </a:lnTo>
                      <a:lnTo>
                        <a:pt x="134" y="688"/>
                      </a:lnTo>
                      <a:lnTo>
                        <a:pt x="103" y="655"/>
                      </a:lnTo>
                      <a:lnTo>
                        <a:pt x="76" y="622"/>
                      </a:lnTo>
                      <a:lnTo>
                        <a:pt x="53" y="589"/>
                      </a:lnTo>
                      <a:lnTo>
                        <a:pt x="33" y="555"/>
                      </a:lnTo>
                      <a:lnTo>
                        <a:pt x="18" y="522"/>
                      </a:lnTo>
                      <a:lnTo>
                        <a:pt x="8" y="489"/>
                      </a:lnTo>
                      <a:lnTo>
                        <a:pt x="1" y="456"/>
                      </a:lnTo>
                      <a:lnTo>
                        <a:pt x="0" y="425"/>
                      </a:lnTo>
                      <a:lnTo>
                        <a:pt x="3" y="394"/>
                      </a:lnTo>
                      <a:lnTo>
                        <a:pt x="11" y="3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323800" y="2804760"/>
                  <a:ext cx="28440" cy="28080"/>
                </a:xfrm>
                <a:custGeom>
                  <a:avLst/>
                  <a:gdLst/>
                  <a:ahLst/>
                  <a:rect l="l" t="t" r="r" b="b"/>
                  <a:pathLst>
                    <a:path w="111" h="41">
                      <a:moveTo>
                        <a:pt x="13" y="16"/>
                      </a:moveTo>
                      <a:lnTo>
                        <a:pt x="14" y="13"/>
                      </a:lnTo>
                      <a:lnTo>
                        <a:pt x="15" y="8"/>
                      </a:lnTo>
                      <a:lnTo>
                        <a:pt x="17" y="5"/>
                      </a:lnTo>
                      <a:lnTo>
                        <a:pt x="18" y="0"/>
                      </a:lnTo>
                      <a:lnTo>
                        <a:pt x="111" y="0"/>
                      </a:lnTo>
                      <a:lnTo>
                        <a:pt x="111" y="11"/>
                      </a:lnTo>
                      <a:lnTo>
                        <a:pt x="110" y="20"/>
                      </a:lnTo>
                      <a:lnTo>
                        <a:pt x="108" y="30"/>
                      </a:lnTo>
                      <a:lnTo>
                        <a:pt x="105" y="41"/>
                      </a:lnTo>
                      <a:lnTo>
                        <a:pt x="0" y="41"/>
                      </a:lnTo>
                      <a:lnTo>
                        <a:pt x="4" y="35"/>
                      </a:lnTo>
                      <a:lnTo>
                        <a:pt x="7" y="29"/>
                      </a:lnTo>
                      <a:lnTo>
                        <a:pt x="11" y="23"/>
                      </a:lnTo>
                      <a:lnTo>
                        <a:pt x="1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185200" y="2778120"/>
                  <a:ext cx="32400" cy="2880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37"/>
                      </a:moveTo>
                      <a:lnTo>
                        <a:pt x="127" y="45"/>
                      </a:lnTo>
                      <a:lnTo>
                        <a:pt x="123" y="52"/>
                      </a:lnTo>
                      <a:lnTo>
                        <a:pt x="117" y="58"/>
                      </a:lnTo>
                      <a:lnTo>
                        <a:pt x="110" y="63"/>
                      </a:lnTo>
                      <a:lnTo>
                        <a:pt x="99" y="68"/>
                      </a:lnTo>
                      <a:lnTo>
                        <a:pt x="89" y="71"/>
                      </a:lnTo>
                      <a:lnTo>
                        <a:pt x="76" y="74"/>
                      </a:lnTo>
                      <a:lnTo>
                        <a:pt x="64" y="75"/>
                      </a:lnTo>
                      <a:lnTo>
                        <a:pt x="51" y="74"/>
                      </a:lnTo>
                      <a:lnTo>
                        <a:pt x="39" y="71"/>
                      </a:lnTo>
                      <a:lnTo>
                        <a:pt x="28" y="68"/>
                      </a:lnTo>
                      <a:lnTo>
                        <a:pt x="19" y="63"/>
                      </a:lnTo>
                      <a:lnTo>
                        <a:pt x="11" y="58"/>
                      </a:lnTo>
                      <a:lnTo>
                        <a:pt x="5" y="52"/>
                      </a:lnTo>
                      <a:lnTo>
                        <a:pt x="1" y="45"/>
                      </a:lnTo>
                      <a:lnTo>
                        <a:pt x="0" y="37"/>
                      </a:lnTo>
                      <a:lnTo>
                        <a:pt x="1" y="30"/>
                      </a:lnTo>
                      <a:lnTo>
                        <a:pt x="5" y="23"/>
                      </a:lnTo>
                      <a:lnTo>
                        <a:pt x="11" y="16"/>
                      </a:lnTo>
                      <a:lnTo>
                        <a:pt x="19" y="11"/>
                      </a:lnTo>
                      <a:lnTo>
                        <a:pt x="28" y="7"/>
                      </a:lnTo>
                      <a:lnTo>
                        <a:pt x="39" y="3"/>
                      </a:lnTo>
                      <a:lnTo>
                        <a:pt x="51" y="1"/>
                      </a:lnTo>
                      <a:lnTo>
                        <a:pt x="64" y="0"/>
                      </a:lnTo>
                      <a:lnTo>
                        <a:pt x="76" y="1"/>
                      </a:lnTo>
                      <a:lnTo>
                        <a:pt x="89" y="3"/>
                      </a:lnTo>
                      <a:lnTo>
                        <a:pt x="99" y="7"/>
                      </a:lnTo>
                      <a:lnTo>
                        <a:pt x="110" y="11"/>
                      </a:lnTo>
                      <a:lnTo>
                        <a:pt x="117" y="16"/>
                      </a:lnTo>
                      <a:lnTo>
                        <a:pt x="123" y="23"/>
                      </a:lnTo>
                      <a:lnTo>
                        <a:pt x="127" y="30"/>
                      </a:lnTo>
                      <a:lnTo>
                        <a:pt x="1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067480" y="2763000"/>
                  <a:ext cx="201960" cy="236520"/>
                </a:xfrm>
                <a:custGeom>
                  <a:avLst/>
                  <a:gdLst/>
                  <a:ahLst/>
                  <a:rect l="l" t="t" r="r" b="b"/>
                  <a:pathLst>
                    <a:path w="786" h="627">
                      <a:moveTo>
                        <a:pt x="387" y="0"/>
                      </a:moveTo>
                      <a:lnTo>
                        <a:pt x="0" y="506"/>
                      </a:lnTo>
                      <a:lnTo>
                        <a:pt x="672" y="627"/>
                      </a:lnTo>
                      <a:lnTo>
                        <a:pt x="786" y="228"/>
                      </a:lnTo>
                      <a:lnTo>
                        <a:pt x="701" y="228"/>
                      </a:lnTo>
                      <a:lnTo>
                        <a:pt x="623" y="549"/>
                      </a:lnTo>
                      <a:lnTo>
                        <a:pt x="143" y="435"/>
                      </a:lnTo>
                      <a:lnTo>
                        <a:pt x="423" y="77"/>
                      </a:lnTo>
                      <a:lnTo>
                        <a:pt x="3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23920" y="2742120"/>
                  <a:ext cx="124200" cy="101880"/>
                </a:xfrm>
                <a:custGeom>
                  <a:avLst/>
                  <a:gdLst/>
                  <a:ahLst/>
                  <a:rect l="l" t="t" r="r" b="b"/>
                  <a:pathLst>
                    <a:path w="480" h="271">
                      <a:moveTo>
                        <a:pt x="447" y="271"/>
                      </a:moveTo>
                      <a:lnTo>
                        <a:pt x="156" y="171"/>
                      </a:lnTo>
                      <a:lnTo>
                        <a:pt x="153" y="176"/>
                      </a:lnTo>
                      <a:lnTo>
                        <a:pt x="142" y="190"/>
                      </a:lnTo>
                      <a:lnTo>
                        <a:pt x="126" y="208"/>
                      </a:lnTo>
                      <a:lnTo>
                        <a:pt x="106" y="223"/>
                      </a:lnTo>
                      <a:lnTo>
                        <a:pt x="83" y="231"/>
                      </a:lnTo>
                      <a:lnTo>
                        <a:pt x="56" y="225"/>
                      </a:lnTo>
                      <a:lnTo>
                        <a:pt x="28" y="201"/>
                      </a:lnTo>
                      <a:lnTo>
                        <a:pt x="0" y="153"/>
                      </a:lnTo>
                      <a:lnTo>
                        <a:pt x="5" y="75"/>
                      </a:lnTo>
                      <a:lnTo>
                        <a:pt x="6" y="72"/>
                      </a:lnTo>
                      <a:lnTo>
                        <a:pt x="9" y="61"/>
                      </a:lnTo>
                      <a:lnTo>
                        <a:pt x="13" y="47"/>
                      </a:lnTo>
                      <a:lnTo>
                        <a:pt x="19" y="32"/>
                      </a:lnTo>
                      <a:lnTo>
                        <a:pt x="27" y="19"/>
                      </a:lnTo>
                      <a:lnTo>
                        <a:pt x="35" y="7"/>
                      </a:lnTo>
                      <a:lnTo>
                        <a:pt x="46" y="0"/>
                      </a:lnTo>
                      <a:lnTo>
                        <a:pt x="56" y="1"/>
                      </a:lnTo>
                      <a:lnTo>
                        <a:pt x="64" y="8"/>
                      </a:lnTo>
                      <a:lnTo>
                        <a:pt x="72" y="19"/>
                      </a:lnTo>
                      <a:lnTo>
                        <a:pt x="80" y="36"/>
                      </a:lnTo>
                      <a:lnTo>
                        <a:pt x="88" y="59"/>
                      </a:lnTo>
                      <a:lnTo>
                        <a:pt x="89" y="62"/>
                      </a:lnTo>
                      <a:lnTo>
                        <a:pt x="93" y="72"/>
                      </a:lnTo>
                      <a:lnTo>
                        <a:pt x="99" y="83"/>
                      </a:lnTo>
                      <a:lnTo>
                        <a:pt x="107" y="96"/>
                      </a:lnTo>
                      <a:lnTo>
                        <a:pt x="116" y="107"/>
                      </a:lnTo>
                      <a:lnTo>
                        <a:pt x="127" y="114"/>
                      </a:lnTo>
                      <a:lnTo>
                        <a:pt x="140" y="115"/>
                      </a:lnTo>
                      <a:lnTo>
                        <a:pt x="155" y="109"/>
                      </a:lnTo>
                      <a:lnTo>
                        <a:pt x="161" y="106"/>
                      </a:lnTo>
                      <a:lnTo>
                        <a:pt x="175" y="102"/>
                      </a:lnTo>
                      <a:lnTo>
                        <a:pt x="194" y="97"/>
                      </a:lnTo>
                      <a:lnTo>
                        <a:pt x="213" y="92"/>
                      </a:lnTo>
                      <a:lnTo>
                        <a:pt x="227" y="92"/>
                      </a:lnTo>
                      <a:lnTo>
                        <a:pt x="231" y="97"/>
                      </a:lnTo>
                      <a:lnTo>
                        <a:pt x="223" y="109"/>
                      </a:lnTo>
                      <a:lnTo>
                        <a:pt x="197" y="130"/>
                      </a:lnTo>
                      <a:lnTo>
                        <a:pt x="480" y="216"/>
                      </a:lnTo>
                      <a:lnTo>
                        <a:pt x="447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1240" y="2751120"/>
                  <a:ext cx="153000" cy="214560"/>
                </a:xfrm>
                <a:custGeom>
                  <a:avLst/>
                  <a:gdLst/>
                  <a:ahLst/>
                  <a:rect l="l" t="t" r="r" b="b"/>
                  <a:pathLst>
                    <a:path w="594" h="567">
                      <a:moveTo>
                        <a:pt x="0" y="271"/>
                      </a:moveTo>
                      <a:lnTo>
                        <a:pt x="143" y="0"/>
                      </a:lnTo>
                      <a:lnTo>
                        <a:pt x="286" y="44"/>
                      </a:lnTo>
                      <a:lnTo>
                        <a:pt x="265" y="199"/>
                      </a:lnTo>
                      <a:lnTo>
                        <a:pt x="522" y="63"/>
                      </a:lnTo>
                      <a:lnTo>
                        <a:pt x="526" y="68"/>
                      </a:lnTo>
                      <a:lnTo>
                        <a:pt x="540" y="81"/>
                      </a:lnTo>
                      <a:lnTo>
                        <a:pt x="556" y="99"/>
                      </a:lnTo>
                      <a:lnTo>
                        <a:pt x="574" y="124"/>
                      </a:lnTo>
                      <a:lnTo>
                        <a:pt x="588" y="153"/>
                      </a:lnTo>
                      <a:lnTo>
                        <a:pt x="594" y="184"/>
                      </a:lnTo>
                      <a:lnTo>
                        <a:pt x="591" y="218"/>
                      </a:lnTo>
                      <a:lnTo>
                        <a:pt x="573" y="250"/>
                      </a:lnTo>
                      <a:lnTo>
                        <a:pt x="571" y="256"/>
                      </a:lnTo>
                      <a:lnTo>
                        <a:pt x="567" y="272"/>
                      </a:lnTo>
                      <a:lnTo>
                        <a:pt x="559" y="296"/>
                      </a:lnTo>
                      <a:lnTo>
                        <a:pt x="548" y="327"/>
                      </a:lnTo>
                      <a:lnTo>
                        <a:pt x="533" y="362"/>
                      </a:lnTo>
                      <a:lnTo>
                        <a:pt x="514" y="400"/>
                      </a:lnTo>
                      <a:lnTo>
                        <a:pt x="491" y="438"/>
                      </a:lnTo>
                      <a:lnTo>
                        <a:pt x="462" y="474"/>
                      </a:lnTo>
                      <a:lnTo>
                        <a:pt x="430" y="508"/>
                      </a:lnTo>
                      <a:lnTo>
                        <a:pt x="390" y="536"/>
                      </a:lnTo>
                      <a:lnTo>
                        <a:pt x="347" y="555"/>
                      </a:lnTo>
                      <a:lnTo>
                        <a:pt x="297" y="567"/>
                      </a:lnTo>
                      <a:lnTo>
                        <a:pt x="242" y="567"/>
                      </a:lnTo>
                      <a:lnTo>
                        <a:pt x="180" y="553"/>
                      </a:lnTo>
                      <a:lnTo>
                        <a:pt x="112" y="525"/>
                      </a:lnTo>
                      <a:lnTo>
                        <a:pt x="36" y="479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378880" y="2781360"/>
                  <a:ext cx="116640" cy="171000"/>
                </a:xfrm>
                <a:custGeom>
                  <a:avLst/>
                  <a:gdLst/>
                  <a:ahLst/>
                  <a:rect l="l" t="t" r="r" b="b"/>
                  <a:pathLst>
                    <a:path w="452" h="455">
                      <a:moveTo>
                        <a:pt x="0" y="175"/>
                      </a:moveTo>
                      <a:lnTo>
                        <a:pt x="89" y="0"/>
                      </a:lnTo>
                      <a:lnTo>
                        <a:pt x="124" y="22"/>
                      </a:lnTo>
                      <a:lnTo>
                        <a:pt x="138" y="165"/>
                      </a:lnTo>
                      <a:lnTo>
                        <a:pt x="210" y="180"/>
                      </a:lnTo>
                      <a:lnTo>
                        <a:pt x="403" y="58"/>
                      </a:lnTo>
                      <a:lnTo>
                        <a:pt x="409" y="60"/>
                      </a:lnTo>
                      <a:lnTo>
                        <a:pt x="420" y="67"/>
                      </a:lnTo>
                      <a:lnTo>
                        <a:pt x="435" y="78"/>
                      </a:lnTo>
                      <a:lnTo>
                        <a:pt x="447" y="95"/>
                      </a:lnTo>
                      <a:lnTo>
                        <a:pt x="452" y="115"/>
                      </a:lnTo>
                      <a:lnTo>
                        <a:pt x="442" y="140"/>
                      </a:lnTo>
                      <a:lnTo>
                        <a:pt x="416" y="168"/>
                      </a:lnTo>
                      <a:lnTo>
                        <a:pt x="367" y="201"/>
                      </a:lnTo>
                      <a:lnTo>
                        <a:pt x="274" y="244"/>
                      </a:lnTo>
                      <a:lnTo>
                        <a:pt x="278" y="243"/>
                      </a:lnTo>
                      <a:lnTo>
                        <a:pt x="286" y="240"/>
                      </a:lnTo>
                      <a:lnTo>
                        <a:pt x="298" y="235"/>
                      </a:lnTo>
                      <a:lnTo>
                        <a:pt x="314" y="229"/>
                      </a:lnTo>
                      <a:lnTo>
                        <a:pt x="333" y="224"/>
                      </a:lnTo>
                      <a:lnTo>
                        <a:pt x="352" y="218"/>
                      </a:lnTo>
                      <a:lnTo>
                        <a:pt x="372" y="213"/>
                      </a:lnTo>
                      <a:lnTo>
                        <a:pt x="391" y="210"/>
                      </a:lnTo>
                      <a:lnTo>
                        <a:pt x="408" y="210"/>
                      </a:lnTo>
                      <a:lnTo>
                        <a:pt x="422" y="211"/>
                      </a:lnTo>
                      <a:lnTo>
                        <a:pt x="432" y="217"/>
                      </a:lnTo>
                      <a:lnTo>
                        <a:pt x="438" y="226"/>
                      </a:lnTo>
                      <a:lnTo>
                        <a:pt x="437" y="240"/>
                      </a:lnTo>
                      <a:lnTo>
                        <a:pt x="430" y="259"/>
                      </a:lnTo>
                      <a:lnTo>
                        <a:pt x="414" y="285"/>
                      </a:lnTo>
                      <a:lnTo>
                        <a:pt x="389" y="316"/>
                      </a:lnTo>
                      <a:lnTo>
                        <a:pt x="253" y="351"/>
                      </a:lnTo>
                      <a:lnTo>
                        <a:pt x="259" y="353"/>
                      </a:lnTo>
                      <a:lnTo>
                        <a:pt x="274" y="358"/>
                      </a:lnTo>
                      <a:lnTo>
                        <a:pt x="291" y="366"/>
                      </a:lnTo>
                      <a:lnTo>
                        <a:pt x="306" y="377"/>
                      </a:lnTo>
                      <a:lnTo>
                        <a:pt x="313" y="392"/>
                      </a:lnTo>
                      <a:lnTo>
                        <a:pt x="308" y="409"/>
                      </a:lnTo>
                      <a:lnTo>
                        <a:pt x="282" y="429"/>
                      </a:lnTo>
                      <a:lnTo>
                        <a:pt x="231" y="452"/>
                      </a:lnTo>
                      <a:lnTo>
                        <a:pt x="229" y="452"/>
                      </a:lnTo>
                      <a:lnTo>
                        <a:pt x="221" y="453"/>
                      </a:lnTo>
                      <a:lnTo>
                        <a:pt x="210" y="454"/>
                      </a:lnTo>
                      <a:lnTo>
                        <a:pt x="196" y="455"/>
                      </a:lnTo>
                      <a:lnTo>
                        <a:pt x="177" y="454"/>
                      </a:lnTo>
                      <a:lnTo>
                        <a:pt x="158" y="451"/>
                      </a:lnTo>
                      <a:lnTo>
                        <a:pt x="137" y="445"/>
                      </a:lnTo>
                      <a:lnTo>
                        <a:pt x="116" y="437"/>
                      </a:lnTo>
                      <a:lnTo>
                        <a:pt x="94" y="424"/>
                      </a:lnTo>
                      <a:lnTo>
                        <a:pt x="74" y="407"/>
                      </a:lnTo>
                      <a:lnTo>
                        <a:pt x="54" y="385"/>
                      </a:lnTo>
                      <a:lnTo>
                        <a:pt x="36" y="357"/>
                      </a:lnTo>
                      <a:lnTo>
                        <a:pt x="22" y="323"/>
                      </a:lnTo>
                      <a:lnTo>
                        <a:pt x="10" y="281"/>
                      </a:lnTo>
                      <a:lnTo>
                        <a:pt x="2" y="233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15960" y="2802960"/>
                  <a:ext cx="69840" cy="28800"/>
                </a:xfrm>
                <a:custGeom>
                  <a:avLst/>
                  <a:gdLst/>
                  <a:ahLst/>
                  <a:rect l="l" t="t" r="r" b="b"/>
                  <a:pathLst>
                    <a:path w="272" h="65">
                      <a:moveTo>
                        <a:pt x="0" y="0"/>
                      </a:moveTo>
                      <a:lnTo>
                        <a:pt x="272" y="29"/>
                      </a:lnTo>
                      <a:lnTo>
                        <a:pt x="179" y="65"/>
                      </a:lnTo>
                      <a:lnTo>
                        <a:pt x="14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396160" y="2875680"/>
                  <a:ext cx="40680" cy="43920"/>
                </a:xfrm>
                <a:custGeom>
                  <a:avLst/>
                  <a:gdLst/>
                  <a:ahLst/>
                  <a:rect l="l" t="t" r="r" b="b"/>
                  <a:pathLst>
                    <a:path w="157" h="116">
                      <a:moveTo>
                        <a:pt x="157" y="0"/>
                      </a:moveTo>
                      <a:lnTo>
                        <a:pt x="0" y="80"/>
                      </a:lnTo>
                      <a:lnTo>
                        <a:pt x="35" y="116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85720" y="286884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129" h="50">
                      <a:moveTo>
                        <a:pt x="129" y="0"/>
                      </a:moveTo>
                      <a:lnTo>
                        <a:pt x="0" y="22"/>
                      </a:lnTo>
                      <a:lnTo>
                        <a:pt x="36" y="50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69280" y="2924640"/>
                  <a:ext cx="189720" cy="156240"/>
                </a:xfrm>
                <a:custGeom>
                  <a:avLst/>
                  <a:gdLst/>
                  <a:ahLst/>
                  <a:rect l="l" t="t" r="r" b="b"/>
                  <a:pathLst>
                    <a:path w="737" h="417">
                      <a:moveTo>
                        <a:pt x="58" y="0"/>
                      </a:moveTo>
                      <a:lnTo>
                        <a:pt x="0" y="78"/>
                      </a:lnTo>
                      <a:lnTo>
                        <a:pt x="5" y="81"/>
                      </a:lnTo>
                      <a:lnTo>
                        <a:pt x="15" y="86"/>
                      </a:lnTo>
                      <a:lnTo>
                        <a:pt x="32" y="94"/>
                      </a:lnTo>
                      <a:lnTo>
                        <a:pt x="50" y="105"/>
                      </a:lnTo>
                      <a:lnTo>
                        <a:pt x="70" y="115"/>
                      </a:lnTo>
                      <a:lnTo>
                        <a:pt x="88" y="124"/>
                      </a:lnTo>
                      <a:lnTo>
                        <a:pt x="104" y="131"/>
                      </a:lnTo>
                      <a:lnTo>
                        <a:pt x="116" y="136"/>
                      </a:lnTo>
                      <a:lnTo>
                        <a:pt x="124" y="138"/>
                      </a:lnTo>
                      <a:lnTo>
                        <a:pt x="140" y="140"/>
                      </a:lnTo>
                      <a:lnTo>
                        <a:pt x="163" y="144"/>
                      </a:lnTo>
                      <a:lnTo>
                        <a:pt x="191" y="149"/>
                      </a:lnTo>
                      <a:lnTo>
                        <a:pt x="224" y="154"/>
                      </a:lnTo>
                      <a:lnTo>
                        <a:pt x="260" y="159"/>
                      </a:lnTo>
                      <a:lnTo>
                        <a:pt x="298" y="165"/>
                      </a:lnTo>
                      <a:lnTo>
                        <a:pt x="337" y="170"/>
                      </a:lnTo>
                      <a:lnTo>
                        <a:pt x="375" y="176"/>
                      </a:lnTo>
                      <a:lnTo>
                        <a:pt x="413" y="182"/>
                      </a:lnTo>
                      <a:lnTo>
                        <a:pt x="448" y="187"/>
                      </a:lnTo>
                      <a:lnTo>
                        <a:pt x="479" y="191"/>
                      </a:lnTo>
                      <a:lnTo>
                        <a:pt x="504" y="195"/>
                      </a:lnTo>
                      <a:lnTo>
                        <a:pt x="525" y="198"/>
                      </a:lnTo>
                      <a:lnTo>
                        <a:pt x="538" y="199"/>
                      </a:lnTo>
                      <a:lnTo>
                        <a:pt x="542" y="200"/>
                      </a:lnTo>
                      <a:lnTo>
                        <a:pt x="630" y="417"/>
                      </a:lnTo>
                      <a:lnTo>
                        <a:pt x="737" y="243"/>
                      </a:lnTo>
                      <a:lnTo>
                        <a:pt x="637" y="107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25520" y="3016800"/>
                  <a:ext cx="60480" cy="92160"/>
                </a:xfrm>
                <a:custGeom>
                  <a:avLst/>
                  <a:gdLst/>
                  <a:ahLst/>
                  <a:rect l="l" t="t" r="r" b="b"/>
                  <a:pathLst>
                    <a:path w="237" h="243">
                      <a:moveTo>
                        <a:pt x="0" y="13"/>
                      </a:moveTo>
                      <a:lnTo>
                        <a:pt x="223" y="243"/>
                      </a:lnTo>
                      <a:lnTo>
                        <a:pt x="237" y="171"/>
                      </a:lnTo>
                      <a:lnTo>
                        <a:pt x="4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052360" y="2915640"/>
                  <a:ext cx="29160" cy="42120"/>
                </a:xfrm>
                <a:custGeom>
                  <a:avLst/>
                  <a:gdLst/>
                  <a:ahLst/>
                  <a:rect l="l" t="t" r="r" b="b"/>
                  <a:pathLst>
                    <a:path w="114" h="111">
                      <a:moveTo>
                        <a:pt x="0" y="0"/>
                      </a:moveTo>
                      <a:lnTo>
                        <a:pt x="87" y="111"/>
                      </a:lnTo>
                      <a:lnTo>
                        <a:pt x="114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41360" y="2862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43">
                      <a:moveTo>
                        <a:pt x="0" y="95"/>
                      </a:moveTo>
                      <a:lnTo>
                        <a:pt x="145" y="143"/>
                      </a:lnTo>
                      <a:lnTo>
                        <a:pt x="201" y="0"/>
                      </a:lnTo>
                      <a:lnTo>
                        <a:pt x="116" y="0"/>
                      </a:lnTo>
                      <a:lnTo>
                        <a:pt x="116" y="76"/>
                      </a:lnTo>
                      <a:lnTo>
                        <a:pt x="36" y="1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87800" y="2861280"/>
                  <a:ext cx="71280" cy="50040"/>
                </a:xfrm>
                <a:custGeom>
                  <a:avLst/>
                  <a:gdLst/>
                  <a:ahLst/>
                  <a:rect l="l" t="t" r="r" b="b"/>
                  <a:pathLst>
                    <a:path w="278" h="130">
                      <a:moveTo>
                        <a:pt x="0" y="82"/>
                      </a:moveTo>
                      <a:lnTo>
                        <a:pt x="278" y="130"/>
                      </a:lnTo>
                      <a:lnTo>
                        <a:pt x="267" y="44"/>
                      </a:lnTo>
                      <a:lnTo>
                        <a:pt x="62" y="0"/>
                      </a:lnTo>
                      <a:lnTo>
                        <a:pt x="10" y="5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51080" y="2996640"/>
                  <a:ext cx="86400" cy="130320"/>
                </a:xfrm>
                <a:custGeom>
                  <a:avLst/>
                  <a:gdLst/>
                  <a:ahLst/>
                  <a:rect l="l" t="t" r="r" b="b"/>
                  <a:pathLst>
                    <a:path w="336" h="347">
                      <a:moveTo>
                        <a:pt x="334" y="108"/>
                      </a:moveTo>
                      <a:lnTo>
                        <a:pt x="331" y="125"/>
                      </a:lnTo>
                      <a:lnTo>
                        <a:pt x="325" y="144"/>
                      </a:lnTo>
                      <a:lnTo>
                        <a:pt x="317" y="162"/>
                      </a:lnTo>
                      <a:lnTo>
                        <a:pt x="308" y="181"/>
                      </a:lnTo>
                      <a:lnTo>
                        <a:pt x="297" y="199"/>
                      </a:lnTo>
                      <a:lnTo>
                        <a:pt x="284" y="218"/>
                      </a:lnTo>
                      <a:lnTo>
                        <a:pt x="271" y="236"/>
                      </a:lnTo>
                      <a:lnTo>
                        <a:pt x="255" y="255"/>
                      </a:lnTo>
                      <a:lnTo>
                        <a:pt x="236" y="273"/>
                      </a:lnTo>
                      <a:lnTo>
                        <a:pt x="218" y="289"/>
                      </a:lnTo>
                      <a:lnTo>
                        <a:pt x="198" y="303"/>
                      </a:lnTo>
                      <a:lnTo>
                        <a:pt x="178" y="316"/>
                      </a:lnTo>
                      <a:lnTo>
                        <a:pt x="159" y="327"/>
                      </a:lnTo>
                      <a:lnTo>
                        <a:pt x="139" y="335"/>
                      </a:lnTo>
                      <a:lnTo>
                        <a:pt x="121" y="341"/>
                      </a:lnTo>
                      <a:lnTo>
                        <a:pt x="102" y="346"/>
                      </a:lnTo>
                      <a:lnTo>
                        <a:pt x="91" y="347"/>
                      </a:lnTo>
                      <a:lnTo>
                        <a:pt x="79" y="347"/>
                      </a:lnTo>
                      <a:lnTo>
                        <a:pt x="69" y="347"/>
                      </a:lnTo>
                      <a:lnTo>
                        <a:pt x="59" y="344"/>
                      </a:lnTo>
                      <a:lnTo>
                        <a:pt x="48" y="342"/>
                      </a:lnTo>
                      <a:lnTo>
                        <a:pt x="40" y="339"/>
                      </a:lnTo>
                      <a:lnTo>
                        <a:pt x="31" y="333"/>
                      </a:lnTo>
                      <a:lnTo>
                        <a:pt x="24" y="327"/>
                      </a:lnTo>
                      <a:lnTo>
                        <a:pt x="9" y="307"/>
                      </a:lnTo>
                      <a:lnTo>
                        <a:pt x="1" y="283"/>
                      </a:lnTo>
                      <a:lnTo>
                        <a:pt x="0" y="256"/>
                      </a:lnTo>
                      <a:lnTo>
                        <a:pt x="6" y="225"/>
                      </a:lnTo>
                      <a:lnTo>
                        <a:pt x="16" y="192"/>
                      </a:lnTo>
                      <a:lnTo>
                        <a:pt x="33" y="159"/>
                      </a:lnTo>
                      <a:lnTo>
                        <a:pt x="55" y="124"/>
                      </a:lnTo>
                      <a:lnTo>
                        <a:pt x="83" y="92"/>
                      </a:lnTo>
                      <a:lnTo>
                        <a:pt x="101" y="74"/>
                      </a:lnTo>
                      <a:lnTo>
                        <a:pt x="120" y="58"/>
                      </a:lnTo>
                      <a:lnTo>
                        <a:pt x="139" y="44"/>
                      </a:lnTo>
                      <a:lnTo>
                        <a:pt x="159" y="31"/>
                      </a:lnTo>
                      <a:lnTo>
                        <a:pt x="177" y="21"/>
                      </a:lnTo>
                      <a:lnTo>
                        <a:pt x="197" y="13"/>
                      </a:lnTo>
                      <a:lnTo>
                        <a:pt x="215" y="6"/>
                      </a:lnTo>
                      <a:lnTo>
                        <a:pt x="234" y="1"/>
                      </a:lnTo>
                      <a:lnTo>
                        <a:pt x="245" y="0"/>
                      </a:lnTo>
                      <a:lnTo>
                        <a:pt x="257" y="0"/>
                      </a:lnTo>
                      <a:lnTo>
                        <a:pt x="268" y="0"/>
                      </a:lnTo>
                      <a:lnTo>
                        <a:pt x="279" y="1"/>
                      </a:lnTo>
                      <a:lnTo>
                        <a:pt x="288" y="5"/>
                      </a:lnTo>
                      <a:lnTo>
                        <a:pt x="297" y="8"/>
                      </a:lnTo>
                      <a:lnTo>
                        <a:pt x="305" y="14"/>
                      </a:lnTo>
                      <a:lnTo>
                        <a:pt x="313" y="20"/>
                      </a:lnTo>
                      <a:lnTo>
                        <a:pt x="326" y="37"/>
                      </a:lnTo>
                      <a:lnTo>
                        <a:pt x="334" y="58"/>
                      </a:lnTo>
                      <a:lnTo>
                        <a:pt x="336" y="82"/>
                      </a:lnTo>
                      <a:lnTo>
                        <a:pt x="334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5840" y="3022920"/>
                  <a:ext cx="55440" cy="83160"/>
                </a:xfrm>
                <a:custGeom>
                  <a:avLst/>
                  <a:gdLst/>
                  <a:ahLst/>
                  <a:rect l="l" t="t" r="r" b="b"/>
                  <a:pathLst>
                    <a:path w="216" h="223">
                      <a:moveTo>
                        <a:pt x="163" y="163"/>
                      </a:moveTo>
                      <a:lnTo>
                        <a:pt x="143" y="182"/>
                      </a:lnTo>
                      <a:lnTo>
                        <a:pt x="123" y="197"/>
                      </a:lnTo>
                      <a:lnTo>
                        <a:pt x="102" y="210"/>
                      </a:lnTo>
                      <a:lnTo>
                        <a:pt x="81" y="218"/>
                      </a:lnTo>
                      <a:lnTo>
                        <a:pt x="61" y="223"/>
                      </a:lnTo>
                      <a:lnTo>
                        <a:pt x="44" y="223"/>
                      </a:lnTo>
                      <a:lnTo>
                        <a:pt x="28" y="218"/>
                      </a:lnTo>
                      <a:lnTo>
                        <a:pt x="15" y="210"/>
                      </a:lnTo>
                      <a:lnTo>
                        <a:pt x="6" y="197"/>
                      </a:lnTo>
                      <a:lnTo>
                        <a:pt x="2" y="182"/>
                      </a:lnTo>
                      <a:lnTo>
                        <a:pt x="0" y="164"/>
                      </a:lnTo>
                      <a:lnTo>
                        <a:pt x="4" y="144"/>
                      </a:lnTo>
                      <a:lnTo>
                        <a:pt x="11" y="123"/>
                      </a:lnTo>
                      <a:lnTo>
                        <a:pt x="21" y="102"/>
                      </a:lnTo>
                      <a:lnTo>
                        <a:pt x="36" y="80"/>
                      </a:lnTo>
                      <a:lnTo>
                        <a:pt x="53" y="59"/>
                      </a:lnTo>
                      <a:lnTo>
                        <a:pt x="73" y="41"/>
                      </a:lnTo>
                      <a:lnTo>
                        <a:pt x="94" y="24"/>
                      </a:lnTo>
                      <a:lnTo>
                        <a:pt x="114" y="13"/>
                      </a:lnTo>
                      <a:lnTo>
                        <a:pt x="134" y="5"/>
                      </a:lnTo>
                      <a:lnTo>
                        <a:pt x="154" y="0"/>
                      </a:lnTo>
                      <a:lnTo>
                        <a:pt x="172" y="0"/>
                      </a:lnTo>
                      <a:lnTo>
                        <a:pt x="188" y="5"/>
                      </a:lnTo>
                      <a:lnTo>
                        <a:pt x="201" y="13"/>
                      </a:lnTo>
                      <a:lnTo>
                        <a:pt x="210" y="26"/>
                      </a:lnTo>
                      <a:lnTo>
                        <a:pt x="215" y="41"/>
                      </a:lnTo>
                      <a:lnTo>
                        <a:pt x="216" y="59"/>
                      </a:lnTo>
                      <a:lnTo>
                        <a:pt x="212" y="79"/>
                      </a:lnTo>
                      <a:lnTo>
                        <a:pt x="205" y="99"/>
                      </a:lnTo>
                      <a:lnTo>
                        <a:pt x="195" y="120"/>
                      </a:lnTo>
                      <a:lnTo>
                        <a:pt x="180" y="142"/>
                      </a:lnTo>
                      <a:lnTo>
                        <a:pt x="163" y="1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221560" y="2712600"/>
                <a:ext cx="190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21161400">
              <a:off x="1551960" y="2207160"/>
              <a:ext cx="227880" cy="2196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 ist</a:t>
            </a:r>
            <a:r>
              <a:rPr b="0" lang="en-US" sz="4000" spc="-1" strike="noStrike">
                <a:solidFill>
                  <a:srgbClr val="ff66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089080" y="2209680"/>
            <a:ext cx="730080" cy="992160"/>
            <a:chOff x="2089080" y="2209680"/>
            <a:chExt cx="730080" cy="992160"/>
          </a:xfrm>
        </p:grpSpPr>
        <p:grpSp>
          <p:nvGrpSpPr>
            <p:cNvPr id="420" name=""/>
            <p:cNvGrpSpPr/>
            <p:nvPr/>
          </p:nvGrpSpPr>
          <p:grpSpPr>
            <a:xfrm>
              <a:off x="2089080" y="2209680"/>
              <a:ext cx="730080" cy="992160"/>
              <a:chOff x="2089080" y="2209680"/>
              <a:chExt cx="730080" cy="992160"/>
            </a:xfrm>
          </p:grpSpPr>
          <p:sp>
            <p:nvSpPr>
              <p:cNvPr id="421" name=""/>
              <p:cNvSpPr/>
              <p:nvPr/>
            </p:nvSpPr>
            <p:spPr>
              <a:xfrm>
                <a:off x="2340720" y="2209680"/>
                <a:ext cx="262440" cy="22932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87440" y="2448720"/>
                <a:ext cx="210240" cy="39240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00240" y="2464920"/>
                <a:ext cx="239400" cy="35064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34960" y="2808720"/>
                <a:ext cx="159480" cy="38016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89080" y="2782800"/>
                <a:ext cx="234720" cy="41904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14760" y="2451240"/>
                <a:ext cx="104400" cy="70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49680" y="2521800"/>
                <a:ext cx="69480" cy="3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45360" y="2517840"/>
                <a:ext cx="73800" cy="4068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46800" y="251712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88840" y="2517840"/>
                <a:ext cx="34560" cy="576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454120" y="2446200"/>
              <a:ext cx="320760" cy="22320"/>
            </a:xfrm>
            <a:custGeom>
              <a:avLst/>
              <a:gdLst/>
              <a:ahLst/>
              <a:rect l="l" t="t" r="r" b="b"/>
              <a:pathLst>
                <a:path w="202" h="14">
                  <a:moveTo>
                    <a:pt x="0" y="14"/>
                  </a:moveTo>
                  <a:cubicBezTo>
                    <a:pt x="193" y="0"/>
                    <a:pt x="125" y="0"/>
                    <a:pt x="202" y="0"/>
                  </a:cubicBez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523880" y="2085840"/>
            <a:ext cx="1599480" cy="1266480"/>
            <a:chOff x="1523880" y="2085840"/>
            <a:chExt cx="1599480" cy="1266480"/>
          </a:xfrm>
        </p:grpSpPr>
        <p:grpSp>
          <p:nvGrpSpPr>
            <p:cNvPr id="435" name=""/>
            <p:cNvGrpSpPr/>
            <p:nvPr/>
          </p:nvGrpSpPr>
          <p:grpSpPr>
            <a:xfrm>
              <a:off x="1523880" y="2318040"/>
              <a:ext cx="837360" cy="911880"/>
              <a:chOff x="1523880" y="2318040"/>
              <a:chExt cx="837360" cy="911880"/>
            </a:xfrm>
          </p:grpSpPr>
          <p:sp>
            <p:nvSpPr>
              <p:cNvPr id="436" name=""/>
              <p:cNvSpPr/>
              <p:nvPr/>
            </p:nvSpPr>
            <p:spPr>
              <a:xfrm rot="3711600">
                <a:off x="2000160" y="2380680"/>
                <a:ext cx="316440" cy="2901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3880" y="2423520"/>
                <a:ext cx="232560" cy="41976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63280" y="2389680"/>
                <a:ext cx="242640" cy="37512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03320" y="2689560"/>
                <a:ext cx="317160" cy="4813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16400" y="2715840"/>
                <a:ext cx="266760" cy="51408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157120" y="2507760"/>
              <a:ext cx="812880" cy="746280"/>
            </a:xfrm>
            <a:custGeom>
              <a:avLst/>
              <a:gdLst/>
              <a:ahLst/>
              <a:rect l="l" t="t" r="r" b="b"/>
              <a:pathLst>
                <a:path w="1395" h="1737">
                  <a:moveTo>
                    <a:pt x="1377" y="379"/>
                  </a:moveTo>
                  <a:lnTo>
                    <a:pt x="1367" y="379"/>
                  </a:lnTo>
                  <a:lnTo>
                    <a:pt x="1357" y="379"/>
                  </a:lnTo>
                  <a:lnTo>
                    <a:pt x="1347" y="379"/>
                  </a:lnTo>
                  <a:lnTo>
                    <a:pt x="1338" y="379"/>
                  </a:lnTo>
                  <a:lnTo>
                    <a:pt x="1327" y="379"/>
                  </a:lnTo>
                  <a:lnTo>
                    <a:pt x="1318" y="379"/>
                  </a:lnTo>
                  <a:lnTo>
                    <a:pt x="1308" y="379"/>
                  </a:lnTo>
                  <a:lnTo>
                    <a:pt x="1299" y="379"/>
                  </a:lnTo>
                  <a:lnTo>
                    <a:pt x="1304" y="374"/>
                  </a:lnTo>
                  <a:lnTo>
                    <a:pt x="1309" y="370"/>
                  </a:lnTo>
                  <a:lnTo>
                    <a:pt x="1316" y="364"/>
                  </a:lnTo>
                  <a:lnTo>
                    <a:pt x="1321" y="359"/>
                  </a:lnTo>
                  <a:lnTo>
                    <a:pt x="1327" y="355"/>
                  </a:lnTo>
                  <a:lnTo>
                    <a:pt x="1333" y="351"/>
                  </a:lnTo>
                  <a:lnTo>
                    <a:pt x="1339" y="348"/>
                  </a:lnTo>
                  <a:lnTo>
                    <a:pt x="1346" y="344"/>
                  </a:lnTo>
                  <a:lnTo>
                    <a:pt x="1353" y="341"/>
                  </a:lnTo>
                  <a:lnTo>
                    <a:pt x="1357" y="335"/>
                  </a:lnTo>
                  <a:lnTo>
                    <a:pt x="1359" y="328"/>
                  </a:lnTo>
                  <a:lnTo>
                    <a:pt x="1358" y="321"/>
                  </a:lnTo>
                  <a:lnTo>
                    <a:pt x="1355" y="315"/>
                  </a:lnTo>
                  <a:lnTo>
                    <a:pt x="1348" y="310"/>
                  </a:lnTo>
                  <a:lnTo>
                    <a:pt x="1342" y="309"/>
                  </a:lnTo>
                  <a:lnTo>
                    <a:pt x="1335" y="309"/>
                  </a:lnTo>
                  <a:lnTo>
                    <a:pt x="1325" y="314"/>
                  </a:lnTo>
                  <a:lnTo>
                    <a:pt x="1317" y="318"/>
                  </a:lnTo>
                  <a:lnTo>
                    <a:pt x="1308" y="324"/>
                  </a:lnTo>
                  <a:lnTo>
                    <a:pt x="1301" y="330"/>
                  </a:lnTo>
                  <a:lnTo>
                    <a:pt x="1293" y="336"/>
                  </a:lnTo>
                  <a:lnTo>
                    <a:pt x="1286" y="343"/>
                  </a:lnTo>
                  <a:lnTo>
                    <a:pt x="1278" y="350"/>
                  </a:lnTo>
                  <a:lnTo>
                    <a:pt x="1270" y="356"/>
                  </a:lnTo>
                  <a:lnTo>
                    <a:pt x="1271" y="339"/>
                  </a:lnTo>
                  <a:lnTo>
                    <a:pt x="1275" y="322"/>
                  </a:lnTo>
                  <a:lnTo>
                    <a:pt x="1281" y="305"/>
                  </a:lnTo>
                  <a:lnTo>
                    <a:pt x="1284" y="288"/>
                  </a:lnTo>
                  <a:lnTo>
                    <a:pt x="1285" y="281"/>
                  </a:lnTo>
                  <a:lnTo>
                    <a:pt x="1283" y="274"/>
                  </a:lnTo>
                  <a:lnTo>
                    <a:pt x="1278" y="270"/>
                  </a:lnTo>
                  <a:lnTo>
                    <a:pt x="1271" y="267"/>
                  </a:lnTo>
                  <a:lnTo>
                    <a:pt x="1264" y="267"/>
                  </a:lnTo>
                  <a:lnTo>
                    <a:pt x="1257" y="269"/>
                  </a:lnTo>
                  <a:lnTo>
                    <a:pt x="1252" y="273"/>
                  </a:lnTo>
                  <a:lnTo>
                    <a:pt x="1249" y="280"/>
                  </a:lnTo>
                  <a:lnTo>
                    <a:pt x="1244" y="302"/>
                  </a:lnTo>
                  <a:lnTo>
                    <a:pt x="1238" y="323"/>
                  </a:lnTo>
                  <a:lnTo>
                    <a:pt x="1235" y="345"/>
                  </a:lnTo>
                  <a:lnTo>
                    <a:pt x="1236" y="369"/>
                  </a:lnTo>
                  <a:lnTo>
                    <a:pt x="1214" y="369"/>
                  </a:lnTo>
                  <a:lnTo>
                    <a:pt x="1192" y="371"/>
                  </a:lnTo>
                  <a:lnTo>
                    <a:pt x="1170" y="373"/>
                  </a:lnTo>
                  <a:lnTo>
                    <a:pt x="1147" y="377"/>
                  </a:lnTo>
                  <a:lnTo>
                    <a:pt x="1125" y="381"/>
                  </a:lnTo>
                  <a:lnTo>
                    <a:pt x="1103" y="388"/>
                  </a:lnTo>
                  <a:lnTo>
                    <a:pt x="1082" y="394"/>
                  </a:lnTo>
                  <a:lnTo>
                    <a:pt x="1060" y="400"/>
                  </a:lnTo>
                  <a:lnTo>
                    <a:pt x="1038" y="409"/>
                  </a:lnTo>
                  <a:lnTo>
                    <a:pt x="1016" y="416"/>
                  </a:lnTo>
                  <a:lnTo>
                    <a:pt x="995" y="425"/>
                  </a:lnTo>
                  <a:lnTo>
                    <a:pt x="974" y="433"/>
                  </a:lnTo>
                  <a:lnTo>
                    <a:pt x="953" y="442"/>
                  </a:lnTo>
                  <a:lnTo>
                    <a:pt x="931" y="450"/>
                  </a:lnTo>
                  <a:lnTo>
                    <a:pt x="910" y="459"/>
                  </a:lnTo>
                  <a:lnTo>
                    <a:pt x="889" y="467"/>
                  </a:lnTo>
                  <a:lnTo>
                    <a:pt x="886" y="460"/>
                  </a:lnTo>
                  <a:lnTo>
                    <a:pt x="883" y="452"/>
                  </a:lnTo>
                  <a:lnTo>
                    <a:pt x="880" y="446"/>
                  </a:lnTo>
                  <a:lnTo>
                    <a:pt x="876" y="439"/>
                  </a:lnTo>
                  <a:lnTo>
                    <a:pt x="875" y="438"/>
                  </a:lnTo>
                  <a:lnTo>
                    <a:pt x="875" y="436"/>
                  </a:lnTo>
                  <a:lnTo>
                    <a:pt x="874" y="435"/>
                  </a:lnTo>
                  <a:lnTo>
                    <a:pt x="873" y="434"/>
                  </a:lnTo>
                  <a:lnTo>
                    <a:pt x="879" y="424"/>
                  </a:lnTo>
                  <a:lnTo>
                    <a:pt x="884" y="413"/>
                  </a:lnTo>
                  <a:lnTo>
                    <a:pt x="888" y="403"/>
                  </a:lnTo>
                  <a:lnTo>
                    <a:pt x="893" y="392"/>
                  </a:lnTo>
                  <a:lnTo>
                    <a:pt x="901" y="370"/>
                  </a:lnTo>
                  <a:lnTo>
                    <a:pt x="906" y="345"/>
                  </a:lnTo>
                  <a:lnTo>
                    <a:pt x="909" y="322"/>
                  </a:lnTo>
                  <a:lnTo>
                    <a:pt x="910" y="298"/>
                  </a:lnTo>
                  <a:lnTo>
                    <a:pt x="908" y="274"/>
                  </a:lnTo>
                  <a:lnTo>
                    <a:pt x="904" y="251"/>
                  </a:lnTo>
                  <a:lnTo>
                    <a:pt x="897" y="229"/>
                  </a:lnTo>
                  <a:lnTo>
                    <a:pt x="886" y="208"/>
                  </a:lnTo>
                  <a:lnTo>
                    <a:pt x="890" y="201"/>
                  </a:lnTo>
                  <a:lnTo>
                    <a:pt x="895" y="196"/>
                  </a:lnTo>
                  <a:lnTo>
                    <a:pt x="902" y="194"/>
                  </a:lnTo>
                  <a:lnTo>
                    <a:pt x="909" y="192"/>
                  </a:lnTo>
                  <a:lnTo>
                    <a:pt x="917" y="193"/>
                  </a:lnTo>
                  <a:lnTo>
                    <a:pt x="924" y="195"/>
                  </a:lnTo>
                  <a:lnTo>
                    <a:pt x="930" y="198"/>
                  </a:lnTo>
                  <a:lnTo>
                    <a:pt x="937" y="202"/>
                  </a:lnTo>
                  <a:lnTo>
                    <a:pt x="947" y="211"/>
                  </a:lnTo>
                  <a:lnTo>
                    <a:pt x="949" y="212"/>
                  </a:lnTo>
                  <a:lnTo>
                    <a:pt x="952" y="213"/>
                  </a:lnTo>
                  <a:lnTo>
                    <a:pt x="954" y="214"/>
                  </a:lnTo>
                  <a:lnTo>
                    <a:pt x="957" y="214"/>
                  </a:lnTo>
                  <a:lnTo>
                    <a:pt x="961" y="214"/>
                  </a:lnTo>
                  <a:lnTo>
                    <a:pt x="964" y="214"/>
                  </a:lnTo>
                  <a:lnTo>
                    <a:pt x="966" y="213"/>
                  </a:lnTo>
                  <a:lnTo>
                    <a:pt x="970" y="211"/>
                  </a:lnTo>
                  <a:lnTo>
                    <a:pt x="972" y="210"/>
                  </a:lnTo>
                  <a:lnTo>
                    <a:pt x="977" y="206"/>
                  </a:lnTo>
                  <a:lnTo>
                    <a:pt x="984" y="198"/>
                  </a:lnTo>
                  <a:lnTo>
                    <a:pt x="990" y="190"/>
                  </a:lnTo>
                  <a:lnTo>
                    <a:pt x="994" y="181"/>
                  </a:lnTo>
                  <a:lnTo>
                    <a:pt x="1001" y="175"/>
                  </a:lnTo>
                  <a:lnTo>
                    <a:pt x="1007" y="174"/>
                  </a:lnTo>
                  <a:lnTo>
                    <a:pt x="1011" y="174"/>
                  </a:lnTo>
                  <a:lnTo>
                    <a:pt x="1015" y="175"/>
                  </a:lnTo>
                  <a:lnTo>
                    <a:pt x="1019" y="177"/>
                  </a:lnTo>
                  <a:lnTo>
                    <a:pt x="1024" y="180"/>
                  </a:lnTo>
                  <a:lnTo>
                    <a:pt x="1028" y="183"/>
                  </a:lnTo>
                  <a:lnTo>
                    <a:pt x="1033" y="185"/>
                  </a:lnTo>
                  <a:lnTo>
                    <a:pt x="1037" y="187"/>
                  </a:lnTo>
                  <a:lnTo>
                    <a:pt x="1051" y="193"/>
                  </a:lnTo>
                  <a:lnTo>
                    <a:pt x="1054" y="194"/>
                  </a:lnTo>
                  <a:lnTo>
                    <a:pt x="1057" y="194"/>
                  </a:lnTo>
                  <a:lnTo>
                    <a:pt x="1061" y="194"/>
                  </a:lnTo>
                  <a:lnTo>
                    <a:pt x="1064" y="193"/>
                  </a:lnTo>
                  <a:lnTo>
                    <a:pt x="1073" y="190"/>
                  </a:lnTo>
                  <a:lnTo>
                    <a:pt x="1076" y="189"/>
                  </a:lnTo>
                  <a:lnTo>
                    <a:pt x="1079" y="188"/>
                  </a:lnTo>
                  <a:lnTo>
                    <a:pt x="1080" y="185"/>
                  </a:lnTo>
                  <a:lnTo>
                    <a:pt x="1082" y="183"/>
                  </a:lnTo>
                  <a:lnTo>
                    <a:pt x="1089" y="175"/>
                  </a:lnTo>
                  <a:lnTo>
                    <a:pt x="1091" y="171"/>
                  </a:lnTo>
                  <a:lnTo>
                    <a:pt x="1093" y="167"/>
                  </a:lnTo>
                  <a:lnTo>
                    <a:pt x="1094" y="164"/>
                  </a:lnTo>
                  <a:lnTo>
                    <a:pt x="1097" y="160"/>
                  </a:lnTo>
                  <a:lnTo>
                    <a:pt x="1101" y="158"/>
                  </a:lnTo>
                  <a:lnTo>
                    <a:pt x="1104" y="157"/>
                  </a:lnTo>
                  <a:lnTo>
                    <a:pt x="1110" y="157"/>
                  </a:lnTo>
                  <a:lnTo>
                    <a:pt x="1117" y="158"/>
                  </a:lnTo>
                  <a:lnTo>
                    <a:pt x="1123" y="160"/>
                  </a:lnTo>
                  <a:lnTo>
                    <a:pt x="1130" y="162"/>
                  </a:lnTo>
                  <a:lnTo>
                    <a:pt x="1137" y="164"/>
                  </a:lnTo>
                  <a:lnTo>
                    <a:pt x="1143" y="166"/>
                  </a:lnTo>
                  <a:lnTo>
                    <a:pt x="1149" y="167"/>
                  </a:lnTo>
                  <a:lnTo>
                    <a:pt x="1156" y="167"/>
                  </a:lnTo>
                  <a:lnTo>
                    <a:pt x="1163" y="169"/>
                  </a:lnTo>
                  <a:lnTo>
                    <a:pt x="1167" y="169"/>
                  </a:lnTo>
                  <a:lnTo>
                    <a:pt x="1171" y="167"/>
                  </a:lnTo>
                  <a:lnTo>
                    <a:pt x="1175" y="165"/>
                  </a:lnTo>
                  <a:lnTo>
                    <a:pt x="1178" y="163"/>
                  </a:lnTo>
                  <a:lnTo>
                    <a:pt x="1183" y="156"/>
                  </a:lnTo>
                  <a:lnTo>
                    <a:pt x="1190" y="151"/>
                  </a:lnTo>
                  <a:lnTo>
                    <a:pt x="1195" y="146"/>
                  </a:lnTo>
                  <a:lnTo>
                    <a:pt x="1200" y="141"/>
                  </a:lnTo>
                  <a:lnTo>
                    <a:pt x="1206" y="137"/>
                  </a:lnTo>
                  <a:lnTo>
                    <a:pt x="1212" y="135"/>
                  </a:lnTo>
                  <a:lnTo>
                    <a:pt x="1212" y="135"/>
                  </a:lnTo>
                  <a:lnTo>
                    <a:pt x="1216" y="137"/>
                  </a:lnTo>
                  <a:lnTo>
                    <a:pt x="1220" y="140"/>
                  </a:lnTo>
                  <a:lnTo>
                    <a:pt x="1225" y="142"/>
                  </a:lnTo>
                  <a:lnTo>
                    <a:pt x="1230" y="143"/>
                  </a:lnTo>
                  <a:lnTo>
                    <a:pt x="1234" y="145"/>
                  </a:lnTo>
                  <a:lnTo>
                    <a:pt x="1239" y="146"/>
                  </a:lnTo>
                  <a:lnTo>
                    <a:pt x="1244" y="146"/>
                  </a:lnTo>
                  <a:lnTo>
                    <a:pt x="1249" y="147"/>
                  </a:lnTo>
                  <a:lnTo>
                    <a:pt x="1256" y="146"/>
                  </a:lnTo>
                  <a:lnTo>
                    <a:pt x="1263" y="143"/>
                  </a:lnTo>
                  <a:lnTo>
                    <a:pt x="1267" y="138"/>
                  </a:lnTo>
                  <a:lnTo>
                    <a:pt x="1269" y="131"/>
                  </a:lnTo>
                  <a:lnTo>
                    <a:pt x="1268" y="124"/>
                  </a:lnTo>
                  <a:lnTo>
                    <a:pt x="1265" y="118"/>
                  </a:lnTo>
                  <a:lnTo>
                    <a:pt x="1260" y="113"/>
                  </a:lnTo>
                  <a:lnTo>
                    <a:pt x="1252" y="111"/>
                  </a:lnTo>
                  <a:lnTo>
                    <a:pt x="1250" y="111"/>
                  </a:lnTo>
                  <a:lnTo>
                    <a:pt x="1247" y="110"/>
                  </a:lnTo>
                  <a:lnTo>
                    <a:pt x="1245" y="110"/>
                  </a:lnTo>
                  <a:lnTo>
                    <a:pt x="1242" y="109"/>
                  </a:lnTo>
                  <a:lnTo>
                    <a:pt x="1220" y="100"/>
                  </a:lnTo>
                  <a:lnTo>
                    <a:pt x="1218" y="99"/>
                  </a:lnTo>
                  <a:lnTo>
                    <a:pt x="1216" y="98"/>
                  </a:lnTo>
                  <a:lnTo>
                    <a:pt x="1213" y="98"/>
                  </a:lnTo>
                  <a:lnTo>
                    <a:pt x="1211" y="99"/>
                  </a:lnTo>
                  <a:lnTo>
                    <a:pt x="1195" y="102"/>
                  </a:lnTo>
                  <a:lnTo>
                    <a:pt x="1190" y="105"/>
                  </a:lnTo>
                  <a:lnTo>
                    <a:pt x="1184" y="108"/>
                  </a:lnTo>
                  <a:lnTo>
                    <a:pt x="1180" y="111"/>
                  </a:lnTo>
                  <a:lnTo>
                    <a:pt x="1176" y="115"/>
                  </a:lnTo>
                  <a:lnTo>
                    <a:pt x="1159" y="131"/>
                  </a:lnTo>
                  <a:lnTo>
                    <a:pt x="1157" y="131"/>
                  </a:lnTo>
                  <a:lnTo>
                    <a:pt x="1157" y="131"/>
                  </a:lnTo>
                  <a:lnTo>
                    <a:pt x="1153" y="131"/>
                  </a:lnTo>
                  <a:lnTo>
                    <a:pt x="1147" y="130"/>
                  </a:lnTo>
                  <a:lnTo>
                    <a:pt x="1143" y="128"/>
                  </a:lnTo>
                  <a:lnTo>
                    <a:pt x="1139" y="127"/>
                  </a:lnTo>
                  <a:lnTo>
                    <a:pt x="1135" y="125"/>
                  </a:lnTo>
                  <a:lnTo>
                    <a:pt x="1130" y="124"/>
                  </a:lnTo>
                  <a:lnTo>
                    <a:pt x="1125" y="123"/>
                  </a:lnTo>
                  <a:lnTo>
                    <a:pt x="1121" y="122"/>
                  </a:lnTo>
                  <a:lnTo>
                    <a:pt x="1088" y="123"/>
                  </a:lnTo>
                  <a:lnTo>
                    <a:pt x="1086" y="124"/>
                  </a:lnTo>
                  <a:lnTo>
                    <a:pt x="1084" y="125"/>
                  </a:lnTo>
                  <a:lnTo>
                    <a:pt x="1082" y="127"/>
                  </a:lnTo>
                  <a:lnTo>
                    <a:pt x="1080" y="128"/>
                  </a:lnTo>
                  <a:lnTo>
                    <a:pt x="1075" y="134"/>
                  </a:lnTo>
                  <a:lnTo>
                    <a:pt x="1072" y="137"/>
                  </a:lnTo>
                  <a:lnTo>
                    <a:pt x="1069" y="140"/>
                  </a:lnTo>
                  <a:lnTo>
                    <a:pt x="1067" y="144"/>
                  </a:lnTo>
                  <a:lnTo>
                    <a:pt x="1065" y="147"/>
                  </a:lnTo>
                  <a:lnTo>
                    <a:pt x="1057" y="156"/>
                  </a:lnTo>
                  <a:lnTo>
                    <a:pt x="1051" y="154"/>
                  </a:lnTo>
                  <a:lnTo>
                    <a:pt x="1039" y="147"/>
                  </a:lnTo>
                  <a:lnTo>
                    <a:pt x="1027" y="143"/>
                  </a:lnTo>
                  <a:lnTo>
                    <a:pt x="1014" y="141"/>
                  </a:lnTo>
                  <a:lnTo>
                    <a:pt x="1001" y="140"/>
                  </a:lnTo>
                  <a:lnTo>
                    <a:pt x="990" y="142"/>
                  </a:lnTo>
                  <a:lnTo>
                    <a:pt x="978" y="147"/>
                  </a:lnTo>
                  <a:lnTo>
                    <a:pt x="969" y="156"/>
                  </a:lnTo>
                  <a:lnTo>
                    <a:pt x="960" y="167"/>
                  </a:lnTo>
                  <a:lnTo>
                    <a:pt x="957" y="173"/>
                  </a:lnTo>
                  <a:lnTo>
                    <a:pt x="956" y="173"/>
                  </a:lnTo>
                  <a:lnTo>
                    <a:pt x="945" y="164"/>
                  </a:lnTo>
                  <a:lnTo>
                    <a:pt x="934" y="159"/>
                  </a:lnTo>
                  <a:lnTo>
                    <a:pt x="921" y="156"/>
                  </a:lnTo>
                  <a:lnTo>
                    <a:pt x="907" y="156"/>
                  </a:lnTo>
                  <a:lnTo>
                    <a:pt x="894" y="158"/>
                  </a:lnTo>
                  <a:lnTo>
                    <a:pt x="882" y="162"/>
                  </a:lnTo>
                  <a:lnTo>
                    <a:pt x="871" y="170"/>
                  </a:lnTo>
                  <a:lnTo>
                    <a:pt x="862" y="178"/>
                  </a:lnTo>
                  <a:lnTo>
                    <a:pt x="857" y="174"/>
                  </a:lnTo>
                  <a:lnTo>
                    <a:pt x="854" y="171"/>
                  </a:lnTo>
                  <a:lnTo>
                    <a:pt x="850" y="166"/>
                  </a:lnTo>
                  <a:lnTo>
                    <a:pt x="846" y="163"/>
                  </a:lnTo>
                  <a:lnTo>
                    <a:pt x="833" y="155"/>
                  </a:lnTo>
                  <a:lnTo>
                    <a:pt x="820" y="146"/>
                  </a:lnTo>
                  <a:lnTo>
                    <a:pt x="808" y="139"/>
                  </a:lnTo>
                  <a:lnTo>
                    <a:pt x="794" y="133"/>
                  </a:lnTo>
                  <a:lnTo>
                    <a:pt x="780" y="126"/>
                  </a:lnTo>
                  <a:lnTo>
                    <a:pt x="766" y="122"/>
                  </a:lnTo>
                  <a:lnTo>
                    <a:pt x="753" y="118"/>
                  </a:lnTo>
                  <a:lnTo>
                    <a:pt x="738" y="116"/>
                  </a:lnTo>
                  <a:lnTo>
                    <a:pt x="734" y="115"/>
                  </a:lnTo>
                  <a:lnTo>
                    <a:pt x="729" y="113"/>
                  </a:lnTo>
                  <a:lnTo>
                    <a:pt x="725" y="112"/>
                  </a:lnTo>
                  <a:lnTo>
                    <a:pt x="722" y="111"/>
                  </a:lnTo>
                  <a:lnTo>
                    <a:pt x="718" y="110"/>
                  </a:lnTo>
                  <a:lnTo>
                    <a:pt x="713" y="108"/>
                  </a:lnTo>
                  <a:lnTo>
                    <a:pt x="709" y="107"/>
                  </a:lnTo>
                  <a:lnTo>
                    <a:pt x="705" y="106"/>
                  </a:lnTo>
                  <a:lnTo>
                    <a:pt x="707" y="105"/>
                  </a:lnTo>
                  <a:lnTo>
                    <a:pt x="710" y="105"/>
                  </a:lnTo>
                  <a:lnTo>
                    <a:pt x="712" y="104"/>
                  </a:lnTo>
                  <a:lnTo>
                    <a:pt x="716" y="104"/>
                  </a:lnTo>
                  <a:lnTo>
                    <a:pt x="722" y="104"/>
                  </a:lnTo>
                  <a:lnTo>
                    <a:pt x="727" y="105"/>
                  </a:lnTo>
                  <a:lnTo>
                    <a:pt x="734" y="106"/>
                  </a:lnTo>
                  <a:lnTo>
                    <a:pt x="740" y="107"/>
                  </a:lnTo>
                  <a:lnTo>
                    <a:pt x="746" y="108"/>
                  </a:lnTo>
                  <a:lnTo>
                    <a:pt x="753" y="109"/>
                  </a:lnTo>
                  <a:lnTo>
                    <a:pt x="759" y="109"/>
                  </a:lnTo>
                  <a:lnTo>
                    <a:pt x="765" y="110"/>
                  </a:lnTo>
                  <a:lnTo>
                    <a:pt x="772" y="110"/>
                  </a:lnTo>
                  <a:lnTo>
                    <a:pt x="777" y="109"/>
                  </a:lnTo>
                  <a:lnTo>
                    <a:pt x="782" y="107"/>
                  </a:lnTo>
                  <a:lnTo>
                    <a:pt x="786" y="103"/>
                  </a:lnTo>
                  <a:lnTo>
                    <a:pt x="789" y="98"/>
                  </a:lnTo>
                  <a:lnTo>
                    <a:pt x="789" y="97"/>
                  </a:lnTo>
                  <a:lnTo>
                    <a:pt x="791" y="94"/>
                  </a:lnTo>
                  <a:lnTo>
                    <a:pt x="793" y="91"/>
                  </a:lnTo>
                  <a:lnTo>
                    <a:pt x="794" y="88"/>
                  </a:lnTo>
                  <a:lnTo>
                    <a:pt x="796" y="84"/>
                  </a:lnTo>
                  <a:lnTo>
                    <a:pt x="801" y="84"/>
                  </a:lnTo>
                  <a:lnTo>
                    <a:pt x="808" y="84"/>
                  </a:lnTo>
                  <a:lnTo>
                    <a:pt x="813" y="85"/>
                  </a:lnTo>
                  <a:lnTo>
                    <a:pt x="818" y="86"/>
                  </a:lnTo>
                  <a:lnTo>
                    <a:pt x="824" y="87"/>
                  </a:lnTo>
                  <a:lnTo>
                    <a:pt x="830" y="87"/>
                  </a:lnTo>
                  <a:lnTo>
                    <a:pt x="835" y="88"/>
                  </a:lnTo>
                  <a:lnTo>
                    <a:pt x="840" y="89"/>
                  </a:lnTo>
                  <a:lnTo>
                    <a:pt x="854" y="91"/>
                  </a:lnTo>
                  <a:lnTo>
                    <a:pt x="858" y="91"/>
                  </a:lnTo>
                  <a:lnTo>
                    <a:pt x="863" y="90"/>
                  </a:lnTo>
                  <a:lnTo>
                    <a:pt x="867" y="89"/>
                  </a:lnTo>
                  <a:lnTo>
                    <a:pt x="870" y="86"/>
                  </a:lnTo>
                  <a:lnTo>
                    <a:pt x="879" y="74"/>
                  </a:lnTo>
                  <a:lnTo>
                    <a:pt x="879" y="72"/>
                  </a:lnTo>
                  <a:lnTo>
                    <a:pt x="880" y="70"/>
                  </a:lnTo>
                  <a:lnTo>
                    <a:pt x="880" y="67"/>
                  </a:lnTo>
                  <a:lnTo>
                    <a:pt x="880" y="66"/>
                  </a:lnTo>
                  <a:lnTo>
                    <a:pt x="887" y="66"/>
                  </a:lnTo>
                  <a:lnTo>
                    <a:pt x="894" y="66"/>
                  </a:lnTo>
                  <a:lnTo>
                    <a:pt x="901" y="66"/>
                  </a:lnTo>
                  <a:lnTo>
                    <a:pt x="908" y="66"/>
                  </a:lnTo>
                  <a:lnTo>
                    <a:pt x="916" y="66"/>
                  </a:lnTo>
                  <a:lnTo>
                    <a:pt x="923" y="66"/>
                  </a:lnTo>
                  <a:lnTo>
                    <a:pt x="929" y="66"/>
                  </a:lnTo>
                  <a:lnTo>
                    <a:pt x="937" y="66"/>
                  </a:lnTo>
                  <a:lnTo>
                    <a:pt x="942" y="66"/>
                  </a:lnTo>
                  <a:lnTo>
                    <a:pt x="946" y="65"/>
                  </a:lnTo>
                  <a:lnTo>
                    <a:pt x="949" y="64"/>
                  </a:lnTo>
                  <a:lnTo>
                    <a:pt x="953" y="62"/>
                  </a:lnTo>
                  <a:lnTo>
                    <a:pt x="956" y="58"/>
                  </a:lnTo>
                  <a:lnTo>
                    <a:pt x="963" y="50"/>
                  </a:lnTo>
                  <a:lnTo>
                    <a:pt x="964" y="48"/>
                  </a:lnTo>
                  <a:lnTo>
                    <a:pt x="965" y="45"/>
                  </a:lnTo>
                  <a:lnTo>
                    <a:pt x="966" y="44"/>
                  </a:lnTo>
                  <a:lnTo>
                    <a:pt x="966" y="42"/>
                  </a:lnTo>
                  <a:lnTo>
                    <a:pt x="974" y="42"/>
                  </a:lnTo>
                  <a:lnTo>
                    <a:pt x="981" y="44"/>
                  </a:lnTo>
                  <a:lnTo>
                    <a:pt x="990" y="44"/>
                  </a:lnTo>
                  <a:lnTo>
                    <a:pt x="997" y="45"/>
                  </a:lnTo>
                  <a:lnTo>
                    <a:pt x="1004" y="45"/>
                  </a:lnTo>
                  <a:lnTo>
                    <a:pt x="1012" y="42"/>
                  </a:lnTo>
                  <a:lnTo>
                    <a:pt x="1019" y="38"/>
                  </a:lnTo>
                  <a:lnTo>
                    <a:pt x="1027" y="31"/>
                  </a:lnTo>
                  <a:lnTo>
                    <a:pt x="1031" y="24"/>
                  </a:lnTo>
                  <a:lnTo>
                    <a:pt x="1032" y="18"/>
                  </a:lnTo>
                  <a:lnTo>
                    <a:pt x="1030" y="11"/>
                  </a:lnTo>
                  <a:lnTo>
                    <a:pt x="1026" y="5"/>
                  </a:lnTo>
                  <a:lnTo>
                    <a:pt x="1020" y="1"/>
                  </a:lnTo>
                  <a:lnTo>
                    <a:pt x="1013" y="0"/>
                  </a:lnTo>
                  <a:lnTo>
                    <a:pt x="1007" y="2"/>
                  </a:lnTo>
                  <a:lnTo>
                    <a:pt x="1000" y="6"/>
                  </a:lnTo>
                  <a:lnTo>
                    <a:pt x="1002" y="8"/>
                  </a:lnTo>
                  <a:lnTo>
                    <a:pt x="1004" y="9"/>
                  </a:lnTo>
                  <a:lnTo>
                    <a:pt x="1007" y="10"/>
                  </a:lnTo>
                  <a:lnTo>
                    <a:pt x="1009" y="11"/>
                  </a:lnTo>
                  <a:lnTo>
                    <a:pt x="1002" y="10"/>
                  </a:lnTo>
                  <a:lnTo>
                    <a:pt x="997" y="9"/>
                  </a:lnTo>
                  <a:lnTo>
                    <a:pt x="991" y="8"/>
                  </a:lnTo>
                  <a:lnTo>
                    <a:pt x="985" y="8"/>
                  </a:lnTo>
                  <a:lnTo>
                    <a:pt x="980" y="6"/>
                  </a:lnTo>
                  <a:lnTo>
                    <a:pt x="974" y="6"/>
                  </a:lnTo>
                  <a:lnTo>
                    <a:pt x="969" y="8"/>
                  </a:lnTo>
                  <a:lnTo>
                    <a:pt x="962" y="8"/>
                  </a:lnTo>
                  <a:lnTo>
                    <a:pt x="946" y="13"/>
                  </a:lnTo>
                  <a:lnTo>
                    <a:pt x="943" y="14"/>
                  </a:lnTo>
                  <a:lnTo>
                    <a:pt x="941" y="16"/>
                  </a:lnTo>
                  <a:lnTo>
                    <a:pt x="940" y="18"/>
                  </a:lnTo>
                  <a:lnTo>
                    <a:pt x="938" y="21"/>
                  </a:lnTo>
                  <a:lnTo>
                    <a:pt x="934" y="30"/>
                  </a:lnTo>
                  <a:lnTo>
                    <a:pt x="927" y="30"/>
                  </a:lnTo>
                  <a:lnTo>
                    <a:pt x="922" y="30"/>
                  </a:lnTo>
                  <a:lnTo>
                    <a:pt x="917" y="30"/>
                  </a:lnTo>
                  <a:lnTo>
                    <a:pt x="911" y="30"/>
                  </a:lnTo>
                  <a:lnTo>
                    <a:pt x="907" y="30"/>
                  </a:lnTo>
                  <a:lnTo>
                    <a:pt x="902" y="30"/>
                  </a:lnTo>
                  <a:lnTo>
                    <a:pt x="897" y="30"/>
                  </a:lnTo>
                  <a:lnTo>
                    <a:pt x="892" y="30"/>
                  </a:lnTo>
                  <a:lnTo>
                    <a:pt x="887" y="30"/>
                  </a:lnTo>
                  <a:lnTo>
                    <a:pt x="869" y="31"/>
                  </a:lnTo>
                  <a:lnTo>
                    <a:pt x="866" y="31"/>
                  </a:lnTo>
                  <a:lnTo>
                    <a:pt x="863" y="32"/>
                  </a:lnTo>
                  <a:lnTo>
                    <a:pt x="860" y="34"/>
                  </a:lnTo>
                  <a:lnTo>
                    <a:pt x="857" y="35"/>
                  </a:lnTo>
                  <a:lnTo>
                    <a:pt x="852" y="40"/>
                  </a:lnTo>
                  <a:lnTo>
                    <a:pt x="850" y="42"/>
                  </a:lnTo>
                  <a:lnTo>
                    <a:pt x="848" y="46"/>
                  </a:lnTo>
                  <a:lnTo>
                    <a:pt x="847" y="49"/>
                  </a:lnTo>
                  <a:lnTo>
                    <a:pt x="847" y="52"/>
                  </a:lnTo>
                  <a:lnTo>
                    <a:pt x="846" y="54"/>
                  </a:lnTo>
                  <a:lnTo>
                    <a:pt x="846" y="54"/>
                  </a:lnTo>
                  <a:lnTo>
                    <a:pt x="839" y="53"/>
                  </a:lnTo>
                  <a:lnTo>
                    <a:pt x="834" y="52"/>
                  </a:lnTo>
                  <a:lnTo>
                    <a:pt x="828" y="51"/>
                  </a:lnTo>
                  <a:lnTo>
                    <a:pt x="821" y="50"/>
                  </a:lnTo>
                  <a:lnTo>
                    <a:pt x="816" y="49"/>
                  </a:lnTo>
                  <a:lnTo>
                    <a:pt x="810" y="49"/>
                  </a:lnTo>
                  <a:lnTo>
                    <a:pt x="803" y="48"/>
                  </a:lnTo>
                  <a:lnTo>
                    <a:pt x="797" y="48"/>
                  </a:lnTo>
                  <a:lnTo>
                    <a:pt x="782" y="49"/>
                  </a:lnTo>
                  <a:lnTo>
                    <a:pt x="779" y="50"/>
                  </a:lnTo>
                  <a:lnTo>
                    <a:pt x="776" y="52"/>
                  </a:lnTo>
                  <a:lnTo>
                    <a:pt x="773" y="54"/>
                  </a:lnTo>
                  <a:lnTo>
                    <a:pt x="771" y="57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5" y="67"/>
                  </a:lnTo>
                  <a:lnTo>
                    <a:pt x="762" y="74"/>
                  </a:lnTo>
                  <a:lnTo>
                    <a:pt x="761" y="73"/>
                  </a:lnTo>
                  <a:lnTo>
                    <a:pt x="761" y="73"/>
                  </a:lnTo>
                  <a:lnTo>
                    <a:pt x="746" y="70"/>
                  </a:lnTo>
                  <a:lnTo>
                    <a:pt x="731" y="69"/>
                  </a:lnTo>
                  <a:lnTo>
                    <a:pt x="717" y="69"/>
                  </a:lnTo>
                  <a:lnTo>
                    <a:pt x="703" y="71"/>
                  </a:lnTo>
                  <a:lnTo>
                    <a:pt x="688" y="75"/>
                  </a:lnTo>
                  <a:lnTo>
                    <a:pt x="675" y="82"/>
                  </a:lnTo>
                  <a:lnTo>
                    <a:pt x="664" y="91"/>
                  </a:lnTo>
                  <a:lnTo>
                    <a:pt x="653" y="103"/>
                  </a:lnTo>
                  <a:lnTo>
                    <a:pt x="633" y="109"/>
                  </a:lnTo>
                  <a:lnTo>
                    <a:pt x="614" y="118"/>
                  </a:lnTo>
                  <a:lnTo>
                    <a:pt x="597" y="128"/>
                  </a:lnTo>
                  <a:lnTo>
                    <a:pt x="580" y="142"/>
                  </a:lnTo>
                  <a:lnTo>
                    <a:pt x="565" y="157"/>
                  </a:lnTo>
                  <a:lnTo>
                    <a:pt x="550" y="172"/>
                  </a:lnTo>
                  <a:lnTo>
                    <a:pt x="537" y="189"/>
                  </a:lnTo>
                  <a:lnTo>
                    <a:pt x="523" y="205"/>
                  </a:lnTo>
                  <a:lnTo>
                    <a:pt x="510" y="221"/>
                  </a:lnTo>
                  <a:lnTo>
                    <a:pt x="500" y="238"/>
                  </a:lnTo>
                  <a:lnTo>
                    <a:pt x="491" y="257"/>
                  </a:lnTo>
                  <a:lnTo>
                    <a:pt x="484" y="277"/>
                  </a:lnTo>
                  <a:lnTo>
                    <a:pt x="479" y="296"/>
                  </a:lnTo>
                  <a:lnTo>
                    <a:pt x="475" y="315"/>
                  </a:lnTo>
                  <a:lnTo>
                    <a:pt x="473" y="335"/>
                  </a:lnTo>
                  <a:lnTo>
                    <a:pt x="472" y="355"/>
                  </a:lnTo>
                  <a:lnTo>
                    <a:pt x="476" y="367"/>
                  </a:lnTo>
                  <a:lnTo>
                    <a:pt x="481" y="378"/>
                  </a:lnTo>
                  <a:lnTo>
                    <a:pt x="486" y="389"/>
                  </a:lnTo>
                  <a:lnTo>
                    <a:pt x="492" y="399"/>
                  </a:lnTo>
                  <a:lnTo>
                    <a:pt x="500" y="410"/>
                  </a:lnTo>
                  <a:lnTo>
                    <a:pt x="506" y="418"/>
                  </a:lnTo>
                  <a:lnTo>
                    <a:pt x="515" y="428"/>
                  </a:lnTo>
                  <a:lnTo>
                    <a:pt x="523" y="436"/>
                  </a:lnTo>
                  <a:lnTo>
                    <a:pt x="522" y="439"/>
                  </a:lnTo>
                  <a:lnTo>
                    <a:pt x="522" y="440"/>
                  </a:lnTo>
                  <a:lnTo>
                    <a:pt x="521" y="442"/>
                  </a:lnTo>
                  <a:lnTo>
                    <a:pt x="520" y="444"/>
                  </a:lnTo>
                  <a:lnTo>
                    <a:pt x="520" y="451"/>
                  </a:lnTo>
                  <a:lnTo>
                    <a:pt x="520" y="459"/>
                  </a:lnTo>
                  <a:lnTo>
                    <a:pt x="520" y="467"/>
                  </a:lnTo>
                  <a:lnTo>
                    <a:pt x="519" y="475"/>
                  </a:lnTo>
                  <a:lnTo>
                    <a:pt x="505" y="471"/>
                  </a:lnTo>
                  <a:lnTo>
                    <a:pt x="492" y="468"/>
                  </a:lnTo>
                  <a:lnTo>
                    <a:pt x="479" y="465"/>
                  </a:lnTo>
                  <a:lnTo>
                    <a:pt x="466" y="462"/>
                  </a:lnTo>
                  <a:lnTo>
                    <a:pt x="452" y="460"/>
                  </a:lnTo>
                  <a:lnTo>
                    <a:pt x="438" y="457"/>
                  </a:lnTo>
                  <a:lnTo>
                    <a:pt x="425" y="455"/>
                  </a:lnTo>
                  <a:lnTo>
                    <a:pt x="412" y="452"/>
                  </a:lnTo>
                  <a:lnTo>
                    <a:pt x="398" y="451"/>
                  </a:lnTo>
                  <a:lnTo>
                    <a:pt x="384" y="449"/>
                  </a:lnTo>
                  <a:lnTo>
                    <a:pt x="371" y="448"/>
                  </a:lnTo>
                  <a:lnTo>
                    <a:pt x="358" y="448"/>
                  </a:lnTo>
                  <a:lnTo>
                    <a:pt x="344" y="448"/>
                  </a:lnTo>
                  <a:lnTo>
                    <a:pt x="330" y="448"/>
                  </a:lnTo>
                  <a:lnTo>
                    <a:pt x="317" y="448"/>
                  </a:lnTo>
                  <a:lnTo>
                    <a:pt x="303" y="449"/>
                  </a:lnTo>
                  <a:lnTo>
                    <a:pt x="282" y="452"/>
                  </a:lnTo>
                  <a:lnTo>
                    <a:pt x="262" y="457"/>
                  </a:lnTo>
                  <a:lnTo>
                    <a:pt x="241" y="464"/>
                  </a:lnTo>
                  <a:lnTo>
                    <a:pt x="222" y="471"/>
                  </a:lnTo>
                  <a:lnTo>
                    <a:pt x="204" y="481"/>
                  </a:lnTo>
                  <a:lnTo>
                    <a:pt x="185" y="491"/>
                  </a:lnTo>
                  <a:lnTo>
                    <a:pt x="167" y="500"/>
                  </a:lnTo>
                  <a:lnTo>
                    <a:pt x="148" y="510"/>
                  </a:lnTo>
                  <a:lnTo>
                    <a:pt x="135" y="503"/>
                  </a:lnTo>
                  <a:lnTo>
                    <a:pt x="121" y="497"/>
                  </a:lnTo>
                  <a:lnTo>
                    <a:pt x="107" y="493"/>
                  </a:lnTo>
                  <a:lnTo>
                    <a:pt x="92" y="488"/>
                  </a:lnTo>
                  <a:lnTo>
                    <a:pt x="76" y="486"/>
                  </a:lnTo>
                  <a:lnTo>
                    <a:pt x="62" y="487"/>
                  </a:lnTo>
                  <a:lnTo>
                    <a:pt x="46" y="491"/>
                  </a:lnTo>
                  <a:lnTo>
                    <a:pt x="30" y="497"/>
                  </a:lnTo>
                  <a:lnTo>
                    <a:pt x="26" y="502"/>
                  </a:lnTo>
                  <a:lnTo>
                    <a:pt x="23" y="509"/>
                  </a:lnTo>
                  <a:lnTo>
                    <a:pt x="23" y="516"/>
                  </a:lnTo>
                  <a:lnTo>
                    <a:pt x="26" y="522"/>
                  </a:lnTo>
                  <a:lnTo>
                    <a:pt x="31" y="527"/>
                  </a:lnTo>
                  <a:lnTo>
                    <a:pt x="38" y="529"/>
                  </a:lnTo>
                  <a:lnTo>
                    <a:pt x="45" y="529"/>
                  </a:lnTo>
                  <a:lnTo>
                    <a:pt x="51" y="525"/>
                  </a:lnTo>
                  <a:lnTo>
                    <a:pt x="58" y="524"/>
                  </a:lnTo>
                  <a:lnTo>
                    <a:pt x="66" y="524"/>
                  </a:lnTo>
                  <a:lnTo>
                    <a:pt x="73" y="524"/>
                  </a:lnTo>
                  <a:lnTo>
                    <a:pt x="81" y="524"/>
                  </a:lnTo>
                  <a:lnTo>
                    <a:pt x="88" y="525"/>
                  </a:lnTo>
                  <a:lnTo>
                    <a:pt x="95" y="527"/>
                  </a:lnTo>
                  <a:lnTo>
                    <a:pt x="103" y="529"/>
                  </a:lnTo>
                  <a:lnTo>
                    <a:pt x="109" y="531"/>
                  </a:lnTo>
                  <a:lnTo>
                    <a:pt x="96" y="535"/>
                  </a:lnTo>
                  <a:lnTo>
                    <a:pt x="84" y="539"/>
                  </a:lnTo>
                  <a:lnTo>
                    <a:pt x="71" y="543"/>
                  </a:lnTo>
                  <a:lnTo>
                    <a:pt x="58" y="548"/>
                  </a:lnTo>
                  <a:lnTo>
                    <a:pt x="47" y="553"/>
                  </a:lnTo>
                  <a:lnTo>
                    <a:pt x="34" y="558"/>
                  </a:lnTo>
                  <a:lnTo>
                    <a:pt x="22" y="564"/>
                  </a:lnTo>
                  <a:lnTo>
                    <a:pt x="11" y="570"/>
                  </a:lnTo>
                  <a:lnTo>
                    <a:pt x="4" y="574"/>
                  </a:lnTo>
                  <a:lnTo>
                    <a:pt x="1" y="579"/>
                  </a:lnTo>
                  <a:lnTo>
                    <a:pt x="0" y="587"/>
                  </a:lnTo>
                  <a:lnTo>
                    <a:pt x="2" y="593"/>
                  </a:lnTo>
                  <a:lnTo>
                    <a:pt x="7" y="600"/>
                  </a:lnTo>
                  <a:lnTo>
                    <a:pt x="13" y="603"/>
                  </a:lnTo>
                  <a:lnTo>
                    <a:pt x="19" y="604"/>
                  </a:lnTo>
                  <a:lnTo>
                    <a:pt x="26" y="602"/>
                  </a:lnTo>
                  <a:lnTo>
                    <a:pt x="35" y="596"/>
                  </a:lnTo>
                  <a:lnTo>
                    <a:pt x="46" y="592"/>
                  </a:lnTo>
                  <a:lnTo>
                    <a:pt x="55" y="588"/>
                  </a:lnTo>
                  <a:lnTo>
                    <a:pt x="66" y="584"/>
                  </a:lnTo>
                  <a:lnTo>
                    <a:pt x="76" y="579"/>
                  </a:lnTo>
                  <a:lnTo>
                    <a:pt x="87" y="575"/>
                  </a:lnTo>
                  <a:lnTo>
                    <a:pt x="96" y="572"/>
                  </a:lnTo>
                  <a:lnTo>
                    <a:pt x="107" y="569"/>
                  </a:lnTo>
                  <a:lnTo>
                    <a:pt x="101" y="578"/>
                  </a:lnTo>
                  <a:lnTo>
                    <a:pt x="94" y="589"/>
                  </a:lnTo>
                  <a:lnTo>
                    <a:pt x="87" y="599"/>
                  </a:lnTo>
                  <a:lnTo>
                    <a:pt x="81" y="609"/>
                  </a:lnTo>
                  <a:lnTo>
                    <a:pt x="74" y="620"/>
                  </a:lnTo>
                  <a:lnTo>
                    <a:pt x="69" y="630"/>
                  </a:lnTo>
                  <a:lnTo>
                    <a:pt x="64" y="641"/>
                  </a:lnTo>
                  <a:lnTo>
                    <a:pt x="59" y="653"/>
                  </a:lnTo>
                  <a:lnTo>
                    <a:pt x="58" y="660"/>
                  </a:lnTo>
                  <a:lnTo>
                    <a:pt x="59" y="666"/>
                  </a:lnTo>
                  <a:lnTo>
                    <a:pt x="64" y="673"/>
                  </a:lnTo>
                  <a:lnTo>
                    <a:pt x="69" y="676"/>
                  </a:lnTo>
                  <a:lnTo>
                    <a:pt x="76" y="678"/>
                  </a:lnTo>
                  <a:lnTo>
                    <a:pt x="83" y="676"/>
                  </a:lnTo>
                  <a:lnTo>
                    <a:pt x="89" y="673"/>
                  </a:lnTo>
                  <a:lnTo>
                    <a:pt x="92" y="666"/>
                  </a:lnTo>
                  <a:lnTo>
                    <a:pt x="98" y="654"/>
                  </a:lnTo>
                  <a:lnTo>
                    <a:pt x="103" y="641"/>
                  </a:lnTo>
                  <a:lnTo>
                    <a:pt x="110" y="629"/>
                  </a:lnTo>
                  <a:lnTo>
                    <a:pt x="118" y="618"/>
                  </a:lnTo>
                  <a:lnTo>
                    <a:pt x="125" y="607"/>
                  </a:lnTo>
                  <a:lnTo>
                    <a:pt x="132" y="595"/>
                  </a:lnTo>
                  <a:lnTo>
                    <a:pt x="140" y="584"/>
                  </a:lnTo>
                  <a:lnTo>
                    <a:pt x="147" y="572"/>
                  </a:lnTo>
                  <a:lnTo>
                    <a:pt x="149" y="568"/>
                  </a:lnTo>
                  <a:lnTo>
                    <a:pt x="150" y="563"/>
                  </a:lnTo>
                  <a:lnTo>
                    <a:pt x="149" y="558"/>
                  </a:lnTo>
                  <a:lnTo>
                    <a:pt x="147" y="553"/>
                  </a:lnTo>
                  <a:lnTo>
                    <a:pt x="148" y="551"/>
                  </a:lnTo>
                  <a:lnTo>
                    <a:pt x="149" y="550"/>
                  </a:lnTo>
                  <a:lnTo>
                    <a:pt x="150" y="548"/>
                  </a:lnTo>
                  <a:lnTo>
                    <a:pt x="152" y="546"/>
                  </a:lnTo>
                  <a:lnTo>
                    <a:pt x="153" y="546"/>
                  </a:lnTo>
                  <a:lnTo>
                    <a:pt x="154" y="546"/>
                  </a:lnTo>
                  <a:lnTo>
                    <a:pt x="155" y="546"/>
                  </a:lnTo>
                  <a:lnTo>
                    <a:pt x="156" y="546"/>
                  </a:lnTo>
                  <a:lnTo>
                    <a:pt x="174" y="537"/>
                  </a:lnTo>
                  <a:lnTo>
                    <a:pt x="192" y="528"/>
                  </a:lnTo>
                  <a:lnTo>
                    <a:pt x="210" y="519"/>
                  </a:lnTo>
                  <a:lnTo>
                    <a:pt x="228" y="510"/>
                  </a:lnTo>
                  <a:lnTo>
                    <a:pt x="246" y="501"/>
                  </a:lnTo>
                  <a:lnTo>
                    <a:pt x="264" y="495"/>
                  </a:lnTo>
                  <a:lnTo>
                    <a:pt x="283" y="488"/>
                  </a:lnTo>
                  <a:lnTo>
                    <a:pt x="303" y="485"/>
                  </a:lnTo>
                  <a:lnTo>
                    <a:pt x="316" y="484"/>
                  </a:lnTo>
                  <a:lnTo>
                    <a:pt x="329" y="483"/>
                  </a:lnTo>
                  <a:lnTo>
                    <a:pt x="342" y="483"/>
                  </a:lnTo>
                  <a:lnTo>
                    <a:pt x="355" y="483"/>
                  </a:lnTo>
                  <a:lnTo>
                    <a:pt x="368" y="484"/>
                  </a:lnTo>
                  <a:lnTo>
                    <a:pt x="381" y="485"/>
                  </a:lnTo>
                  <a:lnTo>
                    <a:pt x="394" y="486"/>
                  </a:lnTo>
                  <a:lnTo>
                    <a:pt x="408" y="488"/>
                  </a:lnTo>
                  <a:lnTo>
                    <a:pt x="420" y="491"/>
                  </a:lnTo>
                  <a:lnTo>
                    <a:pt x="433" y="493"/>
                  </a:lnTo>
                  <a:lnTo>
                    <a:pt x="446" y="495"/>
                  </a:lnTo>
                  <a:lnTo>
                    <a:pt x="459" y="498"/>
                  </a:lnTo>
                  <a:lnTo>
                    <a:pt x="472" y="500"/>
                  </a:lnTo>
                  <a:lnTo>
                    <a:pt x="485" y="503"/>
                  </a:lnTo>
                  <a:lnTo>
                    <a:pt x="498" y="505"/>
                  </a:lnTo>
                  <a:lnTo>
                    <a:pt x="510" y="509"/>
                  </a:lnTo>
                  <a:lnTo>
                    <a:pt x="512" y="510"/>
                  </a:lnTo>
                  <a:lnTo>
                    <a:pt x="513" y="510"/>
                  </a:lnTo>
                  <a:lnTo>
                    <a:pt x="516" y="510"/>
                  </a:lnTo>
                  <a:lnTo>
                    <a:pt x="517" y="510"/>
                  </a:lnTo>
                  <a:lnTo>
                    <a:pt x="509" y="652"/>
                  </a:lnTo>
                  <a:lnTo>
                    <a:pt x="503" y="797"/>
                  </a:lnTo>
                  <a:lnTo>
                    <a:pt x="497" y="942"/>
                  </a:lnTo>
                  <a:lnTo>
                    <a:pt x="491" y="1079"/>
                  </a:lnTo>
                  <a:lnTo>
                    <a:pt x="498" y="1108"/>
                  </a:lnTo>
                  <a:lnTo>
                    <a:pt x="501" y="1112"/>
                  </a:lnTo>
                  <a:lnTo>
                    <a:pt x="505" y="1115"/>
                  </a:lnTo>
                  <a:lnTo>
                    <a:pt x="510" y="1118"/>
                  </a:lnTo>
                  <a:lnTo>
                    <a:pt x="516" y="1118"/>
                  </a:lnTo>
                  <a:lnTo>
                    <a:pt x="536" y="1115"/>
                  </a:lnTo>
                  <a:lnTo>
                    <a:pt x="543" y="1113"/>
                  </a:lnTo>
                  <a:lnTo>
                    <a:pt x="550" y="1110"/>
                  </a:lnTo>
                  <a:lnTo>
                    <a:pt x="558" y="1109"/>
                  </a:lnTo>
                  <a:lnTo>
                    <a:pt x="565" y="1109"/>
                  </a:lnTo>
                  <a:lnTo>
                    <a:pt x="576" y="1110"/>
                  </a:lnTo>
                  <a:lnTo>
                    <a:pt x="588" y="1110"/>
                  </a:lnTo>
                  <a:lnTo>
                    <a:pt x="598" y="1110"/>
                  </a:lnTo>
                  <a:lnTo>
                    <a:pt x="610" y="1110"/>
                  </a:lnTo>
                  <a:lnTo>
                    <a:pt x="620" y="1110"/>
                  </a:lnTo>
                  <a:lnTo>
                    <a:pt x="632" y="1109"/>
                  </a:lnTo>
                  <a:lnTo>
                    <a:pt x="643" y="1109"/>
                  </a:lnTo>
                  <a:lnTo>
                    <a:pt x="653" y="1108"/>
                  </a:lnTo>
                  <a:lnTo>
                    <a:pt x="659" y="1154"/>
                  </a:lnTo>
                  <a:lnTo>
                    <a:pt x="668" y="1198"/>
                  </a:lnTo>
                  <a:lnTo>
                    <a:pt x="675" y="1243"/>
                  </a:lnTo>
                  <a:lnTo>
                    <a:pt x="682" y="1287"/>
                  </a:lnTo>
                  <a:lnTo>
                    <a:pt x="675" y="1303"/>
                  </a:lnTo>
                  <a:lnTo>
                    <a:pt x="669" y="1318"/>
                  </a:lnTo>
                  <a:lnTo>
                    <a:pt x="662" y="1334"/>
                  </a:lnTo>
                  <a:lnTo>
                    <a:pt x="654" y="1350"/>
                  </a:lnTo>
                  <a:lnTo>
                    <a:pt x="634" y="1356"/>
                  </a:lnTo>
                  <a:lnTo>
                    <a:pt x="614" y="1362"/>
                  </a:lnTo>
                  <a:lnTo>
                    <a:pt x="594" y="1369"/>
                  </a:lnTo>
                  <a:lnTo>
                    <a:pt x="574" y="1375"/>
                  </a:lnTo>
                  <a:lnTo>
                    <a:pt x="555" y="1382"/>
                  </a:lnTo>
                  <a:lnTo>
                    <a:pt x="535" y="1390"/>
                  </a:lnTo>
                  <a:lnTo>
                    <a:pt x="515" y="1396"/>
                  </a:lnTo>
                  <a:lnTo>
                    <a:pt x="494" y="1404"/>
                  </a:lnTo>
                  <a:lnTo>
                    <a:pt x="474" y="1412"/>
                  </a:lnTo>
                  <a:lnTo>
                    <a:pt x="454" y="1419"/>
                  </a:lnTo>
                  <a:lnTo>
                    <a:pt x="434" y="1428"/>
                  </a:lnTo>
                  <a:lnTo>
                    <a:pt x="415" y="1436"/>
                  </a:lnTo>
                  <a:lnTo>
                    <a:pt x="395" y="1445"/>
                  </a:lnTo>
                  <a:lnTo>
                    <a:pt x="375" y="1453"/>
                  </a:lnTo>
                  <a:lnTo>
                    <a:pt x="355" y="1462"/>
                  </a:lnTo>
                  <a:lnTo>
                    <a:pt x="335" y="1471"/>
                  </a:lnTo>
                  <a:lnTo>
                    <a:pt x="322" y="1480"/>
                  </a:lnTo>
                  <a:lnTo>
                    <a:pt x="321" y="1482"/>
                  </a:lnTo>
                  <a:lnTo>
                    <a:pt x="319" y="1484"/>
                  </a:lnTo>
                  <a:lnTo>
                    <a:pt x="318" y="1486"/>
                  </a:lnTo>
                  <a:lnTo>
                    <a:pt x="316" y="1488"/>
                  </a:lnTo>
                  <a:lnTo>
                    <a:pt x="311" y="1503"/>
                  </a:lnTo>
                  <a:lnTo>
                    <a:pt x="311" y="1512"/>
                  </a:lnTo>
                  <a:lnTo>
                    <a:pt x="311" y="1520"/>
                  </a:lnTo>
                  <a:lnTo>
                    <a:pt x="311" y="1529"/>
                  </a:lnTo>
                  <a:lnTo>
                    <a:pt x="313" y="1537"/>
                  </a:lnTo>
                  <a:lnTo>
                    <a:pt x="317" y="1554"/>
                  </a:lnTo>
                  <a:lnTo>
                    <a:pt x="318" y="1558"/>
                  </a:lnTo>
                  <a:lnTo>
                    <a:pt x="320" y="1561"/>
                  </a:lnTo>
                  <a:lnTo>
                    <a:pt x="323" y="1563"/>
                  </a:lnTo>
                  <a:lnTo>
                    <a:pt x="326" y="1566"/>
                  </a:lnTo>
                  <a:lnTo>
                    <a:pt x="335" y="1571"/>
                  </a:lnTo>
                  <a:lnTo>
                    <a:pt x="346" y="1580"/>
                  </a:lnTo>
                  <a:lnTo>
                    <a:pt x="358" y="1590"/>
                  </a:lnTo>
                  <a:lnTo>
                    <a:pt x="370" y="1599"/>
                  </a:lnTo>
                  <a:lnTo>
                    <a:pt x="382" y="1608"/>
                  </a:lnTo>
                  <a:lnTo>
                    <a:pt x="394" y="1616"/>
                  </a:lnTo>
                  <a:lnTo>
                    <a:pt x="407" y="1624"/>
                  </a:lnTo>
                  <a:lnTo>
                    <a:pt x="419" y="1632"/>
                  </a:lnTo>
                  <a:lnTo>
                    <a:pt x="433" y="1639"/>
                  </a:lnTo>
                  <a:lnTo>
                    <a:pt x="446" y="1646"/>
                  </a:lnTo>
                  <a:lnTo>
                    <a:pt x="459" y="1652"/>
                  </a:lnTo>
                  <a:lnTo>
                    <a:pt x="473" y="1659"/>
                  </a:lnTo>
                  <a:lnTo>
                    <a:pt x="487" y="1664"/>
                  </a:lnTo>
                  <a:lnTo>
                    <a:pt x="501" y="1669"/>
                  </a:lnTo>
                  <a:lnTo>
                    <a:pt x="516" y="1674"/>
                  </a:lnTo>
                  <a:lnTo>
                    <a:pt x="529" y="1678"/>
                  </a:lnTo>
                  <a:lnTo>
                    <a:pt x="544" y="1682"/>
                  </a:lnTo>
                  <a:lnTo>
                    <a:pt x="558" y="1681"/>
                  </a:lnTo>
                  <a:lnTo>
                    <a:pt x="572" y="1681"/>
                  </a:lnTo>
                  <a:lnTo>
                    <a:pt x="584" y="1680"/>
                  </a:lnTo>
                  <a:lnTo>
                    <a:pt x="598" y="1678"/>
                  </a:lnTo>
                  <a:lnTo>
                    <a:pt x="612" y="1677"/>
                  </a:lnTo>
                  <a:lnTo>
                    <a:pt x="626" y="1676"/>
                  </a:lnTo>
                  <a:lnTo>
                    <a:pt x="638" y="1674"/>
                  </a:lnTo>
                  <a:lnTo>
                    <a:pt x="652" y="1672"/>
                  </a:lnTo>
                  <a:lnTo>
                    <a:pt x="652" y="1675"/>
                  </a:lnTo>
                  <a:lnTo>
                    <a:pt x="653" y="1678"/>
                  </a:lnTo>
                  <a:lnTo>
                    <a:pt x="653" y="1681"/>
                  </a:lnTo>
                  <a:lnTo>
                    <a:pt x="653" y="1685"/>
                  </a:lnTo>
                  <a:lnTo>
                    <a:pt x="652" y="1693"/>
                  </a:lnTo>
                  <a:lnTo>
                    <a:pt x="652" y="1695"/>
                  </a:lnTo>
                  <a:lnTo>
                    <a:pt x="653" y="1697"/>
                  </a:lnTo>
                  <a:lnTo>
                    <a:pt x="654" y="1699"/>
                  </a:lnTo>
                  <a:lnTo>
                    <a:pt x="655" y="1701"/>
                  </a:lnTo>
                  <a:lnTo>
                    <a:pt x="663" y="1713"/>
                  </a:lnTo>
                  <a:lnTo>
                    <a:pt x="673" y="1721"/>
                  </a:lnTo>
                  <a:lnTo>
                    <a:pt x="686" y="1729"/>
                  </a:lnTo>
                  <a:lnTo>
                    <a:pt x="700" y="1733"/>
                  </a:lnTo>
                  <a:lnTo>
                    <a:pt x="713" y="1736"/>
                  </a:lnTo>
                  <a:lnTo>
                    <a:pt x="727" y="1737"/>
                  </a:lnTo>
                  <a:lnTo>
                    <a:pt x="741" y="1736"/>
                  </a:lnTo>
                  <a:lnTo>
                    <a:pt x="754" y="1732"/>
                  </a:lnTo>
                  <a:lnTo>
                    <a:pt x="765" y="1724"/>
                  </a:lnTo>
                  <a:lnTo>
                    <a:pt x="778" y="1710"/>
                  </a:lnTo>
                  <a:lnTo>
                    <a:pt x="784" y="1691"/>
                  </a:lnTo>
                  <a:lnTo>
                    <a:pt x="784" y="1670"/>
                  </a:lnTo>
                  <a:lnTo>
                    <a:pt x="778" y="1651"/>
                  </a:lnTo>
                  <a:lnTo>
                    <a:pt x="778" y="1650"/>
                  </a:lnTo>
                  <a:lnTo>
                    <a:pt x="777" y="1649"/>
                  </a:lnTo>
                  <a:lnTo>
                    <a:pt x="777" y="1648"/>
                  </a:lnTo>
                  <a:lnTo>
                    <a:pt x="776" y="1647"/>
                  </a:lnTo>
                  <a:lnTo>
                    <a:pt x="790" y="1644"/>
                  </a:lnTo>
                  <a:lnTo>
                    <a:pt x="802" y="1640"/>
                  </a:lnTo>
                  <a:lnTo>
                    <a:pt x="816" y="1637"/>
                  </a:lnTo>
                  <a:lnTo>
                    <a:pt x="830" y="1632"/>
                  </a:lnTo>
                  <a:lnTo>
                    <a:pt x="843" y="1629"/>
                  </a:lnTo>
                  <a:lnTo>
                    <a:pt x="856" y="1625"/>
                  </a:lnTo>
                  <a:lnTo>
                    <a:pt x="870" y="1621"/>
                  </a:lnTo>
                  <a:lnTo>
                    <a:pt x="883" y="1616"/>
                  </a:lnTo>
                  <a:lnTo>
                    <a:pt x="897" y="1612"/>
                  </a:lnTo>
                  <a:lnTo>
                    <a:pt x="909" y="1608"/>
                  </a:lnTo>
                  <a:lnTo>
                    <a:pt x="923" y="1603"/>
                  </a:lnTo>
                  <a:lnTo>
                    <a:pt x="936" y="1598"/>
                  </a:lnTo>
                  <a:lnTo>
                    <a:pt x="949" y="1593"/>
                  </a:lnTo>
                  <a:lnTo>
                    <a:pt x="962" y="1589"/>
                  </a:lnTo>
                  <a:lnTo>
                    <a:pt x="976" y="1584"/>
                  </a:lnTo>
                  <a:lnTo>
                    <a:pt x="989" y="1578"/>
                  </a:lnTo>
                  <a:lnTo>
                    <a:pt x="1002" y="1572"/>
                  </a:lnTo>
                  <a:lnTo>
                    <a:pt x="1016" y="1567"/>
                  </a:lnTo>
                  <a:lnTo>
                    <a:pt x="1030" y="1560"/>
                  </a:lnTo>
                  <a:lnTo>
                    <a:pt x="1044" y="1555"/>
                  </a:lnTo>
                  <a:lnTo>
                    <a:pt x="1057" y="1550"/>
                  </a:lnTo>
                  <a:lnTo>
                    <a:pt x="1071" y="1543"/>
                  </a:lnTo>
                  <a:lnTo>
                    <a:pt x="1085" y="1538"/>
                  </a:lnTo>
                  <a:lnTo>
                    <a:pt x="1099" y="1532"/>
                  </a:lnTo>
                  <a:lnTo>
                    <a:pt x="1104" y="1543"/>
                  </a:lnTo>
                  <a:lnTo>
                    <a:pt x="1110" y="1554"/>
                  </a:lnTo>
                  <a:lnTo>
                    <a:pt x="1120" y="1563"/>
                  </a:lnTo>
                  <a:lnTo>
                    <a:pt x="1130" y="1571"/>
                  </a:lnTo>
                  <a:lnTo>
                    <a:pt x="1141" y="1576"/>
                  </a:lnTo>
                  <a:lnTo>
                    <a:pt x="1154" y="1580"/>
                  </a:lnTo>
                  <a:lnTo>
                    <a:pt x="1166" y="1583"/>
                  </a:lnTo>
                  <a:lnTo>
                    <a:pt x="1180" y="1581"/>
                  </a:lnTo>
                  <a:lnTo>
                    <a:pt x="1201" y="1574"/>
                  </a:lnTo>
                  <a:lnTo>
                    <a:pt x="1205" y="1572"/>
                  </a:lnTo>
                  <a:lnTo>
                    <a:pt x="1208" y="1570"/>
                  </a:lnTo>
                  <a:lnTo>
                    <a:pt x="1211" y="1567"/>
                  </a:lnTo>
                  <a:lnTo>
                    <a:pt x="1213" y="1562"/>
                  </a:lnTo>
                  <a:lnTo>
                    <a:pt x="1215" y="1553"/>
                  </a:lnTo>
                  <a:lnTo>
                    <a:pt x="1222" y="1534"/>
                  </a:lnTo>
                  <a:lnTo>
                    <a:pt x="1225" y="1514"/>
                  </a:lnTo>
                  <a:lnTo>
                    <a:pt x="1219" y="1494"/>
                  </a:lnTo>
                  <a:lnTo>
                    <a:pt x="1207" y="1478"/>
                  </a:lnTo>
                  <a:lnTo>
                    <a:pt x="1217" y="1471"/>
                  </a:lnTo>
                  <a:lnTo>
                    <a:pt x="1229" y="1465"/>
                  </a:lnTo>
                  <a:lnTo>
                    <a:pt x="1239" y="1458"/>
                  </a:lnTo>
                  <a:lnTo>
                    <a:pt x="1251" y="1451"/>
                  </a:lnTo>
                  <a:lnTo>
                    <a:pt x="1262" y="1444"/>
                  </a:lnTo>
                  <a:lnTo>
                    <a:pt x="1272" y="1436"/>
                  </a:lnTo>
                  <a:lnTo>
                    <a:pt x="1282" y="1429"/>
                  </a:lnTo>
                  <a:lnTo>
                    <a:pt x="1292" y="1422"/>
                  </a:lnTo>
                  <a:lnTo>
                    <a:pt x="1308" y="1410"/>
                  </a:lnTo>
                  <a:lnTo>
                    <a:pt x="1310" y="1408"/>
                  </a:lnTo>
                  <a:lnTo>
                    <a:pt x="1312" y="1405"/>
                  </a:lnTo>
                  <a:lnTo>
                    <a:pt x="1314" y="1401"/>
                  </a:lnTo>
                  <a:lnTo>
                    <a:pt x="1315" y="1397"/>
                  </a:lnTo>
                  <a:lnTo>
                    <a:pt x="1316" y="1381"/>
                  </a:lnTo>
                  <a:lnTo>
                    <a:pt x="1307" y="1364"/>
                  </a:lnTo>
                  <a:lnTo>
                    <a:pt x="1298" y="1350"/>
                  </a:lnTo>
                  <a:lnTo>
                    <a:pt x="1286" y="1336"/>
                  </a:lnTo>
                  <a:lnTo>
                    <a:pt x="1273" y="1323"/>
                  </a:lnTo>
                  <a:lnTo>
                    <a:pt x="1261" y="1311"/>
                  </a:lnTo>
                  <a:lnTo>
                    <a:pt x="1246" y="1302"/>
                  </a:lnTo>
                  <a:lnTo>
                    <a:pt x="1231" y="1292"/>
                  </a:lnTo>
                  <a:lnTo>
                    <a:pt x="1215" y="1284"/>
                  </a:lnTo>
                  <a:lnTo>
                    <a:pt x="1198" y="1277"/>
                  </a:lnTo>
                  <a:lnTo>
                    <a:pt x="1181" y="1271"/>
                  </a:lnTo>
                  <a:lnTo>
                    <a:pt x="1163" y="1265"/>
                  </a:lnTo>
                  <a:lnTo>
                    <a:pt x="1146" y="1261"/>
                  </a:lnTo>
                  <a:lnTo>
                    <a:pt x="1128" y="1256"/>
                  </a:lnTo>
                  <a:lnTo>
                    <a:pt x="1110" y="1252"/>
                  </a:lnTo>
                  <a:lnTo>
                    <a:pt x="1092" y="1249"/>
                  </a:lnTo>
                  <a:lnTo>
                    <a:pt x="1075" y="1247"/>
                  </a:lnTo>
                  <a:lnTo>
                    <a:pt x="1074" y="1247"/>
                  </a:lnTo>
                  <a:lnTo>
                    <a:pt x="1072" y="1247"/>
                  </a:lnTo>
                  <a:lnTo>
                    <a:pt x="1071" y="1247"/>
                  </a:lnTo>
                  <a:lnTo>
                    <a:pt x="1069" y="1248"/>
                  </a:lnTo>
                  <a:lnTo>
                    <a:pt x="1069" y="1248"/>
                  </a:lnTo>
                  <a:lnTo>
                    <a:pt x="1058" y="1250"/>
                  </a:lnTo>
                  <a:lnTo>
                    <a:pt x="1048" y="1252"/>
                  </a:lnTo>
                  <a:lnTo>
                    <a:pt x="1037" y="1254"/>
                  </a:lnTo>
                  <a:lnTo>
                    <a:pt x="1028" y="1256"/>
                  </a:lnTo>
                  <a:lnTo>
                    <a:pt x="1017" y="1258"/>
                  </a:lnTo>
                  <a:lnTo>
                    <a:pt x="1007" y="1261"/>
                  </a:lnTo>
                  <a:lnTo>
                    <a:pt x="996" y="1263"/>
                  </a:lnTo>
                  <a:lnTo>
                    <a:pt x="987" y="1265"/>
                  </a:lnTo>
                  <a:lnTo>
                    <a:pt x="991" y="1258"/>
                  </a:lnTo>
                  <a:lnTo>
                    <a:pt x="995" y="1252"/>
                  </a:lnTo>
                  <a:lnTo>
                    <a:pt x="1000" y="1246"/>
                  </a:lnTo>
                  <a:lnTo>
                    <a:pt x="1007" y="1240"/>
                  </a:lnTo>
                  <a:lnTo>
                    <a:pt x="1027" y="1215"/>
                  </a:lnTo>
                  <a:lnTo>
                    <a:pt x="1028" y="1213"/>
                  </a:lnTo>
                  <a:lnTo>
                    <a:pt x="1029" y="1210"/>
                  </a:lnTo>
                  <a:lnTo>
                    <a:pt x="1029" y="1208"/>
                  </a:lnTo>
                  <a:lnTo>
                    <a:pt x="1029" y="1205"/>
                  </a:lnTo>
                  <a:lnTo>
                    <a:pt x="1026" y="1187"/>
                  </a:lnTo>
                  <a:lnTo>
                    <a:pt x="1015" y="1146"/>
                  </a:lnTo>
                  <a:lnTo>
                    <a:pt x="1007" y="1105"/>
                  </a:lnTo>
                  <a:lnTo>
                    <a:pt x="1000" y="1062"/>
                  </a:lnTo>
                  <a:lnTo>
                    <a:pt x="999" y="1020"/>
                  </a:lnTo>
                  <a:lnTo>
                    <a:pt x="1003" y="1019"/>
                  </a:lnTo>
                  <a:lnTo>
                    <a:pt x="1008" y="1018"/>
                  </a:lnTo>
                  <a:lnTo>
                    <a:pt x="1012" y="1017"/>
                  </a:lnTo>
                  <a:lnTo>
                    <a:pt x="1017" y="1015"/>
                  </a:lnTo>
                  <a:lnTo>
                    <a:pt x="1021" y="1014"/>
                  </a:lnTo>
                  <a:lnTo>
                    <a:pt x="1026" y="1013"/>
                  </a:lnTo>
                  <a:lnTo>
                    <a:pt x="1030" y="1012"/>
                  </a:lnTo>
                  <a:lnTo>
                    <a:pt x="1034" y="1011"/>
                  </a:lnTo>
                  <a:lnTo>
                    <a:pt x="1089" y="981"/>
                  </a:lnTo>
                  <a:lnTo>
                    <a:pt x="1090" y="981"/>
                  </a:lnTo>
                  <a:lnTo>
                    <a:pt x="1090" y="980"/>
                  </a:lnTo>
                  <a:lnTo>
                    <a:pt x="1090" y="980"/>
                  </a:lnTo>
                  <a:lnTo>
                    <a:pt x="1091" y="980"/>
                  </a:lnTo>
                  <a:lnTo>
                    <a:pt x="1096" y="975"/>
                  </a:lnTo>
                  <a:lnTo>
                    <a:pt x="1098" y="967"/>
                  </a:lnTo>
                  <a:lnTo>
                    <a:pt x="1098" y="961"/>
                  </a:lnTo>
                  <a:lnTo>
                    <a:pt x="1094" y="954"/>
                  </a:lnTo>
                  <a:lnTo>
                    <a:pt x="1087" y="945"/>
                  </a:lnTo>
                  <a:lnTo>
                    <a:pt x="1084" y="933"/>
                  </a:lnTo>
                  <a:lnTo>
                    <a:pt x="1073" y="909"/>
                  </a:lnTo>
                  <a:lnTo>
                    <a:pt x="1063" y="885"/>
                  </a:lnTo>
                  <a:lnTo>
                    <a:pt x="1052" y="858"/>
                  </a:lnTo>
                  <a:lnTo>
                    <a:pt x="1040" y="832"/>
                  </a:lnTo>
                  <a:lnTo>
                    <a:pt x="1030" y="805"/>
                  </a:lnTo>
                  <a:lnTo>
                    <a:pt x="1018" y="776"/>
                  </a:lnTo>
                  <a:lnTo>
                    <a:pt x="1007" y="749"/>
                  </a:lnTo>
                  <a:lnTo>
                    <a:pt x="995" y="720"/>
                  </a:lnTo>
                  <a:lnTo>
                    <a:pt x="983" y="692"/>
                  </a:lnTo>
                  <a:lnTo>
                    <a:pt x="972" y="663"/>
                  </a:lnTo>
                  <a:lnTo>
                    <a:pt x="960" y="635"/>
                  </a:lnTo>
                  <a:lnTo>
                    <a:pt x="948" y="607"/>
                  </a:lnTo>
                  <a:lnTo>
                    <a:pt x="937" y="579"/>
                  </a:lnTo>
                  <a:lnTo>
                    <a:pt x="926" y="552"/>
                  </a:lnTo>
                  <a:lnTo>
                    <a:pt x="915" y="525"/>
                  </a:lnTo>
                  <a:lnTo>
                    <a:pt x="903" y="499"/>
                  </a:lnTo>
                  <a:lnTo>
                    <a:pt x="923" y="491"/>
                  </a:lnTo>
                  <a:lnTo>
                    <a:pt x="943" y="482"/>
                  </a:lnTo>
                  <a:lnTo>
                    <a:pt x="963" y="474"/>
                  </a:lnTo>
                  <a:lnTo>
                    <a:pt x="983" y="466"/>
                  </a:lnTo>
                  <a:lnTo>
                    <a:pt x="1003" y="459"/>
                  </a:lnTo>
                  <a:lnTo>
                    <a:pt x="1025" y="451"/>
                  </a:lnTo>
                  <a:lnTo>
                    <a:pt x="1045" y="444"/>
                  </a:lnTo>
                  <a:lnTo>
                    <a:pt x="1066" y="438"/>
                  </a:lnTo>
                  <a:lnTo>
                    <a:pt x="1078" y="433"/>
                  </a:lnTo>
                  <a:lnTo>
                    <a:pt x="1090" y="430"/>
                  </a:lnTo>
                  <a:lnTo>
                    <a:pt x="1102" y="426"/>
                  </a:lnTo>
                  <a:lnTo>
                    <a:pt x="1113" y="423"/>
                  </a:lnTo>
                  <a:lnTo>
                    <a:pt x="1126" y="418"/>
                  </a:lnTo>
                  <a:lnTo>
                    <a:pt x="1138" y="415"/>
                  </a:lnTo>
                  <a:lnTo>
                    <a:pt x="1151" y="412"/>
                  </a:lnTo>
                  <a:lnTo>
                    <a:pt x="1162" y="410"/>
                  </a:lnTo>
                  <a:lnTo>
                    <a:pt x="1175" y="407"/>
                  </a:lnTo>
                  <a:lnTo>
                    <a:pt x="1187" y="405"/>
                  </a:lnTo>
                  <a:lnTo>
                    <a:pt x="1199" y="404"/>
                  </a:lnTo>
                  <a:lnTo>
                    <a:pt x="1212" y="403"/>
                  </a:lnTo>
                  <a:lnTo>
                    <a:pt x="1224" y="403"/>
                  </a:lnTo>
                  <a:lnTo>
                    <a:pt x="1236" y="403"/>
                  </a:lnTo>
                  <a:lnTo>
                    <a:pt x="1248" y="403"/>
                  </a:lnTo>
                  <a:lnTo>
                    <a:pt x="1261" y="405"/>
                  </a:lnTo>
                  <a:lnTo>
                    <a:pt x="1263" y="409"/>
                  </a:lnTo>
                  <a:lnTo>
                    <a:pt x="1267" y="412"/>
                  </a:lnTo>
                  <a:lnTo>
                    <a:pt x="1271" y="414"/>
                  </a:lnTo>
                  <a:lnTo>
                    <a:pt x="1276" y="415"/>
                  </a:lnTo>
                  <a:lnTo>
                    <a:pt x="1289" y="415"/>
                  </a:lnTo>
                  <a:lnTo>
                    <a:pt x="1302" y="415"/>
                  </a:lnTo>
                  <a:lnTo>
                    <a:pt x="1315" y="415"/>
                  </a:lnTo>
                  <a:lnTo>
                    <a:pt x="1327" y="415"/>
                  </a:lnTo>
                  <a:lnTo>
                    <a:pt x="1339" y="415"/>
                  </a:lnTo>
                  <a:lnTo>
                    <a:pt x="1352" y="415"/>
                  </a:lnTo>
                  <a:lnTo>
                    <a:pt x="1364" y="415"/>
                  </a:lnTo>
                  <a:lnTo>
                    <a:pt x="1377" y="415"/>
                  </a:lnTo>
                  <a:lnTo>
                    <a:pt x="1383" y="414"/>
                  </a:lnTo>
                  <a:lnTo>
                    <a:pt x="1390" y="410"/>
                  </a:lnTo>
                  <a:lnTo>
                    <a:pt x="1394" y="405"/>
                  </a:lnTo>
                  <a:lnTo>
                    <a:pt x="1395" y="397"/>
                  </a:lnTo>
                  <a:lnTo>
                    <a:pt x="1394" y="391"/>
                  </a:lnTo>
                  <a:lnTo>
                    <a:pt x="1390" y="385"/>
                  </a:lnTo>
                  <a:lnTo>
                    <a:pt x="1383" y="380"/>
                  </a:lnTo>
                  <a:lnTo>
                    <a:pt x="1377" y="37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280" y="3084840"/>
              <a:ext cx="810720" cy="267480"/>
            </a:xfrm>
            <a:prstGeom prst="rect">
              <a:avLst/>
            </a:prstGeom>
            <a:gradFill rotWithShape="0">
              <a:gsLst>
                <a:gs pos="0">
                  <a:srgbClr val="5373d9"/>
                </a:gs>
                <a:gs pos="100000">
                  <a:srgbClr val="263564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33400" y="2709720"/>
              <a:ext cx="60840" cy="7632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6" y="164"/>
                  </a:moveTo>
                  <a:lnTo>
                    <a:pt x="98" y="169"/>
                  </a:lnTo>
                  <a:lnTo>
                    <a:pt x="91" y="172"/>
                  </a:lnTo>
                  <a:lnTo>
                    <a:pt x="83" y="176"/>
                  </a:lnTo>
                  <a:lnTo>
                    <a:pt x="75" y="179"/>
                  </a:lnTo>
                  <a:lnTo>
                    <a:pt x="66" y="181"/>
                  </a:lnTo>
                  <a:lnTo>
                    <a:pt x="65" y="180"/>
                  </a:lnTo>
                  <a:lnTo>
                    <a:pt x="61" y="175"/>
                  </a:lnTo>
                  <a:lnTo>
                    <a:pt x="53" y="157"/>
                  </a:lnTo>
                  <a:lnTo>
                    <a:pt x="46" y="140"/>
                  </a:lnTo>
                  <a:lnTo>
                    <a:pt x="38" y="122"/>
                  </a:lnTo>
                  <a:lnTo>
                    <a:pt x="31" y="103"/>
                  </a:lnTo>
                  <a:lnTo>
                    <a:pt x="23" y="85"/>
                  </a:lnTo>
                  <a:lnTo>
                    <a:pt x="16" y="67"/>
                  </a:lnTo>
                  <a:lnTo>
                    <a:pt x="9" y="50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5" y="0"/>
                  </a:lnTo>
                  <a:lnTo>
                    <a:pt x="43" y="19"/>
                  </a:lnTo>
                  <a:lnTo>
                    <a:pt x="52" y="38"/>
                  </a:lnTo>
                  <a:lnTo>
                    <a:pt x="60" y="59"/>
                  </a:lnTo>
                  <a:lnTo>
                    <a:pt x="70" y="79"/>
                  </a:lnTo>
                  <a:lnTo>
                    <a:pt x="78" y="100"/>
                  </a:lnTo>
                  <a:lnTo>
                    <a:pt x="88" y="121"/>
                  </a:lnTo>
                  <a:lnTo>
                    <a:pt x="96" y="142"/>
                  </a:lnTo>
                  <a:lnTo>
                    <a:pt x="106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18200" y="2720160"/>
              <a:ext cx="125640" cy="53640"/>
            </a:xfrm>
            <a:custGeom>
              <a:avLst/>
              <a:gdLst/>
              <a:ahLst/>
              <a:rect l="l" t="t" r="r" b="b"/>
              <a:pathLst>
                <a:path w="218" h="125">
                  <a:moveTo>
                    <a:pt x="0" y="0"/>
                  </a:moveTo>
                  <a:lnTo>
                    <a:pt x="19" y="6"/>
                  </a:lnTo>
                  <a:lnTo>
                    <a:pt x="37" y="11"/>
                  </a:lnTo>
                  <a:lnTo>
                    <a:pt x="57" y="16"/>
                  </a:lnTo>
                  <a:lnTo>
                    <a:pt x="76" y="20"/>
                  </a:lnTo>
                  <a:lnTo>
                    <a:pt x="95" y="23"/>
                  </a:lnTo>
                  <a:lnTo>
                    <a:pt x="115" y="25"/>
                  </a:lnTo>
                  <a:lnTo>
                    <a:pt x="134" y="27"/>
                  </a:lnTo>
                  <a:lnTo>
                    <a:pt x="152" y="28"/>
                  </a:lnTo>
                  <a:lnTo>
                    <a:pt x="159" y="26"/>
                  </a:lnTo>
                  <a:lnTo>
                    <a:pt x="167" y="23"/>
                  </a:lnTo>
                  <a:lnTo>
                    <a:pt x="175" y="20"/>
                  </a:lnTo>
                  <a:lnTo>
                    <a:pt x="182" y="17"/>
                  </a:lnTo>
                  <a:lnTo>
                    <a:pt x="186" y="27"/>
                  </a:lnTo>
                  <a:lnTo>
                    <a:pt x="192" y="38"/>
                  </a:lnTo>
                  <a:lnTo>
                    <a:pt x="196" y="48"/>
                  </a:lnTo>
                  <a:lnTo>
                    <a:pt x="200" y="59"/>
                  </a:lnTo>
                  <a:lnTo>
                    <a:pt x="206" y="70"/>
                  </a:lnTo>
                  <a:lnTo>
                    <a:pt x="210" y="81"/>
                  </a:lnTo>
                  <a:lnTo>
                    <a:pt x="214" y="92"/>
                  </a:lnTo>
                  <a:lnTo>
                    <a:pt x="218" y="102"/>
                  </a:lnTo>
                  <a:lnTo>
                    <a:pt x="204" y="104"/>
                  </a:lnTo>
                  <a:lnTo>
                    <a:pt x="191" y="107"/>
                  </a:lnTo>
                  <a:lnTo>
                    <a:pt x="178" y="109"/>
                  </a:lnTo>
                  <a:lnTo>
                    <a:pt x="164" y="111"/>
                  </a:lnTo>
                  <a:lnTo>
                    <a:pt x="150" y="113"/>
                  </a:lnTo>
                  <a:lnTo>
                    <a:pt x="137" y="114"/>
                  </a:lnTo>
                  <a:lnTo>
                    <a:pt x="123" y="116"/>
                  </a:lnTo>
                  <a:lnTo>
                    <a:pt x="109" y="117"/>
                  </a:lnTo>
                  <a:lnTo>
                    <a:pt x="95" y="118"/>
                  </a:lnTo>
                  <a:lnTo>
                    <a:pt x="83" y="119"/>
                  </a:lnTo>
                  <a:lnTo>
                    <a:pt x="69" y="120"/>
                  </a:lnTo>
                  <a:lnTo>
                    <a:pt x="55" y="121"/>
                  </a:lnTo>
                  <a:lnTo>
                    <a:pt x="41" y="123"/>
                  </a:lnTo>
                  <a:lnTo>
                    <a:pt x="28" y="123"/>
                  </a:lnTo>
                  <a:lnTo>
                    <a:pt x="14" y="124"/>
                  </a:lnTo>
                  <a:lnTo>
                    <a:pt x="0" y="125"/>
                  </a:lnTo>
                  <a:lnTo>
                    <a:pt x="0" y="94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400" y="2566800"/>
              <a:ext cx="212760" cy="147960"/>
            </a:xfrm>
            <a:custGeom>
              <a:avLst/>
              <a:gdLst/>
              <a:ahLst/>
              <a:rect l="l" t="t" r="r" b="b"/>
              <a:pathLst>
                <a:path w="366" h="346">
                  <a:moveTo>
                    <a:pt x="0" y="221"/>
                  </a:moveTo>
                  <a:lnTo>
                    <a:pt x="1" y="192"/>
                  </a:lnTo>
                  <a:lnTo>
                    <a:pt x="5" y="164"/>
                  </a:lnTo>
                  <a:lnTo>
                    <a:pt x="15" y="138"/>
                  </a:lnTo>
                  <a:lnTo>
                    <a:pt x="28" y="113"/>
                  </a:lnTo>
                  <a:lnTo>
                    <a:pt x="42" y="90"/>
                  </a:lnTo>
                  <a:lnTo>
                    <a:pt x="60" y="67"/>
                  </a:lnTo>
                  <a:lnTo>
                    <a:pt x="81" y="47"/>
                  </a:lnTo>
                  <a:lnTo>
                    <a:pt x="102" y="28"/>
                  </a:lnTo>
                  <a:lnTo>
                    <a:pt x="107" y="24"/>
                  </a:lnTo>
                  <a:lnTo>
                    <a:pt x="113" y="19"/>
                  </a:lnTo>
                  <a:lnTo>
                    <a:pt x="120" y="15"/>
                  </a:lnTo>
                  <a:lnTo>
                    <a:pt x="126" y="11"/>
                  </a:lnTo>
                  <a:lnTo>
                    <a:pt x="132" y="7"/>
                  </a:lnTo>
                  <a:lnTo>
                    <a:pt x="139" y="5"/>
                  </a:lnTo>
                  <a:lnTo>
                    <a:pt x="145" y="2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1"/>
                  </a:lnTo>
                  <a:lnTo>
                    <a:pt x="167" y="6"/>
                  </a:lnTo>
                  <a:lnTo>
                    <a:pt x="172" y="10"/>
                  </a:lnTo>
                  <a:lnTo>
                    <a:pt x="176" y="13"/>
                  </a:lnTo>
                  <a:lnTo>
                    <a:pt x="182" y="15"/>
                  </a:lnTo>
                  <a:lnTo>
                    <a:pt x="201" y="13"/>
                  </a:lnTo>
                  <a:lnTo>
                    <a:pt x="220" y="15"/>
                  </a:lnTo>
                  <a:lnTo>
                    <a:pt x="239" y="18"/>
                  </a:lnTo>
                  <a:lnTo>
                    <a:pt x="257" y="23"/>
                  </a:lnTo>
                  <a:lnTo>
                    <a:pt x="275" y="30"/>
                  </a:lnTo>
                  <a:lnTo>
                    <a:pt x="292" y="39"/>
                  </a:lnTo>
                  <a:lnTo>
                    <a:pt x="308" y="49"/>
                  </a:lnTo>
                  <a:lnTo>
                    <a:pt x="323" y="62"/>
                  </a:lnTo>
                  <a:lnTo>
                    <a:pt x="340" y="81"/>
                  </a:lnTo>
                  <a:lnTo>
                    <a:pt x="353" y="102"/>
                  </a:lnTo>
                  <a:lnTo>
                    <a:pt x="361" y="125"/>
                  </a:lnTo>
                  <a:lnTo>
                    <a:pt x="365" y="149"/>
                  </a:lnTo>
                  <a:lnTo>
                    <a:pt x="366" y="173"/>
                  </a:lnTo>
                  <a:lnTo>
                    <a:pt x="364" y="199"/>
                  </a:lnTo>
                  <a:lnTo>
                    <a:pt x="359" y="223"/>
                  </a:lnTo>
                  <a:lnTo>
                    <a:pt x="350" y="246"/>
                  </a:lnTo>
                  <a:lnTo>
                    <a:pt x="343" y="263"/>
                  </a:lnTo>
                  <a:lnTo>
                    <a:pt x="335" y="280"/>
                  </a:lnTo>
                  <a:lnTo>
                    <a:pt x="325" y="297"/>
                  </a:lnTo>
                  <a:lnTo>
                    <a:pt x="313" y="312"/>
                  </a:lnTo>
                  <a:lnTo>
                    <a:pt x="301" y="325"/>
                  </a:lnTo>
                  <a:lnTo>
                    <a:pt x="287" y="335"/>
                  </a:lnTo>
                  <a:lnTo>
                    <a:pt x="270" y="343"/>
                  </a:lnTo>
                  <a:lnTo>
                    <a:pt x="251" y="346"/>
                  </a:lnTo>
                  <a:lnTo>
                    <a:pt x="233" y="346"/>
                  </a:lnTo>
                  <a:lnTo>
                    <a:pt x="215" y="345"/>
                  </a:lnTo>
                  <a:lnTo>
                    <a:pt x="197" y="343"/>
                  </a:lnTo>
                  <a:lnTo>
                    <a:pt x="179" y="340"/>
                  </a:lnTo>
                  <a:lnTo>
                    <a:pt x="160" y="337"/>
                  </a:lnTo>
                  <a:lnTo>
                    <a:pt x="142" y="331"/>
                  </a:lnTo>
                  <a:lnTo>
                    <a:pt x="125" y="325"/>
                  </a:lnTo>
                  <a:lnTo>
                    <a:pt x="107" y="319"/>
                  </a:lnTo>
                  <a:lnTo>
                    <a:pt x="90" y="310"/>
                  </a:lnTo>
                  <a:lnTo>
                    <a:pt x="74" y="300"/>
                  </a:lnTo>
                  <a:lnTo>
                    <a:pt x="59" y="290"/>
                  </a:lnTo>
                  <a:lnTo>
                    <a:pt x="45" y="279"/>
                  </a:lnTo>
                  <a:lnTo>
                    <a:pt x="32" y="267"/>
                  </a:lnTo>
                  <a:lnTo>
                    <a:pt x="20" y="253"/>
                  </a:lnTo>
                  <a:lnTo>
                    <a:pt x="10" y="23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7520" y="2706120"/>
              <a:ext cx="31320" cy="103680"/>
            </a:xfrm>
            <a:custGeom>
              <a:avLst/>
              <a:gdLst/>
              <a:ahLst/>
              <a:rect l="l" t="t" r="r" b="b"/>
              <a:pathLst>
                <a:path w="54" h="242">
                  <a:moveTo>
                    <a:pt x="54" y="25"/>
                  </a:moveTo>
                  <a:lnTo>
                    <a:pt x="53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2"/>
                  </a:lnTo>
                  <a:lnTo>
                    <a:pt x="51" y="64"/>
                  </a:lnTo>
                  <a:lnTo>
                    <a:pt x="51" y="96"/>
                  </a:lnTo>
                  <a:lnTo>
                    <a:pt x="51" y="128"/>
                  </a:lnTo>
                  <a:lnTo>
                    <a:pt x="51" y="161"/>
                  </a:lnTo>
                  <a:lnTo>
                    <a:pt x="50" y="163"/>
                  </a:lnTo>
                  <a:lnTo>
                    <a:pt x="50" y="166"/>
                  </a:lnTo>
                  <a:lnTo>
                    <a:pt x="50" y="168"/>
                  </a:lnTo>
                  <a:lnTo>
                    <a:pt x="51" y="170"/>
                  </a:lnTo>
                  <a:lnTo>
                    <a:pt x="51" y="200"/>
                  </a:lnTo>
                  <a:lnTo>
                    <a:pt x="51" y="222"/>
                  </a:lnTo>
                  <a:lnTo>
                    <a:pt x="51" y="236"/>
                  </a:lnTo>
                  <a:lnTo>
                    <a:pt x="51" y="241"/>
                  </a:lnTo>
                  <a:lnTo>
                    <a:pt x="49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2"/>
                  </a:lnTo>
                  <a:lnTo>
                    <a:pt x="25" y="242"/>
                  </a:lnTo>
                  <a:lnTo>
                    <a:pt x="18" y="242"/>
                  </a:lnTo>
                  <a:lnTo>
                    <a:pt x="12" y="242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1" y="180"/>
                  </a:lnTo>
                  <a:lnTo>
                    <a:pt x="1" y="117"/>
                  </a:lnTo>
                  <a:lnTo>
                    <a:pt x="3" y="57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7" y="7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5" y="17"/>
                  </a:lnTo>
                  <a:lnTo>
                    <a:pt x="42" y="20"/>
                  </a:lnTo>
                  <a:lnTo>
                    <a:pt x="48" y="22"/>
                  </a:lnTo>
                  <a:lnTo>
                    <a:pt x="5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48080" y="3218760"/>
              <a:ext cx="46080" cy="1944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3" y="8"/>
                  </a:moveTo>
                  <a:lnTo>
                    <a:pt x="76" y="17"/>
                  </a:lnTo>
                  <a:lnTo>
                    <a:pt x="78" y="24"/>
                  </a:lnTo>
                  <a:lnTo>
                    <a:pt x="78" y="31"/>
                  </a:lnTo>
                  <a:lnTo>
                    <a:pt x="75" y="39"/>
                  </a:lnTo>
                  <a:lnTo>
                    <a:pt x="71" y="43"/>
                  </a:lnTo>
                  <a:lnTo>
                    <a:pt x="66" y="46"/>
                  </a:lnTo>
                  <a:lnTo>
                    <a:pt x="59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9" y="43"/>
                  </a:lnTo>
                  <a:lnTo>
                    <a:pt x="32" y="41"/>
                  </a:lnTo>
                  <a:lnTo>
                    <a:pt x="26" y="40"/>
                  </a:lnTo>
                  <a:lnTo>
                    <a:pt x="15" y="28"/>
                  </a:lnTo>
                  <a:lnTo>
                    <a:pt x="17" y="38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24" y="9"/>
                  </a:lnTo>
                  <a:lnTo>
                    <a:pt x="31" y="8"/>
                  </a:lnTo>
                  <a:lnTo>
                    <a:pt x="38" y="7"/>
                  </a:lnTo>
                  <a:lnTo>
                    <a:pt x="46" y="5"/>
                  </a:lnTo>
                  <a:lnTo>
                    <a:pt x="52" y="4"/>
                  </a:lnTo>
                  <a:lnTo>
                    <a:pt x="59" y="3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16280" y="3150720"/>
              <a:ext cx="34920" cy="2124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8" y="4"/>
                  </a:moveTo>
                  <a:lnTo>
                    <a:pt x="53" y="6"/>
                  </a:lnTo>
                  <a:lnTo>
                    <a:pt x="58" y="10"/>
                  </a:lnTo>
                  <a:lnTo>
                    <a:pt x="61" y="17"/>
                  </a:lnTo>
                  <a:lnTo>
                    <a:pt x="61" y="27"/>
                  </a:lnTo>
                  <a:lnTo>
                    <a:pt x="52" y="46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8" y="47"/>
                  </a:lnTo>
                  <a:lnTo>
                    <a:pt x="13" y="43"/>
                  </a:lnTo>
                  <a:lnTo>
                    <a:pt x="9" y="39"/>
                  </a:lnTo>
                  <a:lnTo>
                    <a:pt x="5" y="34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49880" y="3131280"/>
              <a:ext cx="92520" cy="2448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57" y="60"/>
                  </a:moveTo>
                  <a:lnTo>
                    <a:pt x="138" y="60"/>
                  </a:lnTo>
                  <a:lnTo>
                    <a:pt x="119" y="57"/>
                  </a:lnTo>
                  <a:lnTo>
                    <a:pt x="101" y="53"/>
                  </a:lnTo>
                  <a:lnTo>
                    <a:pt x="82" y="48"/>
                  </a:lnTo>
                  <a:lnTo>
                    <a:pt x="65" y="40"/>
                  </a:lnTo>
                  <a:lnTo>
                    <a:pt x="47" y="33"/>
                  </a:lnTo>
                  <a:lnTo>
                    <a:pt x="30" y="24"/>
                  </a:lnTo>
                  <a:lnTo>
                    <a:pt x="13" y="16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0" y="13"/>
                  </a:lnTo>
                  <a:lnTo>
                    <a:pt x="61" y="18"/>
                  </a:lnTo>
                  <a:lnTo>
                    <a:pt x="81" y="24"/>
                  </a:lnTo>
                  <a:lnTo>
                    <a:pt x="100" y="30"/>
                  </a:lnTo>
                  <a:lnTo>
                    <a:pt x="120" y="36"/>
                  </a:lnTo>
                  <a:lnTo>
                    <a:pt x="140" y="41"/>
                  </a:lnTo>
                  <a:lnTo>
                    <a:pt x="160" y="48"/>
                  </a:lnTo>
                  <a:lnTo>
                    <a:pt x="159" y="51"/>
                  </a:lnTo>
                  <a:lnTo>
                    <a:pt x="159" y="54"/>
                  </a:lnTo>
                  <a:lnTo>
                    <a:pt x="158" y="57"/>
                  </a:lnTo>
                  <a:lnTo>
                    <a:pt x="15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0000" y="3089880"/>
              <a:ext cx="60840" cy="2484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94" y="56"/>
                  </a:moveTo>
                  <a:lnTo>
                    <a:pt x="93" y="57"/>
                  </a:lnTo>
                  <a:lnTo>
                    <a:pt x="83" y="55"/>
                  </a:lnTo>
                  <a:lnTo>
                    <a:pt x="73" y="54"/>
                  </a:lnTo>
                  <a:lnTo>
                    <a:pt x="64" y="53"/>
                  </a:lnTo>
                  <a:lnTo>
                    <a:pt x="54" y="50"/>
                  </a:lnTo>
                  <a:lnTo>
                    <a:pt x="45" y="48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5" y="39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0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35" y="8"/>
                  </a:lnTo>
                  <a:lnTo>
                    <a:pt x="46" y="14"/>
                  </a:lnTo>
                  <a:lnTo>
                    <a:pt x="58" y="19"/>
                  </a:lnTo>
                  <a:lnTo>
                    <a:pt x="69" y="23"/>
                  </a:lnTo>
                  <a:lnTo>
                    <a:pt x="80" y="28"/>
                  </a:lnTo>
                  <a:lnTo>
                    <a:pt x="91" y="34"/>
                  </a:lnTo>
                  <a:lnTo>
                    <a:pt x="103" y="38"/>
                  </a:lnTo>
                  <a:lnTo>
                    <a:pt x="101" y="42"/>
                  </a:lnTo>
                  <a:lnTo>
                    <a:pt x="99" y="46"/>
                  </a:lnTo>
                  <a:lnTo>
                    <a:pt x="96" y="5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58880" y="2950560"/>
              <a:ext cx="177840" cy="130320"/>
            </a:xfrm>
            <a:custGeom>
              <a:avLst/>
              <a:gdLst/>
              <a:ahLst/>
              <a:rect l="l" t="t" r="r" b="b"/>
              <a:pathLst>
                <a:path w="305" h="303">
                  <a:moveTo>
                    <a:pt x="305" y="172"/>
                  </a:moveTo>
                  <a:lnTo>
                    <a:pt x="296" y="180"/>
                  </a:lnTo>
                  <a:lnTo>
                    <a:pt x="288" y="187"/>
                  </a:lnTo>
                  <a:lnTo>
                    <a:pt x="282" y="196"/>
                  </a:lnTo>
                  <a:lnTo>
                    <a:pt x="274" y="204"/>
                  </a:lnTo>
                  <a:lnTo>
                    <a:pt x="269" y="214"/>
                  </a:lnTo>
                  <a:lnTo>
                    <a:pt x="263" y="223"/>
                  </a:lnTo>
                  <a:lnTo>
                    <a:pt x="258" y="233"/>
                  </a:lnTo>
                  <a:lnTo>
                    <a:pt x="253" y="243"/>
                  </a:lnTo>
                  <a:lnTo>
                    <a:pt x="238" y="247"/>
                  </a:lnTo>
                  <a:lnTo>
                    <a:pt x="222" y="250"/>
                  </a:lnTo>
                  <a:lnTo>
                    <a:pt x="207" y="254"/>
                  </a:lnTo>
                  <a:lnTo>
                    <a:pt x="192" y="257"/>
                  </a:lnTo>
                  <a:lnTo>
                    <a:pt x="177" y="260"/>
                  </a:lnTo>
                  <a:lnTo>
                    <a:pt x="162" y="265"/>
                  </a:lnTo>
                  <a:lnTo>
                    <a:pt x="147" y="268"/>
                  </a:lnTo>
                  <a:lnTo>
                    <a:pt x="131" y="272"/>
                  </a:lnTo>
                  <a:lnTo>
                    <a:pt x="116" y="275"/>
                  </a:lnTo>
                  <a:lnTo>
                    <a:pt x="102" y="279"/>
                  </a:lnTo>
                  <a:lnTo>
                    <a:pt x="87" y="284"/>
                  </a:lnTo>
                  <a:lnTo>
                    <a:pt x="72" y="287"/>
                  </a:lnTo>
                  <a:lnTo>
                    <a:pt x="57" y="291"/>
                  </a:lnTo>
                  <a:lnTo>
                    <a:pt x="42" y="295"/>
                  </a:lnTo>
                  <a:lnTo>
                    <a:pt x="28" y="298"/>
                  </a:lnTo>
                  <a:lnTo>
                    <a:pt x="13" y="303"/>
                  </a:lnTo>
                  <a:lnTo>
                    <a:pt x="16" y="294"/>
                  </a:lnTo>
                  <a:lnTo>
                    <a:pt x="19" y="287"/>
                  </a:lnTo>
                  <a:lnTo>
                    <a:pt x="21" y="278"/>
                  </a:lnTo>
                  <a:lnTo>
                    <a:pt x="23" y="270"/>
                  </a:lnTo>
                  <a:lnTo>
                    <a:pt x="27" y="244"/>
                  </a:lnTo>
                  <a:lnTo>
                    <a:pt x="27" y="220"/>
                  </a:lnTo>
                  <a:lnTo>
                    <a:pt x="24" y="195"/>
                  </a:lnTo>
                  <a:lnTo>
                    <a:pt x="20" y="170"/>
                  </a:lnTo>
                  <a:lnTo>
                    <a:pt x="15" y="146"/>
                  </a:lnTo>
                  <a:lnTo>
                    <a:pt x="10" y="122"/>
                  </a:lnTo>
                  <a:lnTo>
                    <a:pt x="4" y="97"/>
                  </a:lnTo>
                  <a:lnTo>
                    <a:pt x="0" y="73"/>
                  </a:lnTo>
                  <a:lnTo>
                    <a:pt x="18" y="70"/>
                  </a:lnTo>
                  <a:lnTo>
                    <a:pt x="35" y="66"/>
                  </a:lnTo>
                  <a:lnTo>
                    <a:pt x="53" y="63"/>
                  </a:lnTo>
                  <a:lnTo>
                    <a:pt x="70" y="60"/>
                  </a:lnTo>
                  <a:lnTo>
                    <a:pt x="87" y="56"/>
                  </a:lnTo>
                  <a:lnTo>
                    <a:pt x="105" y="52"/>
                  </a:lnTo>
                  <a:lnTo>
                    <a:pt x="122" y="46"/>
                  </a:lnTo>
                  <a:lnTo>
                    <a:pt x="139" y="42"/>
                  </a:lnTo>
                  <a:lnTo>
                    <a:pt x="156" y="37"/>
                  </a:lnTo>
                  <a:lnTo>
                    <a:pt x="173" y="32"/>
                  </a:lnTo>
                  <a:lnTo>
                    <a:pt x="191" y="26"/>
                  </a:lnTo>
                  <a:lnTo>
                    <a:pt x="207" y="21"/>
                  </a:lnTo>
                  <a:lnTo>
                    <a:pt x="224" y="16"/>
                  </a:lnTo>
                  <a:lnTo>
                    <a:pt x="241" y="10"/>
                  </a:lnTo>
                  <a:lnTo>
                    <a:pt x="258" y="5"/>
                  </a:lnTo>
                  <a:lnTo>
                    <a:pt x="275" y="0"/>
                  </a:lnTo>
                  <a:lnTo>
                    <a:pt x="277" y="43"/>
                  </a:lnTo>
                  <a:lnTo>
                    <a:pt x="285" y="87"/>
                  </a:lnTo>
                  <a:lnTo>
                    <a:pt x="294" y="129"/>
                  </a:lnTo>
                  <a:lnTo>
                    <a:pt x="305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64560" y="2770200"/>
              <a:ext cx="307080" cy="201600"/>
            </a:xfrm>
            <a:custGeom>
              <a:avLst/>
              <a:gdLst/>
              <a:ahLst/>
              <a:rect l="l" t="t" r="r" b="b"/>
              <a:pathLst>
                <a:path w="527" h="468">
                  <a:moveTo>
                    <a:pt x="526" y="349"/>
                  </a:moveTo>
                  <a:lnTo>
                    <a:pt x="526" y="349"/>
                  </a:lnTo>
                  <a:lnTo>
                    <a:pt x="527" y="349"/>
                  </a:lnTo>
                  <a:lnTo>
                    <a:pt x="527" y="350"/>
                  </a:lnTo>
                  <a:lnTo>
                    <a:pt x="527" y="350"/>
                  </a:lnTo>
                  <a:lnTo>
                    <a:pt x="520" y="355"/>
                  </a:lnTo>
                  <a:lnTo>
                    <a:pt x="512" y="357"/>
                  </a:lnTo>
                  <a:lnTo>
                    <a:pt x="505" y="359"/>
                  </a:lnTo>
                  <a:lnTo>
                    <a:pt x="499" y="363"/>
                  </a:lnTo>
                  <a:lnTo>
                    <a:pt x="491" y="365"/>
                  </a:lnTo>
                  <a:lnTo>
                    <a:pt x="484" y="367"/>
                  </a:lnTo>
                  <a:lnTo>
                    <a:pt x="476" y="369"/>
                  </a:lnTo>
                  <a:lnTo>
                    <a:pt x="469" y="372"/>
                  </a:lnTo>
                  <a:lnTo>
                    <a:pt x="462" y="374"/>
                  </a:lnTo>
                  <a:lnTo>
                    <a:pt x="460" y="373"/>
                  </a:lnTo>
                  <a:lnTo>
                    <a:pt x="458" y="373"/>
                  </a:lnTo>
                  <a:lnTo>
                    <a:pt x="456" y="372"/>
                  </a:lnTo>
                  <a:lnTo>
                    <a:pt x="454" y="372"/>
                  </a:lnTo>
                  <a:lnTo>
                    <a:pt x="450" y="373"/>
                  </a:lnTo>
                  <a:lnTo>
                    <a:pt x="445" y="375"/>
                  </a:lnTo>
                  <a:lnTo>
                    <a:pt x="442" y="377"/>
                  </a:lnTo>
                  <a:lnTo>
                    <a:pt x="438" y="382"/>
                  </a:lnTo>
                  <a:lnTo>
                    <a:pt x="414" y="390"/>
                  </a:lnTo>
                  <a:lnTo>
                    <a:pt x="390" y="399"/>
                  </a:lnTo>
                  <a:lnTo>
                    <a:pt x="365" y="406"/>
                  </a:lnTo>
                  <a:lnTo>
                    <a:pt x="341" y="414"/>
                  </a:lnTo>
                  <a:lnTo>
                    <a:pt x="317" y="422"/>
                  </a:lnTo>
                  <a:lnTo>
                    <a:pt x="291" y="429"/>
                  </a:lnTo>
                  <a:lnTo>
                    <a:pt x="267" y="436"/>
                  </a:lnTo>
                  <a:lnTo>
                    <a:pt x="243" y="442"/>
                  </a:lnTo>
                  <a:lnTo>
                    <a:pt x="217" y="447"/>
                  </a:lnTo>
                  <a:lnTo>
                    <a:pt x="192" y="451"/>
                  </a:lnTo>
                  <a:lnTo>
                    <a:pt x="166" y="456"/>
                  </a:lnTo>
                  <a:lnTo>
                    <a:pt x="142" y="459"/>
                  </a:lnTo>
                  <a:lnTo>
                    <a:pt x="117" y="461"/>
                  </a:lnTo>
                  <a:lnTo>
                    <a:pt x="91" y="462"/>
                  </a:lnTo>
                  <a:lnTo>
                    <a:pt x="65" y="462"/>
                  </a:lnTo>
                  <a:lnTo>
                    <a:pt x="39" y="461"/>
                  </a:lnTo>
                  <a:lnTo>
                    <a:pt x="34" y="461"/>
                  </a:lnTo>
                  <a:lnTo>
                    <a:pt x="30" y="461"/>
                  </a:lnTo>
                  <a:lnTo>
                    <a:pt x="25" y="462"/>
                  </a:lnTo>
                  <a:lnTo>
                    <a:pt x="20" y="463"/>
                  </a:lnTo>
                  <a:lnTo>
                    <a:pt x="15" y="465"/>
                  </a:lnTo>
                  <a:lnTo>
                    <a:pt x="10" y="466"/>
                  </a:lnTo>
                  <a:lnTo>
                    <a:pt x="5" y="467"/>
                  </a:lnTo>
                  <a:lnTo>
                    <a:pt x="0" y="468"/>
                  </a:lnTo>
                  <a:lnTo>
                    <a:pt x="3" y="399"/>
                  </a:lnTo>
                  <a:lnTo>
                    <a:pt x="8" y="329"/>
                  </a:lnTo>
                  <a:lnTo>
                    <a:pt x="11" y="259"/>
                  </a:lnTo>
                  <a:lnTo>
                    <a:pt x="11" y="188"/>
                  </a:lnTo>
                  <a:lnTo>
                    <a:pt x="15" y="170"/>
                  </a:lnTo>
                  <a:lnTo>
                    <a:pt x="18" y="151"/>
                  </a:lnTo>
                  <a:lnTo>
                    <a:pt x="20" y="131"/>
                  </a:lnTo>
                  <a:lnTo>
                    <a:pt x="21" y="110"/>
                  </a:lnTo>
                  <a:lnTo>
                    <a:pt x="26" y="110"/>
                  </a:lnTo>
                  <a:lnTo>
                    <a:pt x="30" y="110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47" y="110"/>
                  </a:lnTo>
                  <a:lnTo>
                    <a:pt x="51" y="110"/>
                  </a:lnTo>
                  <a:lnTo>
                    <a:pt x="55" y="110"/>
                  </a:lnTo>
                  <a:lnTo>
                    <a:pt x="85" y="106"/>
                  </a:lnTo>
                  <a:lnTo>
                    <a:pt x="87" y="105"/>
                  </a:lnTo>
                  <a:lnTo>
                    <a:pt x="89" y="103"/>
                  </a:lnTo>
                  <a:lnTo>
                    <a:pt x="90" y="101"/>
                  </a:lnTo>
                  <a:lnTo>
                    <a:pt x="91" y="98"/>
                  </a:lnTo>
                  <a:lnTo>
                    <a:pt x="91" y="92"/>
                  </a:lnTo>
                  <a:lnTo>
                    <a:pt x="91" y="77"/>
                  </a:lnTo>
                  <a:lnTo>
                    <a:pt x="91" y="53"/>
                  </a:lnTo>
                  <a:lnTo>
                    <a:pt x="91" y="25"/>
                  </a:lnTo>
                  <a:lnTo>
                    <a:pt x="105" y="24"/>
                  </a:lnTo>
                  <a:lnTo>
                    <a:pt x="119" y="24"/>
                  </a:lnTo>
                  <a:lnTo>
                    <a:pt x="132" y="23"/>
                  </a:lnTo>
                  <a:lnTo>
                    <a:pt x="146" y="21"/>
                  </a:lnTo>
                  <a:lnTo>
                    <a:pt x="160" y="20"/>
                  </a:lnTo>
                  <a:lnTo>
                    <a:pt x="174" y="19"/>
                  </a:lnTo>
                  <a:lnTo>
                    <a:pt x="188" y="18"/>
                  </a:lnTo>
                  <a:lnTo>
                    <a:pt x="201" y="17"/>
                  </a:lnTo>
                  <a:lnTo>
                    <a:pt x="215" y="16"/>
                  </a:lnTo>
                  <a:lnTo>
                    <a:pt x="229" y="15"/>
                  </a:lnTo>
                  <a:lnTo>
                    <a:pt x="243" y="13"/>
                  </a:lnTo>
                  <a:lnTo>
                    <a:pt x="256" y="12"/>
                  </a:lnTo>
                  <a:lnTo>
                    <a:pt x="270" y="10"/>
                  </a:lnTo>
                  <a:lnTo>
                    <a:pt x="284" y="8"/>
                  </a:lnTo>
                  <a:lnTo>
                    <a:pt x="298" y="5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0"/>
                  </a:lnTo>
                  <a:lnTo>
                    <a:pt x="321" y="11"/>
                  </a:lnTo>
                  <a:lnTo>
                    <a:pt x="325" y="23"/>
                  </a:lnTo>
                  <a:lnTo>
                    <a:pt x="330" y="33"/>
                  </a:lnTo>
                  <a:lnTo>
                    <a:pt x="336" y="44"/>
                  </a:lnTo>
                  <a:lnTo>
                    <a:pt x="338" y="48"/>
                  </a:lnTo>
                  <a:lnTo>
                    <a:pt x="339" y="50"/>
                  </a:lnTo>
                  <a:lnTo>
                    <a:pt x="340" y="51"/>
                  </a:lnTo>
                  <a:lnTo>
                    <a:pt x="341" y="52"/>
                  </a:lnTo>
                  <a:lnTo>
                    <a:pt x="343" y="53"/>
                  </a:lnTo>
                  <a:lnTo>
                    <a:pt x="352" y="55"/>
                  </a:lnTo>
                  <a:lnTo>
                    <a:pt x="353" y="56"/>
                  </a:lnTo>
                  <a:lnTo>
                    <a:pt x="354" y="56"/>
                  </a:lnTo>
                  <a:lnTo>
                    <a:pt x="355" y="56"/>
                  </a:lnTo>
                  <a:lnTo>
                    <a:pt x="356" y="56"/>
                  </a:lnTo>
                  <a:lnTo>
                    <a:pt x="362" y="54"/>
                  </a:lnTo>
                  <a:lnTo>
                    <a:pt x="367" y="53"/>
                  </a:lnTo>
                  <a:lnTo>
                    <a:pt x="373" y="51"/>
                  </a:lnTo>
                  <a:lnTo>
                    <a:pt x="377" y="50"/>
                  </a:lnTo>
                  <a:lnTo>
                    <a:pt x="382" y="48"/>
                  </a:lnTo>
                  <a:lnTo>
                    <a:pt x="386" y="46"/>
                  </a:lnTo>
                  <a:lnTo>
                    <a:pt x="392" y="44"/>
                  </a:lnTo>
                  <a:lnTo>
                    <a:pt x="396" y="42"/>
                  </a:lnTo>
                  <a:lnTo>
                    <a:pt x="400" y="38"/>
                  </a:lnTo>
                  <a:lnTo>
                    <a:pt x="416" y="78"/>
                  </a:lnTo>
                  <a:lnTo>
                    <a:pt x="433" y="117"/>
                  </a:lnTo>
                  <a:lnTo>
                    <a:pt x="448" y="156"/>
                  </a:lnTo>
                  <a:lnTo>
                    <a:pt x="464" y="194"/>
                  </a:lnTo>
                  <a:lnTo>
                    <a:pt x="480" y="231"/>
                  </a:lnTo>
                  <a:lnTo>
                    <a:pt x="494" y="267"/>
                  </a:lnTo>
                  <a:lnTo>
                    <a:pt x="509" y="302"/>
                  </a:lnTo>
                  <a:lnTo>
                    <a:pt x="523" y="335"/>
                  </a:lnTo>
                  <a:lnTo>
                    <a:pt x="526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81120" y="2638080"/>
              <a:ext cx="140400" cy="4284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35" y="92"/>
                  </a:moveTo>
                  <a:lnTo>
                    <a:pt x="238" y="91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1" y="82"/>
                  </a:lnTo>
                  <a:lnTo>
                    <a:pt x="239" y="79"/>
                  </a:lnTo>
                  <a:lnTo>
                    <a:pt x="236" y="76"/>
                  </a:lnTo>
                  <a:lnTo>
                    <a:pt x="233" y="75"/>
                  </a:lnTo>
                  <a:lnTo>
                    <a:pt x="229" y="75"/>
                  </a:lnTo>
                  <a:lnTo>
                    <a:pt x="215" y="77"/>
                  </a:lnTo>
                  <a:lnTo>
                    <a:pt x="200" y="79"/>
                  </a:lnTo>
                  <a:lnTo>
                    <a:pt x="185" y="79"/>
                  </a:lnTo>
                  <a:lnTo>
                    <a:pt x="170" y="79"/>
                  </a:lnTo>
                  <a:lnTo>
                    <a:pt x="155" y="77"/>
                  </a:lnTo>
                  <a:lnTo>
                    <a:pt x="140" y="75"/>
                  </a:lnTo>
                  <a:lnTo>
                    <a:pt x="126" y="72"/>
                  </a:lnTo>
                  <a:lnTo>
                    <a:pt x="112" y="69"/>
                  </a:lnTo>
                  <a:lnTo>
                    <a:pt x="98" y="64"/>
                  </a:lnTo>
                  <a:lnTo>
                    <a:pt x="84" y="58"/>
                  </a:lnTo>
                  <a:lnTo>
                    <a:pt x="71" y="52"/>
                  </a:lnTo>
                  <a:lnTo>
                    <a:pt x="58" y="44"/>
                  </a:lnTo>
                  <a:lnTo>
                    <a:pt x="46" y="35"/>
                  </a:lnTo>
                  <a:lnTo>
                    <a:pt x="36" y="26"/>
                  </a:lnTo>
                  <a:lnTo>
                    <a:pt x="25" y="15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12" y="28"/>
                  </a:lnTo>
                  <a:lnTo>
                    <a:pt x="23" y="39"/>
                  </a:lnTo>
                  <a:lnTo>
                    <a:pt x="36" y="50"/>
                  </a:lnTo>
                  <a:lnTo>
                    <a:pt x="48" y="59"/>
                  </a:lnTo>
                  <a:lnTo>
                    <a:pt x="62" y="67"/>
                  </a:lnTo>
                  <a:lnTo>
                    <a:pt x="77" y="74"/>
                  </a:lnTo>
                  <a:lnTo>
                    <a:pt x="92" y="81"/>
                  </a:lnTo>
                  <a:lnTo>
                    <a:pt x="107" y="86"/>
                  </a:lnTo>
                  <a:lnTo>
                    <a:pt x="122" y="90"/>
                  </a:lnTo>
                  <a:lnTo>
                    <a:pt x="138" y="93"/>
                  </a:lnTo>
                  <a:lnTo>
                    <a:pt x="154" y="95"/>
                  </a:lnTo>
                  <a:lnTo>
                    <a:pt x="171" y="97"/>
                  </a:lnTo>
                  <a:lnTo>
                    <a:pt x="187" y="97"/>
                  </a:lnTo>
                  <a:lnTo>
                    <a:pt x="203" y="97"/>
                  </a:lnTo>
                  <a:lnTo>
                    <a:pt x="219" y="94"/>
                  </a:lnTo>
                  <a:lnTo>
                    <a:pt x="235" y="92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35120" y="2843640"/>
              <a:ext cx="138960" cy="7128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234" y="98"/>
                  </a:moveTo>
                  <a:lnTo>
                    <a:pt x="230" y="88"/>
                  </a:lnTo>
                  <a:lnTo>
                    <a:pt x="225" y="78"/>
                  </a:lnTo>
                  <a:lnTo>
                    <a:pt x="221" y="69"/>
                  </a:lnTo>
                  <a:lnTo>
                    <a:pt x="216" y="58"/>
                  </a:lnTo>
                  <a:lnTo>
                    <a:pt x="211" y="48"/>
                  </a:lnTo>
                  <a:lnTo>
                    <a:pt x="206" y="39"/>
                  </a:lnTo>
                  <a:lnTo>
                    <a:pt x="203" y="28"/>
                  </a:lnTo>
                  <a:lnTo>
                    <a:pt x="200" y="18"/>
                  </a:lnTo>
                  <a:lnTo>
                    <a:pt x="198" y="7"/>
                  </a:lnTo>
                  <a:lnTo>
                    <a:pt x="197" y="5"/>
                  </a:lnTo>
                  <a:lnTo>
                    <a:pt x="195" y="3"/>
                  </a:lnTo>
                  <a:lnTo>
                    <a:pt x="193" y="2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61" y="5"/>
                  </a:lnTo>
                  <a:lnTo>
                    <a:pt x="141" y="10"/>
                  </a:lnTo>
                  <a:lnTo>
                    <a:pt x="119" y="16"/>
                  </a:lnTo>
                  <a:lnTo>
                    <a:pt x="99" y="21"/>
                  </a:lnTo>
                  <a:lnTo>
                    <a:pt x="78" y="26"/>
                  </a:lnTo>
                  <a:lnTo>
                    <a:pt x="58" y="31"/>
                  </a:lnTo>
                  <a:lnTo>
                    <a:pt x="37" y="36"/>
                  </a:lnTo>
                  <a:lnTo>
                    <a:pt x="16" y="39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78"/>
                  </a:lnTo>
                  <a:lnTo>
                    <a:pt x="4" y="103"/>
                  </a:lnTo>
                  <a:lnTo>
                    <a:pt x="10" y="129"/>
                  </a:lnTo>
                  <a:lnTo>
                    <a:pt x="21" y="153"/>
                  </a:lnTo>
                  <a:lnTo>
                    <a:pt x="23" y="159"/>
                  </a:lnTo>
                  <a:lnTo>
                    <a:pt x="24" y="161"/>
                  </a:lnTo>
                  <a:lnTo>
                    <a:pt x="25" y="162"/>
                  </a:lnTo>
                  <a:lnTo>
                    <a:pt x="27" y="163"/>
                  </a:lnTo>
                  <a:lnTo>
                    <a:pt x="28" y="164"/>
                  </a:lnTo>
                  <a:lnTo>
                    <a:pt x="37" y="166"/>
                  </a:lnTo>
                  <a:lnTo>
                    <a:pt x="49" y="165"/>
                  </a:lnTo>
                  <a:lnTo>
                    <a:pt x="61" y="163"/>
                  </a:lnTo>
                  <a:lnTo>
                    <a:pt x="73" y="162"/>
                  </a:lnTo>
                  <a:lnTo>
                    <a:pt x="85" y="160"/>
                  </a:lnTo>
                  <a:lnTo>
                    <a:pt x="97" y="159"/>
                  </a:lnTo>
                  <a:lnTo>
                    <a:pt x="109" y="157"/>
                  </a:lnTo>
                  <a:lnTo>
                    <a:pt x="121" y="155"/>
                  </a:lnTo>
                  <a:lnTo>
                    <a:pt x="132" y="153"/>
                  </a:lnTo>
                  <a:lnTo>
                    <a:pt x="145" y="151"/>
                  </a:lnTo>
                  <a:lnTo>
                    <a:pt x="157" y="149"/>
                  </a:lnTo>
                  <a:lnTo>
                    <a:pt x="168" y="146"/>
                  </a:lnTo>
                  <a:lnTo>
                    <a:pt x="180" y="143"/>
                  </a:lnTo>
                  <a:lnTo>
                    <a:pt x="190" y="139"/>
                  </a:lnTo>
                  <a:lnTo>
                    <a:pt x="202" y="135"/>
                  </a:lnTo>
                  <a:lnTo>
                    <a:pt x="214" y="131"/>
                  </a:lnTo>
                  <a:lnTo>
                    <a:pt x="224" y="126"/>
                  </a:lnTo>
                  <a:lnTo>
                    <a:pt x="227" y="126"/>
                  </a:lnTo>
                  <a:lnTo>
                    <a:pt x="230" y="125"/>
                  </a:lnTo>
                  <a:lnTo>
                    <a:pt x="232" y="124"/>
                  </a:lnTo>
                  <a:lnTo>
                    <a:pt x="233" y="123"/>
                  </a:lnTo>
                  <a:lnTo>
                    <a:pt x="234" y="120"/>
                  </a:lnTo>
                  <a:lnTo>
                    <a:pt x="237" y="115"/>
                  </a:lnTo>
                  <a:lnTo>
                    <a:pt x="238" y="113"/>
                  </a:lnTo>
                  <a:lnTo>
                    <a:pt x="238" y="112"/>
                  </a:lnTo>
                  <a:lnTo>
                    <a:pt x="238" y="110"/>
                  </a:lnTo>
                  <a:lnTo>
                    <a:pt x="237" y="108"/>
                  </a:lnTo>
                  <a:lnTo>
                    <a:pt x="234" y="9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2850480"/>
              <a:ext cx="116280" cy="5544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31" y="130"/>
                  </a:moveTo>
                  <a:lnTo>
                    <a:pt x="19" y="129"/>
                  </a:lnTo>
                  <a:lnTo>
                    <a:pt x="17" y="124"/>
                  </a:lnTo>
                  <a:lnTo>
                    <a:pt x="8" y="103"/>
                  </a:lnTo>
                  <a:lnTo>
                    <a:pt x="3" y="82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22" y="34"/>
                  </a:lnTo>
                  <a:lnTo>
                    <a:pt x="42" y="30"/>
                  </a:lnTo>
                  <a:lnTo>
                    <a:pt x="61" y="26"/>
                  </a:lnTo>
                  <a:lnTo>
                    <a:pt x="80" y="22"/>
                  </a:lnTo>
                  <a:lnTo>
                    <a:pt x="100" y="17"/>
                  </a:lnTo>
                  <a:lnTo>
                    <a:pt x="119" y="11"/>
                  </a:lnTo>
                  <a:lnTo>
                    <a:pt x="139" y="6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5" y="5"/>
                  </a:lnTo>
                  <a:lnTo>
                    <a:pt x="170" y="24"/>
                  </a:lnTo>
                  <a:lnTo>
                    <a:pt x="179" y="42"/>
                  </a:lnTo>
                  <a:lnTo>
                    <a:pt x="187" y="59"/>
                  </a:lnTo>
                  <a:lnTo>
                    <a:pt x="196" y="76"/>
                  </a:lnTo>
                  <a:lnTo>
                    <a:pt x="201" y="91"/>
                  </a:lnTo>
                  <a:lnTo>
                    <a:pt x="193" y="93"/>
                  </a:lnTo>
                  <a:lnTo>
                    <a:pt x="173" y="102"/>
                  </a:lnTo>
                  <a:lnTo>
                    <a:pt x="153" y="109"/>
                  </a:lnTo>
                  <a:lnTo>
                    <a:pt x="133" y="114"/>
                  </a:lnTo>
                  <a:lnTo>
                    <a:pt x="113" y="117"/>
                  </a:lnTo>
                  <a:lnTo>
                    <a:pt x="92" y="120"/>
                  </a:lnTo>
                  <a:lnTo>
                    <a:pt x="72" y="123"/>
                  </a:lnTo>
                  <a:lnTo>
                    <a:pt x="51" y="126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5240" y="2600640"/>
              <a:ext cx="21960" cy="140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2" y="35"/>
                  </a:lnTo>
                  <a:lnTo>
                    <a:pt x="18" y="36"/>
                  </a:lnTo>
                  <a:lnTo>
                    <a:pt x="26" y="35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37" y="18"/>
                  </a:lnTo>
                  <a:lnTo>
                    <a:pt x="36" y="11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12880" y="2629080"/>
              <a:ext cx="21960" cy="162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19"/>
                  </a:moveTo>
                  <a:lnTo>
                    <a:pt x="1" y="25"/>
                  </a:lnTo>
                  <a:lnTo>
                    <a:pt x="5" y="32"/>
                  </a:lnTo>
                  <a:lnTo>
                    <a:pt x="12" y="36"/>
                  </a:lnTo>
                  <a:lnTo>
                    <a:pt x="19" y="37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5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2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36560" y="3043440"/>
              <a:ext cx="586800" cy="8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000" y="3104280"/>
              <a:ext cx="11052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31320" y="3084840"/>
              <a:ext cx="1126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65000" y="3068640"/>
              <a:ext cx="34560" cy="55440"/>
            </a:xfrm>
            <a:custGeom>
              <a:avLst/>
              <a:gdLst/>
              <a:ahLst/>
              <a:rect l="l" t="t" r="r" b="b"/>
              <a:pathLst>
                <a:path w="60" h="126">
                  <a:moveTo>
                    <a:pt x="0" y="0"/>
                  </a:moveTo>
                  <a:cubicBezTo>
                    <a:pt x="8" y="24"/>
                    <a:pt x="22" y="106"/>
                    <a:pt x="36" y="120"/>
                  </a:cubicBezTo>
                  <a:cubicBezTo>
                    <a:pt x="42" y="126"/>
                    <a:pt x="52" y="120"/>
                    <a:pt x="60" y="1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5400" y="3038040"/>
              <a:ext cx="82800" cy="4644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46" y="0"/>
                  </a:moveTo>
                  <a:cubicBezTo>
                    <a:pt x="45" y="1"/>
                    <a:pt x="0" y="62"/>
                    <a:pt x="10" y="72"/>
                  </a:cubicBezTo>
                  <a:cubicBezTo>
                    <a:pt x="30" y="92"/>
                    <a:pt x="106" y="108"/>
                    <a:pt x="142" y="1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8840" y="2816640"/>
              <a:ext cx="166680" cy="82080"/>
            </a:xfrm>
            <a:custGeom>
              <a:avLst/>
              <a:gdLst>
                <a:gd name="textAreaLeft" fmla="*/ 39240 w 166680"/>
                <a:gd name="textAreaRight" fmla="*/ 127440 w 166680"/>
                <a:gd name="textAreaTop" fmla="*/ 9360 h 82080"/>
                <a:gd name="textAreaBottom" fmla="*/ 51480 h 82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57400">
              <a:off x="1724040" y="2121840"/>
              <a:ext cx="299520" cy="2304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e heisst sie?  (Moni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600200" y="2133720"/>
            <a:ext cx="913320" cy="1218240"/>
            <a:chOff x="1600200" y="2133720"/>
            <a:chExt cx="913320" cy="1218240"/>
          </a:xfrm>
        </p:grpSpPr>
        <p:sp>
          <p:nvSpPr>
            <p:cNvPr id="468" name=""/>
            <p:cNvSpPr/>
            <p:nvPr/>
          </p:nvSpPr>
          <p:spPr>
            <a:xfrm>
              <a:off x="1792080" y="2133720"/>
              <a:ext cx="201600" cy="24120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3920" y="2386440"/>
              <a:ext cx="163440" cy="41400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9920" y="2405520"/>
              <a:ext cx="181800" cy="36792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87400" y="2765880"/>
              <a:ext cx="125280" cy="40176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2738880"/>
              <a:ext cx="181800" cy="44460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85120" y="2260440"/>
              <a:ext cx="182880" cy="25272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51280" y="2524320"/>
              <a:ext cx="144720" cy="42876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27080" y="2540160"/>
              <a:ext cx="158040" cy="3862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85120" y="2918520"/>
              <a:ext cx="105480" cy="41760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7360" y="2891880"/>
              <a:ext cx="158040" cy="46008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30200" y="2505240"/>
              <a:ext cx="147960" cy="53640"/>
            </a:xfrm>
            <a:custGeom>
              <a:avLst/>
              <a:gdLst/>
              <a:ahLst/>
              <a:rect l="l" t="t" r="r" b="b"/>
              <a:pathLst>
                <a:path w="201" h="63">
                  <a:moveTo>
                    <a:pt x="201" y="26"/>
                  </a:moveTo>
                  <a:cubicBezTo>
                    <a:pt x="140" y="32"/>
                    <a:pt x="60" y="0"/>
                    <a:pt x="18" y="44"/>
                  </a:cubicBezTo>
                  <a:cubicBezTo>
                    <a:pt x="12" y="50"/>
                    <a:pt x="0" y="63"/>
                    <a:pt x="0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59800" y="2532240"/>
              <a:ext cx="153720" cy="1526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6" y="0"/>
                  </a:moveTo>
                  <a:cubicBezTo>
                    <a:pt x="20" y="5"/>
                    <a:pt x="14" y="2"/>
                    <a:pt x="24" y="8"/>
                  </a:cubicBezTo>
                  <a:cubicBezTo>
                    <a:pt x="28" y="13"/>
                    <a:pt x="32" y="26"/>
                    <a:pt x="32" y="26"/>
                  </a:cubicBezTo>
                  <a:cubicBezTo>
                    <a:pt x="25" y="37"/>
                    <a:pt x="19" y="34"/>
                    <a:pt x="6" y="38"/>
                  </a:cubicBezTo>
                  <a:cubicBezTo>
                    <a:pt x="4" y="39"/>
                    <a:pt x="0" y="40"/>
                    <a:pt x="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12360" y="2662560"/>
              <a:ext cx="81720" cy="99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"/>
                  </a:moveTo>
                  <a:cubicBezTo>
                    <a:pt x="2" y="7"/>
                    <a:pt x="0" y="13"/>
                    <a:pt x="3" y="16"/>
                  </a:cubicBezTo>
                  <a:cubicBezTo>
                    <a:pt x="13" y="26"/>
                    <a:pt x="17" y="2"/>
                    <a:pt x="17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27080" y="2417400"/>
              <a:ext cx="163440" cy="160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cubicBezTo>
                    <a:pt x="4" y="1"/>
                    <a:pt x="8" y="2"/>
                    <a:pt x="12" y="4"/>
                  </a:cubicBezTo>
                  <a:cubicBezTo>
                    <a:pt x="16" y="7"/>
                    <a:pt x="24" y="12"/>
                    <a:pt x="24" y="12"/>
                  </a:cubicBezTo>
                  <a:cubicBezTo>
                    <a:pt x="33" y="26"/>
                    <a:pt x="30" y="19"/>
                    <a:pt x="34" y="30"/>
                  </a:cubicBezTo>
                  <a:cubicBezTo>
                    <a:pt x="32" y="35"/>
                    <a:pt x="33" y="38"/>
                    <a:pt x="26" y="40"/>
                  </a:cubicBezTo>
                  <a:cubicBezTo>
                    <a:pt x="19" y="42"/>
                    <a:pt x="6" y="42"/>
                    <a:pt x="6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752480" y="2107440"/>
            <a:ext cx="1370160" cy="1298160"/>
            <a:chOff x="1752480" y="2107440"/>
            <a:chExt cx="1370160" cy="1298160"/>
          </a:xfrm>
        </p:grpSpPr>
        <p:grpSp>
          <p:nvGrpSpPr>
            <p:cNvPr id="485" name=""/>
            <p:cNvGrpSpPr/>
            <p:nvPr/>
          </p:nvGrpSpPr>
          <p:grpSpPr>
            <a:xfrm>
              <a:off x="1752480" y="2107440"/>
              <a:ext cx="713880" cy="1207800"/>
              <a:chOff x="1752480" y="2107440"/>
              <a:chExt cx="713880" cy="1207800"/>
            </a:xfrm>
          </p:grpSpPr>
          <p:sp>
            <p:nvSpPr>
              <p:cNvPr id="486" name=""/>
              <p:cNvSpPr/>
              <p:nvPr/>
            </p:nvSpPr>
            <p:spPr>
              <a:xfrm rot="448200">
                <a:off x="1863720" y="2122200"/>
                <a:ext cx="250200" cy="287280"/>
              </a:xfrm>
              <a:custGeom>
                <a:avLst/>
                <a:gdLst/>
                <a:ahLst/>
                <a:rect l="l" t="t" r="r" b="b"/>
                <a:pathLst>
                  <a:path w="599" h="736">
                    <a:moveTo>
                      <a:pt x="396" y="184"/>
                    </a:moveTo>
                    <a:lnTo>
                      <a:pt x="350" y="106"/>
                    </a:lnTo>
                    <a:lnTo>
                      <a:pt x="264" y="57"/>
                    </a:lnTo>
                    <a:lnTo>
                      <a:pt x="178" y="49"/>
                    </a:lnTo>
                    <a:lnTo>
                      <a:pt x="92" y="78"/>
                    </a:lnTo>
                    <a:lnTo>
                      <a:pt x="30" y="156"/>
                    </a:lnTo>
                    <a:lnTo>
                      <a:pt x="0" y="290"/>
                    </a:lnTo>
                    <a:lnTo>
                      <a:pt x="23" y="453"/>
                    </a:lnTo>
                    <a:lnTo>
                      <a:pt x="78" y="594"/>
                    </a:lnTo>
                    <a:lnTo>
                      <a:pt x="147" y="672"/>
                    </a:lnTo>
                    <a:lnTo>
                      <a:pt x="241" y="722"/>
                    </a:lnTo>
                    <a:lnTo>
                      <a:pt x="327" y="736"/>
                    </a:lnTo>
                    <a:lnTo>
                      <a:pt x="436" y="700"/>
                    </a:lnTo>
                    <a:lnTo>
                      <a:pt x="474" y="637"/>
                    </a:lnTo>
                    <a:lnTo>
                      <a:pt x="497" y="524"/>
                    </a:lnTo>
                    <a:lnTo>
                      <a:pt x="490" y="375"/>
                    </a:lnTo>
                    <a:lnTo>
                      <a:pt x="450" y="241"/>
                    </a:lnTo>
                    <a:lnTo>
                      <a:pt x="599" y="64"/>
                    </a:lnTo>
                    <a:lnTo>
                      <a:pt x="599" y="28"/>
                    </a:lnTo>
                    <a:lnTo>
                      <a:pt x="568" y="0"/>
                    </a:lnTo>
                    <a:lnTo>
                      <a:pt x="536" y="14"/>
                    </a:lnTo>
                    <a:lnTo>
                      <a:pt x="39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711600">
                <a:off x="2111040" y="2441880"/>
                <a:ext cx="338040" cy="24120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52480" y="2453400"/>
                <a:ext cx="193320" cy="44820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920" y="2417760"/>
                <a:ext cx="201960" cy="40032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68200" y="2737440"/>
                <a:ext cx="263880" cy="51408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29520" y="2765880"/>
                <a:ext cx="222120" cy="54936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183760" y="2775240"/>
              <a:ext cx="938880" cy="630360"/>
              <a:chOff x="2183760" y="2775240"/>
              <a:chExt cx="938880" cy="63036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497680" y="2775240"/>
                <a:ext cx="317160" cy="522720"/>
                <a:chOff x="2497680" y="2775240"/>
                <a:chExt cx="317160" cy="52272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2497680" y="2775240"/>
                  <a:ext cx="317160" cy="522720"/>
                  <a:chOff x="2497680" y="2775240"/>
                  <a:chExt cx="317160" cy="5227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2742480" y="3031560"/>
                    <a:ext cx="219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9">
                        <a:moveTo>
                          <a:pt x="139" y="16"/>
                        </a:moveTo>
                        <a:lnTo>
                          <a:pt x="0" y="89"/>
                        </a:lnTo>
                        <a:lnTo>
                          <a:pt x="12" y="0"/>
                        </a:lnTo>
                        <a:lnTo>
                          <a:pt x="139" y="16"/>
                        </a:lnTo>
                        <a:close/>
                      </a:path>
                    </a:pathLst>
                  </a:custGeom>
                  <a:solidFill>
                    <a:srgbClr val="75b5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497680" y="3078720"/>
                    <a:ext cx="687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280">
                        <a:moveTo>
                          <a:pt x="426" y="90"/>
                        </a:moveTo>
                        <a:lnTo>
                          <a:pt x="428" y="89"/>
                        </a:lnTo>
                        <a:lnTo>
                          <a:pt x="429" y="86"/>
                        </a:lnTo>
                        <a:lnTo>
                          <a:pt x="431" y="80"/>
                        </a:lnTo>
                        <a:lnTo>
                          <a:pt x="432" y="73"/>
                        </a:lnTo>
                        <a:lnTo>
                          <a:pt x="434" y="64"/>
                        </a:lnTo>
                        <a:lnTo>
                          <a:pt x="434" y="55"/>
                        </a:lnTo>
                        <a:lnTo>
                          <a:pt x="432" y="45"/>
                        </a:lnTo>
                        <a:lnTo>
                          <a:pt x="429" y="36"/>
                        </a:lnTo>
                        <a:lnTo>
                          <a:pt x="422" y="27"/>
                        </a:lnTo>
                        <a:lnTo>
                          <a:pt x="411" y="18"/>
                        </a:lnTo>
                        <a:lnTo>
                          <a:pt x="398" y="11"/>
                        </a:lnTo>
                        <a:lnTo>
                          <a:pt x="379" y="5"/>
                        </a:lnTo>
                        <a:lnTo>
                          <a:pt x="355" y="2"/>
                        </a:lnTo>
                        <a:lnTo>
                          <a:pt x="326" y="0"/>
                        </a:lnTo>
                        <a:lnTo>
                          <a:pt x="290" y="2"/>
                        </a:lnTo>
                        <a:lnTo>
                          <a:pt x="249" y="6"/>
                        </a:lnTo>
                        <a:lnTo>
                          <a:pt x="244" y="8"/>
                        </a:lnTo>
                        <a:lnTo>
                          <a:pt x="232" y="13"/>
                        </a:lnTo>
                        <a:lnTo>
                          <a:pt x="212" y="22"/>
                        </a:lnTo>
                        <a:lnTo>
                          <a:pt x="188" y="34"/>
                        </a:lnTo>
                        <a:lnTo>
                          <a:pt x="160" y="48"/>
                        </a:lnTo>
                        <a:lnTo>
                          <a:pt x="130" y="64"/>
                        </a:lnTo>
                        <a:lnTo>
                          <a:pt x="100" y="82"/>
                        </a:lnTo>
                        <a:lnTo>
                          <a:pt x="71" y="102"/>
                        </a:lnTo>
                        <a:lnTo>
                          <a:pt x="46" y="123"/>
                        </a:lnTo>
                        <a:lnTo>
                          <a:pt x="24" y="144"/>
                        </a:lnTo>
                        <a:lnTo>
                          <a:pt x="9" y="166"/>
                        </a:lnTo>
                        <a:lnTo>
                          <a:pt x="0" y="189"/>
                        </a:lnTo>
                        <a:lnTo>
                          <a:pt x="1" y="212"/>
                        </a:lnTo>
                        <a:lnTo>
                          <a:pt x="13" y="234"/>
                        </a:lnTo>
                        <a:lnTo>
                          <a:pt x="37" y="255"/>
                        </a:lnTo>
                        <a:lnTo>
                          <a:pt x="74" y="276"/>
                        </a:lnTo>
                        <a:lnTo>
                          <a:pt x="77" y="276"/>
                        </a:lnTo>
                        <a:lnTo>
                          <a:pt x="86" y="278"/>
                        </a:lnTo>
                        <a:lnTo>
                          <a:pt x="100" y="279"/>
                        </a:lnTo>
                        <a:lnTo>
                          <a:pt x="119" y="280"/>
                        </a:lnTo>
                        <a:lnTo>
                          <a:pt x="141" y="280"/>
                        </a:lnTo>
                        <a:lnTo>
                          <a:pt x="166" y="280"/>
                        </a:lnTo>
                        <a:lnTo>
                          <a:pt x="194" y="277"/>
                        </a:lnTo>
                        <a:lnTo>
                          <a:pt x="222" y="272"/>
                        </a:lnTo>
                        <a:lnTo>
                          <a:pt x="252" y="264"/>
                        </a:lnTo>
                        <a:lnTo>
                          <a:pt x="282" y="254"/>
                        </a:lnTo>
                        <a:lnTo>
                          <a:pt x="312" y="239"/>
                        </a:lnTo>
                        <a:lnTo>
                          <a:pt x="340" y="219"/>
                        </a:lnTo>
                        <a:lnTo>
                          <a:pt x="366" y="196"/>
                        </a:lnTo>
                        <a:lnTo>
                          <a:pt x="390" y="166"/>
                        </a:lnTo>
                        <a:lnTo>
                          <a:pt x="410" y="132"/>
                        </a:lnTo>
                        <a:lnTo>
                          <a:pt x="426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509920" y="3098160"/>
                    <a:ext cx="439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80">
                        <a:moveTo>
                          <a:pt x="274" y="58"/>
                        </a:moveTo>
                        <a:lnTo>
                          <a:pt x="275" y="54"/>
                        </a:lnTo>
                        <a:lnTo>
                          <a:pt x="278" y="46"/>
                        </a:lnTo>
                        <a:lnTo>
                          <a:pt x="278" y="34"/>
                        </a:lnTo>
                        <a:lnTo>
                          <a:pt x="275" y="23"/>
                        </a:lnTo>
                        <a:lnTo>
                          <a:pt x="264" y="11"/>
                        </a:lnTo>
                        <a:lnTo>
                          <a:pt x="242" y="3"/>
                        </a:lnTo>
                        <a:lnTo>
                          <a:pt x="209" y="0"/>
                        </a:lnTo>
                        <a:lnTo>
                          <a:pt x="159" y="3"/>
                        </a:lnTo>
                        <a:lnTo>
                          <a:pt x="156" y="5"/>
                        </a:lnTo>
                        <a:lnTo>
                          <a:pt x="148" y="8"/>
                        </a:lnTo>
                        <a:lnTo>
                          <a:pt x="136" y="14"/>
                        </a:lnTo>
                        <a:lnTo>
                          <a:pt x="120" y="21"/>
                        </a:lnTo>
                        <a:lnTo>
                          <a:pt x="103" y="30"/>
                        </a:lnTo>
                        <a:lnTo>
                          <a:pt x="83" y="40"/>
                        </a:lnTo>
                        <a:lnTo>
                          <a:pt x="65" y="52"/>
                        </a:lnTo>
                        <a:lnTo>
                          <a:pt x="47" y="64"/>
                        </a:lnTo>
                        <a:lnTo>
                          <a:pt x="29" y="78"/>
                        </a:lnTo>
                        <a:lnTo>
                          <a:pt x="15" y="92"/>
                        </a:lnTo>
                        <a:lnTo>
                          <a:pt x="6" y="107"/>
                        </a:lnTo>
                        <a:lnTo>
                          <a:pt x="0" y="121"/>
                        </a:lnTo>
                        <a:lnTo>
                          <a:pt x="2" y="136"/>
                        </a:lnTo>
                        <a:lnTo>
                          <a:pt x="8" y="150"/>
                        </a:lnTo>
                        <a:lnTo>
                          <a:pt x="23" y="164"/>
                        </a:lnTo>
                        <a:lnTo>
                          <a:pt x="48" y="176"/>
                        </a:lnTo>
                        <a:lnTo>
                          <a:pt x="50" y="176"/>
                        </a:lnTo>
                        <a:lnTo>
                          <a:pt x="56" y="177"/>
                        </a:lnTo>
                        <a:lnTo>
                          <a:pt x="65" y="178"/>
                        </a:lnTo>
                        <a:lnTo>
                          <a:pt x="76" y="180"/>
                        </a:lnTo>
                        <a:lnTo>
                          <a:pt x="90" y="180"/>
                        </a:lnTo>
                        <a:lnTo>
                          <a:pt x="106" y="178"/>
                        </a:lnTo>
                        <a:lnTo>
                          <a:pt x="124" y="177"/>
                        </a:lnTo>
                        <a:lnTo>
                          <a:pt x="143" y="174"/>
                        </a:lnTo>
                        <a:lnTo>
                          <a:pt x="162" y="169"/>
                        </a:lnTo>
                        <a:lnTo>
                          <a:pt x="181" y="162"/>
                        </a:lnTo>
                        <a:lnTo>
                          <a:pt x="200" y="153"/>
                        </a:lnTo>
                        <a:lnTo>
                          <a:pt x="218" y="140"/>
                        </a:lnTo>
                        <a:lnTo>
                          <a:pt x="236" y="125"/>
                        </a:lnTo>
                        <a:lnTo>
                          <a:pt x="250" y="107"/>
                        </a:lnTo>
                        <a:lnTo>
                          <a:pt x="263" y="84"/>
                        </a:lnTo>
                        <a:lnTo>
                          <a:pt x="274" y="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505600" y="2942280"/>
                    <a:ext cx="939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371">
                        <a:moveTo>
                          <a:pt x="594" y="223"/>
                        </a:moveTo>
                        <a:lnTo>
                          <a:pt x="528" y="371"/>
                        </a:lnTo>
                        <a:lnTo>
                          <a:pt x="209" y="284"/>
                        </a:lnTo>
                        <a:lnTo>
                          <a:pt x="207" y="286"/>
                        </a:lnTo>
                        <a:lnTo>
                          <a:pt x="201" y="289"/>
                        </a:lnTo>
                        <a:lnTo>
                          <a:pt x="193" y="292"/>
                        </a:lnTo>
                        <a:lnTo>
                          <a:pt x="180" y="297"/>
                        </a:lnTo>
                        <a:lnTo>
                          <a:pt x="166" y="303"/>
                        </a:lnTo>
                        <a:lnTo>
                          <a:pt x="151" y="306"/>
                        </a:lnTo>
                        <a:lnTo>
                          <a:pt x="134" y="309"/>
                        </a:lnTo>
                        <a:lnTo>
                          <a:pt x="116" y="309"/>
                        </a:lnTo>
                        <a:lnTo>
                          <a:pt x="97" y="306"/>
                        </a:lnTo>
                        <a:lnTo>
                          <a:pt x="80" y="300"/>
                        </a:lnTo>
                        <a:lnTo>
                          <a:pt x="63" y="291"/>
                        </a:lnTo>
                        <a:lnTo>
                          <a:pt x="45" y="276"/>
                        </a:lnTo>
                        <a:lnTo>
                          <a:pt x="30" y="257"/>
                        </a:lnTo>
                        <a:lnTo>
                          <a:pt x="18" y="230"/>
                        </a:lnTo>
                        <a:lnTo>
                          <a:pt x="7" y="198"/>
                        </a:lnTo>
                        <a:lnTo>
                          <a:pt x="0" y="158"/>
                        </a:lnTo>
                        <a:lnTo>
                          <a:pt x="0" y="151"/>
                        </a:lnTo>
                        <a:lnTo>
                          <a:pt x="3" y="131"/>
                        </a:lnTo>
                        <a:lnTo>
                          <a:pt x="7" y="104"/>
                        </a:lnTo>
                        <a:lnTo>
                          <a:pt x="15" y="74"/>
                        </a:lnTo>
                        <a:lnTo>
                          <a:pt x="26" y="44"/>
                        </a:lnTo>
                        <a:lnTo>
                          <a:pt x="42" y="18"/>
                        </a:lnTo>
                        <a:lnTo>
                          <a:pt x="63" y="2"/>
                        </a:lnTo>
                        <a:lnTo>
                          <a:pt x="89" y="0"/>
                        </a:lnTo>
                        <a:lnTo>
                          <a:pt x="98" y="2"/>
                        </a:lnTo>
                        <a:lnTo>
                          <a:pt x="107" y="6"/>
                        </a:lnTo>
                        <a:lnTo>
                          <a:pt x="118" y="11"/>
                        </a:lnTo>
                        <a:lnTo>
                          <a:pt x="128" y="18"/>
                        </a:lnTo>
                        <a:lnTo>
                          <a:pt x="140" y="26"/>
                        </a:lnTo>
                        <a:lnTo>
                          <a:pt x="151" y="38"/>
                        </a:lnTo>
                        <a:lnTo>
                          <a:pt x="164" y="51"/>
                        </a:lnTo>
                        <a:lnTo>
                          <a:pt x="177" y="65"/>
                        </a:lnTo>
                        <a:lnTo>
                          <a:pt x="179" y="65"/>
                        </a:lnTo>
                        <a:lnTo>
                          <a:pt x="186" y="67"/>
                        </a:lnTo>
                        <a:lnTo>
                          <a:pt x="196" y="67"/>
                        </a:lnTo>
                        <a:lnTo>
                          <a:pt x="209" y="69"/>
                        </a:lnTo>
                        <a:lnTo>
                          <a:pt x="224" y="71"/>
                        </a:lnTo>
                        <a:lnTo>
                          <a:pt x="240" y="74"/>
                        </a:lnTo>
                        <a:lnTo>
                          <a:pt x="257" y="78"/>
                        </a:lnTo>
                        <a:lnTo>
                          <a:pt x="273" y="83"/>
                        </a:lnTo>
                        <a:lnTo>
                          <a:pt x="290" y="90"/>
                        </a:lnTo>
                        <a:lnTo>
                          <a:pt x="303" y="98"/>
                        </a:lnTo>
                        <a:lnTo>
                          <a:pt x="314" y="107"/>
                        </a:lnTo>
                        <a:lnTo>
                          <a:pt x="322" y="117"/>
                        </a:lnTo>
                        <a:lnTo>
                          <a:pt x="326" y="130"/>
                        </a:lnTo>
                        <a:lnTo>
                          <a:pt x="325" y="145"/>
                        </a:lnTo>
                        <a:lnTo>
                          <a:pt x="318" y="161"/>
                        </a:lnTo>
                        <a:lnTo>
                          <a:pt x="306" y="180"/>
                        </a:lnTo>
                        <a:lnTo>
                          <a:pt x="594" y="2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630160" y="2941200"/>
                    <a:ext cx="133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581200" y="2864520"/>
                    <a:ext cx="14004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641">
                        <a:moveTo>
                          <a:pt x="137" y="435"/>
                        </a:moveTo>
                        <a:lnTo>
                          <a:pt x="91" y="371"/>
                        </a:lnTo>
                        <a:lnTo>
                          <a:pt x="54" y="315"/>
                        </a:lnTo>
                        <a:lnTo>
                          <a:pt x="28" y="265"/>
                        </a:lnTo>
                        <a:lnTo>
                          <a:pt x="9" y="222"/>
                        </a:lnTo>
                        <a:lnTo>
                          <a:pt x="0" y="182"/>
                        </a:lnTo>
                        <a:lnTo>
                          <a:pt x="0" y="150"/>
                        </a:lnTo>
                        <a:lnTo>
                          <a:pt x="8" y="121"/>
                        </a:lnTo>
                        <a:lnTo>
                          <a:pt x="24" y="97"/>
                        </a:lnTo>
                        <a:lnTo>
                          <a:pt x="47" y="76"/>
                        </a:lnTo>
                        <a:lnTo>
                          <a:pt x="78" y="59"/>
                        </a:lnTo>
                        <a:lnTo>
                          <a:pt x="115" y="45"/>
                        </a:lnTo>
                        <a:lnTo>
                          <a:pt x="160" y="33"/>
                        </a:lnTo>
                        <a:lnTo>
                          <a:pt x="211" y="23"/>
                        </a:lnTo>
                        <a:lnTo>
                          <a:pt x="267" y="14"/>
                        </a:lnTo>
                        <a:lnTo>
                          <a:pt x="329" y="7"/>
                        </a:lnTo>
                        <a:lnTo>
                          <a:pt x="397" y="0"/>
                        </a:lnTo>
                        <a:lnTo>
                          <a:pt x="399" y="2"/>
                        </a:lnTo>
                        <a:lnTo>
                          <a:pt x="406" y="4"/>
                        </a:lnTo>
                        <a:lnTo>
                          <a:pt x="416" y="7"/>
                        </a:lnTo>
                        <a:lnTo>
                          <a:pt x="431" y="13"/>
                        </a:lnTo>
                        <a:lnTo>
                          <a:pt x="450" y="21"/>
                        </a:lnTo>
                        <a:lnTo>
                          <a:pt x="470" y="29"/>
                        </a:lnTo>
                        <a:lnTo>
                          <a:pt x="493" y="40"/>
                        </a:lnTo>
                        <a:lnTo>
                          <a:pt x="519" y="51"/>
                        </a:lnTo>
                        <a:lnTo>
                          <a:pt x="545" y="64"/>
                        </a:lnTo>
                        <a:lnTo>
                          <a:pt x="574" y="78"/>
                        </a:lnTo>
                        <a:lnTo>
                          <a:pt x="603" y="94"/>
                        </a:lnTo>
                        <a:lnTo>
                          <a:pt x="633" y="110"/>
                        </a:lnTo>
                        <a:lnTo>
                          <a:pt x="662" y="127"/>
                        </a:lnTo>
                        <a:lnTo>
                          <a:pt x="692" y="147"/>
                        </a:lnTo>
                        <a:lnTo>
                          <a:pt x="720" y="166"/>
                        </a:lnTo>
                        <a:lnTo>
                          <a:pt x="748" y="188"/>
                        </a:lnTo>
                        <a:lnTo>
                          <a:pt x="775" y="210"/>
                        </a:lnTo>
                        <a:lnTo>
                          <a:pt x="799" y="233"/>
                        </a:lnTo>
                        <a:lnTo>
                          <a:pt x="821" y="257"/>
                        </a:lnTo>
                        <a:lnTo>
                          <a:pt x="840" y="283"/>
                        </a:lnTo>
                        <a:lnTo>
                          <a:pt x="856" y="309"/>
                        </a:lnTo>
                        <a:lnTo>
                          <a:pt x="869" y="336"/>
                        </a:lnTo>
                        <a:lnTo>
                          <a:pt x="878" y="363"/>
                        </a:lnTo>
                        <a:lnTo>
                          <a:pt x="883" y="392"/>
                        </a:lnTo>
                        <a:lnTo>
                          <a:pt x="883" y="421"/>
                        </a:lnTo>
                        <a:lnTo>
                          <a:pt x="878" y="451"/>
                        </a:lnTo>
                        <a:lnTo>
                          <a:pt x="867" y="481"/>
                        </a:lnTo>
                        <a:lnTo>
                          <a:pt x="851" y="512"/>
                        </a:lnTo>
                        <a:lnTo>
                          <a:pt x="829" y="543"/>
                        </a:lnTo>
                        <a:lnTo>
                          <a:pt x="799" y="575"/>
                        </a:lnTo>
                        <a:lnTo>
                          <a:pt x="763" y="608"/>
                        </a:lnTo>
                        <a:lnTo>
                          <a:pt x="719" y="641"/>
                        </a:lnTo>
                        <a:lnTo>
                          <a:pt x="715" y="641"/>
                        </a:lnTo>
                        <a:lnTo>
                          <a:pt x="703" y="639"/>
                        </a:lnTo>
                        <a:lnTo>
                          <a:pt x="685" y="635"/>
                        </a:lnTo>
                        <a:lnTo>
                          <a:pt x="660" y="632"/>
                        </a:lnTo>
                        <a:lnTo>
                          <a:pt x="629" y="626"/>
                        </a:lnTo>
                        <a:lnTo>
                          <a:pt x="595" y="618"/>
                        </a:lnTo>
                        <a:lnTo>
                          <a:pt x="556" y="609"/>
                        </a:lnTo>
                        <a:lnTo>
                          <a:pt x="513" y="598"/>
                        </a:lnTo>
                        <a:lnTo>
                          <a:pt x="468" y="586"/>
                        </a:lnTo>
                        <a:lnTo>
                          <a:pt x="421" y="571"/>
                        </a:lnTo>
                        <a:lnTo>
                          <a:pt x="372" y="555"/>
                        </a:lnTo>
                        <a:lnTo>
                          <a:pt x="324" y="535"/>
                        </a:lnTo>
                        <a:lnTo>
                          <a:pt x="274" y="514"/>
                        </a:lnTo>
                        <a:lnTo>
                          <a:pt x="227" y="490"/>
                        </a:lnTo>
                        <a:lnTo>
                          <a:pt x="181" y="464"/>
                        </a:lnTo>
                        <a:lnTo>
                          <a:pt x="137" y="4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642400" y="29502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89">
                        <a:moveTo>
                          <a:pt x="139" y="0"/>
                        </a:moveTo>
                        <a:lnTo>
                          <a:pt x="141" y="7"/>
                        </a:lnTo>
                        <a:lnTo>
                          <a:pt x="148" y="26"/>
                        </a:lnTo>
                        <a:lnTo>
                          <a:pt x="158" y="53"/>
                        </a:lnTo>
                        <a:lnTo>
                          <a:pt x="166" y="85"/>
                        </a:lnTo>
                        <a:lnTo>
                          <a:pt x="170" y="119"/>
                        </a:lnTo>
                        <a:lnTo>
                          <a:pt x="170" y="150"/>
                        </a:lnTo>
                        <a:lnTo>
                          <a:pt x="163" y="174"/>
                        </a:lnTo>
                        <a:lnTo>
                          <a:pt x="146" y="189"/>
                        </a:lnTo>
                        <a:lnTo>
                          <a:pt x="0" y="146"/>
                        </a:lnTo>
                        <a:lnTo>
                          <a:pt x="128" y="12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670480" y="2963160"/>
                    <a:ext cx="129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80">
                        <a:moveTo>
                          <a:pt x="0" y="40"/>
                        </a:moveTo>
                        <a:lnTo>
                          <a:pt x="3" y="55"/>
                        </a:lnTo>
                        <a:lnTo>
                          <a:pt x="10" y="68"/>
                        </a:lnTo>
                        <a:lnTo>
                          <a:pt x="19" y="76"/>
                        </a:lnTo>
                        <a:lnTo>
                          <a:pt x="32" y="80"/>
                        </a:lnTo>
                        <a:lnTo>
                          <a:pt x="43" y="76"/>
                        </a:lnTo>
                        <a:lnTo>
                          <a:pt x="52" y="68"/>
                        </a:lnTo>
                        <a:lnTo>
                          <a:pt x="59" y="55"/>
                        </a:lnTo>
                        <a:lnTo>
                          <a:pt x="62" y="40"/>
                        </a:lnTo>
                        <a:lnTo>
                          <a:pt x="59" y="25"/>
                        </a:lnTo>
                        <a:lnTo>
                          <a:pt x="52" y="12"/>
                        </a:lnTo>
                        <a:lnTo>
                          <a:pt x="43" y="4"/>
                        </a:lnTo>
                        <a:lnTo>
                          <a:pt x="32" y="0"/>
                        </a:lnTo>
                        <a:lnTo>
                          <a:pt x="19" y="4"/>
                        </a:lnTo>
                        <a:lnTo>
                          <a:pt x="10" y="12"/>
                        </a:lnTo>
                        <a:lnTo>
                          <a:pt x="3" y="2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573280" y="2775240"/>
                    <a:ext cx="17532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3" h="932">
                        <a:moveTo>
                          <a:pt x="11" y="365"/>
                        </a:moveTo>
                        <a:lnTo>
                          <a:pt x="15" y="356"/>
                        </a:lnTo>
                        <a:lnTo>
                          <a:pt x="20" y="347"/>
                        </a:lnTo>
                        <a:lnTo>
                          <a:pt x="24" y="339"/>
                        </a:lnTo>
                        <a:lnTo>
                          <a:pt x="30" y="331"/>
                        </a:lnTo>
                        <a:lnTo>
                          <a:pt x="36" y="323"/>
                        </a:lnTo>
                        <a:lnTo>
                          <a:pt x="41" y="315"/>
                        </a:lnTo>
                        <a:lnTo>
                          <a:pt x="48" y="308"/>
                        </a:lnTo>
                        <a:lnTo>
                          <a:pt x="55" y="301"/>
                        </a:lnTo>
                        <a:lnTo>
                          <a:pt x="62" y="295"/>
                        </a:lnTo>
                        <a:lnTo>
                          <a:pt x="70" y="288"/>
                        </a:lnTo>
                        <a:lnTo>
                          <a:pt x="79" y="282"/>
                        </a:lnTo>
                        <a:lnTo>
                          <a:pt x="88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90" y="276"/>
                        </a:lnTo>
                        <a:lnTo>
                          <a:pt x="132" y="234"/>
                        </a:lnTo>
                        <a:lnTo>
                          <a:pt x="83" y="83"/>
                        </a:lnTo>
                        <a:lnTo>
                          <a:pt x="200" y="0"/>
                        </a:lnTo>
                        <a:lnTo>
                          <a:pt x="245" y="96"/>
                        </a:lnTo>
                        <a:lnTo>
                          <a:pt x="177" y="132"/>
                        </a:lnTo>
                        <a:lnTo>
                          <a:pt x="210" y="214"/>
                        </a:lnTo>
                        <a:lnTo>
                          <a:pt x="225" y="209"/>
                        </a:lnTo>
                        <a:lnTo>
                          <a:pt x="243" y="203"/>
                        </a:lnTo>
                        <a:lnTo>
                          <a:pt x="265" y="199"/>
                        </a:lnTo>
                        <a:lnTo>
                          <a:pt x="287" y="197"/>
                        </a:lnTo>
                        <a:lnTo>
                          <a:pt x="307" y="195"/>
                        </a:lnTo>
                        <a:lnTo>
                          <a:pt x="324" y="195"/>
                        </a:lnTo>
                        <a:lnTo>
                          <a:pt x="335" y="194"/>
                        </a:lnTo>
                        <a:lnTo>
                          <a:pt x="340" y="194"/>
                        </a:lnTo>
                        <a:lnTo>
                          <a:pt x="332" y="38"/>
                        </a:lnTo>
                        <a:lnTo>
                          <a:pt x="460" y="22"/>
                        </a:lnTo>
                        <a:lnTo>
                          <a:pt x="467" y="118"/>
                        </a:lnTo>
                        <a:lnTo>
                          <a:pt x="396" y="112"/>
                        </a:lnTo>
                        <a:lnTo>
                          <a:pt x="407" y="204"/>
                        </a:lnTo>
                        <a:lnTo>
                          <a:pt x="418" y="198"/>
                        </a:lnTo>
                        <a:lnTo>
                          <a:pt x="438" y="197"/>
                        </a:lnTo>
                        <a:lnTo>
                          <a:pt x="462" y="198"/>
                        </a:lnTo>
                        <a:lnTo>
                          <a:pt x="487" y="202"/>
                        </a:lnTo>
                        <a:lnTo>
                          <a:pt x="513" y="208"/>
                        </a:lnTo>
                        <a:lnTo>
                          <a:pt x="534" y="212"/>
                        </a:lnTo>
                        <a:lnTo>
                          <a:pt x="549" y="216"/>
                        </a:lnTo>
                        <a:lnTo>
                          <a:pt x="554" y="217"/>
                        </a:lnTo>
                        <a:lnTo>
                          <a:pt x="574" y="98"/>
                        </a:lnTo>
                        <a:lnTo>
                          <a:pt x="727" y="140"/>
                        </a:lnTo>
                        <a:lnTo>
                          <a:pt x="702" y="220"/>
                        </a:lnTo>
                        <a:lnTo>
                          <a:pt x="630" y="189"/>
                        </a:lnTo>
                        <a:lnTo>
                          <a:pt x="613" y="252"/>
                        </a:lnTo>
                        <a:lnTo>
                          <a:pt x="630" y="256"/>
                        </a:lnTo>
                        <a:lnTo>
                          <a:pt x="652" y="266"/>
                        </a:lnTo>
                        <a:lnTo>
                          <a:pt x="676" y="281"/>
                        </a:lnTo>
                        <a:lnTo>
                          <a:pt x="701" y="299"/>
                        </a:lnTo>
                        <a:lnTo>
                          <a:pt x="724" y="315"/>
                        </a:lnTo>
                        <a:lnTo>
                          <a:pt x="742" y="330"/>
                        </a:lnTo>
                        <a:lnTo>
                          <a:pt x="755" y="341"/>
                        </a:lnTo>
                        <a:lnTo>
                          <a:pt x="759" y="345"/>
                        </a:lnTo>
                        <a:lnTo>
                          <a:pt x="841" y="250"/>
                        </a:lnTo>
                        <a:lnTo>
                          <a:pt x="952" y="323"/>
                        </a:lnTo>
                        <a:lnTo>
                          <a:pt x="912" y="395"/>
                        </a:lnTo>
                        <a:lnTo>
                          <a:pt x="845" y="342"/>
                        </a:lnTo>
                        <a:lnTo>
                          <a:pt x="815" y="402"/>
                        </a:lnTo>
                        <a:lnTo>
                          <a:pt x="834" y="415"/>
                        </a:lnTo>
                        <a:lnTo>
                          <a:pt x="855" y="433"/>
                        </a:lnTo>
                        <a:lnTo>
                          <a:pt x="875" y="453"/>
                        </a:lnTo>
                        <a:lnTo>
                          <a:pt x="894" y="474"/>
                        </a:lnTo>
                        <a:lnTo>
                          <a:pt x="910" y="493"/>
                        </a:lnTo>
                        <a:lnTo>
                          <a:pt x="923" y="511"/>
                        </a:lnTo>
                        <a:lnTo>
                          <a:pt x="931" y="521"/>
                        </a:lnTo>
                        <a:lnTo>
                          <a:pt x="935" y="525"/>
                        </a:lnTo>
                        <a:lnTo>
                          <a:pt x="1061" y="508"/>
                        </a:lnTo>
                        <a:lnTo>
                          <a:pt x="1103" y="591"/>
                        </a:lnTo>
                        <a:lnTo>
                          <a:pt x="1034" y="627"/>
                        </a:lnTo>
                        <a:lnTo>
                          <a:pt x="997" y="565"/>
                        </a:lnTo>
                        <a:lnTo>
                          <a:pt x="932" y="591"/>
                        </a:lnTo>
                        <a:lnTo>
                          <a:pt x="943" y="611"/>
                        </a:lnTo>
                        <a:lnTo>
                          <a:pt x="953" y="630"/>
                        </a:lnTo>
                        <a:lnTo>
                          <a:pt x="960" y="650"/>
                        </a:lnTo>
                        <a:lnTo>
                          <a:pt x="967" y="668"/>
                        </a:lnTo>
                        <a:lnTo>
                          <a:pt x="971" y="688"/>
                        </a:lnTo>
                        <a:lnTo>
                          <a:pt x="975" y="706"/>
                        </a:lnTo>
                        <a:lnTo>
                          <a:pt x="976" y="725"/>
                        </a:lnTo>
                        <a:lnTo>
                          <a:pt x="976" y="743"/>
                        </a:lnTo>
                        <a:lnTo>
                          <a:pt x="883" y="743"/>
                        </a:lnTo>
                        <a:lnTo>
                          <a:pt x="886" y="720"/>
                        </a:lnTo>
                        <a:lnTo>
                          <a:pt x="886" y="696"/>
                        </a:lnTo>
                        <a:lnTo>
                          <a:pt x="883" y="672"/>
                        </a:lnTo>
                        <a:lnTo>
                          <a:pt x="876" y="646"/>
                        </a:lnTo>
                        <a:lnTo>
                          <a:pt x="867" y="621"/>
                        </a:lnTo>
                        <a:lnTo>
                          <a:pt x="853" y="596"/>
                        </a:lnTo>
                        <a:lnTo>
                          <a:pt x="837" y="570"/>
                        </a:lnTo>
                        <a:lnTo>
                          <a:pt x="818" y="545"/>
                        </a:lnTo>
                        <a:lnTo>
                          <a:pt x="796" y="520"/>
                        </a:lnTo>
                        <a:lnTo>
                          <a:pt x="772" y="494"/>
                        </a:lnTo>
                        <a:lnTo>
                          <a:pt x="746" y="471"/>
                        </a:lnTo>
                        <a:lnTo>
                          <a:pt x="717" y="448"/>
                        </a:lnTo>
                        <a:lnTo>
                          <a:pt x="686" y="426"/>
                        </a:lnTo>
                        <a:lnTo>
                          <a:pt x="653" y="405"/>
                        </a:lnTo>
                        <a:lnTo>
                          <a:pt x="618" y="386"/>
                        </a:lnTo>
                        <a:lnTo>
                          <a:pt x="581" y="368"/>
                        </a:lnTo>
                        <a:lnTo>
                          <a:pt x="549" y="354"/>
                        </a:lnTo>
                        <a:lnTo>
                          <a:pt x="517" y="342"/>
                        </a:lnTo>
                        <a:lnTo>
                          <a:pt x="486" y="332"/>
                        </a:lnTo>
                        <a:lnTo>
                          <a:pt x="455" y="324"/>
                        </a:lnTo>
                        <a:lnTo>
                          <a:pt x="425" y="317"/>
                        </a:lnTo>
                        <a:lnTo>
                          <a:pt x="395" y="312"/>
                        </a:lnTo>
                        <a:lnTo>
                          <a:pt x="366" y="309"/>
                        </a:lnTo>
                        <a:lnTo>
                          <a:pt x="339" y="307"/>
                        </a:lnTo>
                        <a:lnTo>
                          <a:pt x="312" y="307"/>
                        </a:lnTo>
                        <a:lnTo>
                          <a:pt x="286" y="309"/>
                        </a:lnTo>
                        <a:lnTo>
                          <a:pt x="262" y="312"/>
                        </a:lnTo>
                        <a:lnTo>
                          <a:pt x="239" y="317"/>
                        </a:lnTo>
                        <a:lnTo>
                          <a:pt x="217" y="324"/>
                        </a:lnTo>
                        <a:lnTo>
                          <a:pt x="197" y="332"/>
                        </a:lnTo>
                        <a:lnTo>
                          <a:pt x="179" y="341"/>
                        </a:lnTo>
                        <a:lnTo>
                          <a:pt x="161" y="353"/>
                        </a:lnTo>
                        <a:lnTo>
                          <a:pt x="153" y="358"/>
                        </a:lnTo>
                        <a:lnTo>
                          <a:pt x="145" y="365"/>
                        </a:lnTo>
                        <a:lnTo>
                          <a:pt x="138" y="372"/>
                        </a:lnTo>
                        <a:lnTo>
                          <a:pt x="132" y="380"/>
                        </a:lnTo>
                        <a:lnTo>
                          <a:pt x="128" y="388"/>
                        </a:lnTo>
                        <a:lnTo>
                          <a:pt x="122" y="396"/>
                        </a:lnTo>
                        <a:lnTo>
                          <a:pt x="119" y="405"/>
                        </a:lnTo>
                        <a:lnTo>
                          <a:pt x="115" y="413"/>
                        </a:lnTo>
                        <a:lnTo>
                          <a:pt x="108" y="436"/>
                        </a:lnTo>
                        <a:lnTo>
                          <a:pt x="106" y="460"/>
                        </a:lnTo>
                        <a:lnTo>
                          <a:pt x="107" y="485"/>
                        </a:lnTo>
                        <a:lnTo>
                          <a:pt x="112" y="512"/>
                        </a:lnTo>
                        <a:lnTo>
                          <a:pt x="121" y="538"/>
                        </a:lnTo>
                        <a:lnTo>
                          <a:pt x="132" y="565"/>
                        </a:lnTo>
                        <a:lnTo>
                          <a:pt x="147" y="591"/>
                        </a:lnTo>
                        <a:lnTo>
                          <a:pt x="166" y="619"/>
                        </a:lnTo>
                        <a:lnTo>
                          <a:pt x="188" y="645"/>
                        </a:lnTo>
                        <a:lnTo>
                          <a:pt x="212" y="671"/>
                        </a:lnTo>
                        <a:lnTo>
                          <a:pt x="240" y="696"/>
                        </a:lnTo>
                        <a:lnTo>
                          <a:pt x="268" y="720"/>
                        </a:lnTo>
                        <a:lnTo>
                          <a:pt x="301" y="744"/>
                        </a:lnTo>
                        <a:lnTo>
                          <a:pt x="335" y="766"/>
                        </a:lnTo>
                        <a:lnTo>
                          <a:pt x="372" y="787"/>
                        </a:lnTo>
                        <a:lnTo>
                          <a:pt x="410" y="805"/>
                        </a:lnTo>
                        <a:lnTo>
                          <a:pt x="447" y="820"/>
                        </a:lnTo>
                        <a:lnTo>
                          <a:pt x="484" y="834"/>
                        </a:lnTo>
                        <a:lnTo>
                          <a:pt x="520" y="845"/>
                        </a:lnTo>
                        <a:lnTo>
                          <a:pt x="555" y="854"/>
                        </a:lnTo>
                        <a:lnTo>
                          <a:pt x="590" y="860"/>
                        </a:lnTo>
                        <a:lnTo>
                          <a:pt x="625" y="864"/>
                        </a:lnTo>
                        <a:lnTo>
                          <a:pt x="657" y="865"/>
                        </a:lnTo>
                        <a:lnTo>
                          <a:pt x="688" y="865"/>
                        </a:lnTo>
                        <a:lnTo>
                          <a:pt x="718" y="862"/>
                        </a:lnTo>
                        <a:lnTo>
                          <a:pt x="746" y="857"/>
                        </a:lnTo>
                        <a:lnTo>
                          <a:pt x="771" y="850"/>
                        </a:lnTo>
                        <a:lnTo>
                          <a:pt x="795" y="841"/>
                        </a:lnTo>
                        <a:lnTo>
                          <a:pt x="817" y="830"/>
                        </a:lnTo>
                        <a:lnTo>
                          <a:pt x="835" y="817"/>
                        </a:lnTo>
                        <a:lnTo>
                          <a:pt x="852" y="801"/>
                        </a:lnTo>
                        <a:lnTo>
                          <a:pt x="865" y="784"/>
                        </a:lnTo>
                        <a:lnTo>
                          <a:pt x="970" y="784"/>
                        </a:lnTo>
                        <a:lnTo>
                          <a:pt x="969" y="787"/>
                        </a:lnTo>
                        <a:lnTo>
                          <a:pt x="968" y="792"/>
                        </a:lnTo>
                        <a:lnTo>
                          <a:pt x="967" y="795"/>
                        </a:lnTo>
                        <a:lnTo>
                          <a:pt x="966" y="800"/>
                        </a:lnTo>
                        <a:lnTo>
                          <a:pt x="952" y="826"/>
                        </a:lnTo>
                        <a:lnTo>
                          <a:pt x="935" y="850"/>
                        </a:lnTo>
                        <a:lnTo>
                          <a:pt x="913" y="871"/>
                        </a:lnTo>
                        <a:lnTo>
                          <a:pt x="886" y="889"/>
                        </a:lnTo>
                        <a:lnTo>
                          <a:pt x="857" y="903"/>
                        </a:lnTo>
                        <a:lnTo>
                          <a:pt x="825" y="915"/>
                        </a:lnTo>
                        <a:lnTo>
                          <a:pt x="789" y="924"/>
                        </a:lnTo>
                        <a:lnTo>
                          <a:pt x="750" y="930"/>
                        </a:lnTo>
                        <a:lnTo>
                          <a:pt x="710" y="932"/>
                        </a:lnTo>
                        <a:lnTo>
                          <a:pt x="667" y="931"/>
                        </a:lnTo>
                        <a:lnTo>
                          <a:pt x="622" y="926"/>
                        </a:lnTo>
                        <a:lnTo>
                          <a:pt x="576" y="919"/>
                        </a:lnTo>
                        <a:lnTo>
                          <a:pt x="528" y="908"/>
                        </a:lnTo>
                        <a:lnTo>
                          <a:pt x="479" y="894"/>
                        </a:lnTo>
                        <a:lnTo>
                          <a:pt x="431" y="877"/>
                        </a:lnTo>
                        <a:lnTo>
                          <a:pt x="381" y="856"/>
                        </a:lnTo>
                        <a:lnTo>
                          <a:pt x="333" y="832"/>
                        </a:lnTo>
                        <a:lnTo>
                          <a:pt x="288" y="807"/>
                        </a:lnTo>
                        <a:lnTo>
                          <a:pt x="244" y="779"/>
                        </a:lnTo>
                        <a:lnTo>
                          <a:pt x="204" y="750"/>
                        </a:lnTo>
                        <a:lnTo>
                          <a:pt x="167" y="719"/>
                        </a:lnTo>
                        <a:lnTo>
                          <a:pt x="134" y="688"/>
                        </a:lnTo>
                        <a:lnTo>
                          <a:pt x="103" y="655"/>
                        </a:lnTo>
                        <a:lnTo>
                          <a:pt x="76" y="622"/>
                        </a:lnTo>
                        <a:lnTo>
                          <a:pt x="53" y="589"/>
                        </a:lnTo>
                        <a:lnTo>
                          <a:pt x="33" y="555"/>
                        </a:lnTo>
                        <a:lnTo>
                          <a:pt x="18" y="522"/>
                        </a:lnTo>
                        <a:lnTo>
                          <a:pt x="8" y="489"/>
                        </a:lnTo>
                        <a:lnTo>
                          <a:pt x="1" y="456"/>
                        </a:lnTo>
                        <a:lnTo>
                          <a:pt x="0" y="425"/>
                        </a:lnTo>
                        <a:lnTo>
                          <a:pt x="3" y="394"/>
                        </a:lnTo>
                        <a:lnTo>
                          <a:pt x="11" y="3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697480" y="3016800"/>
                    <a:ext cx="176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1">
                        <a:moveTo>
                          <a:pt x="13" y="16"/>
                        </a:moveTo>
                        <a:lnTo>
                          <a:pt x="14" y="13"/>
                        </a:lnTo>
                        <a:lnTo>
                          <a:pt x="15" y="8"/>
                        </a:lnTo>
                        <a:lnTo>
                          <a:pt x="17" y="5"/>
                        </a:lnTo>
                        <a:lnTo>
                          <a:pt x="18" y="0"/>
                        </a:lnTo>
                        <a:lnTo>
                          <a:pt x="111" y="0"/>
                        </a:lnTo>
                        <a:lnTo>
                          <a:pt x="111" y="11"/>
                        </a:lnTo>
                        <a:lnTo>
                          <a:pt x="110" y="20"/>
                        </a:lnTo>
                        <a:lnTo>
                          <a:pt x="108" y="30"/>
                        </a:lnTo>
                        <a:lnTo>
                          <a:pt x="105" y="41"/>
                        </a:lnTo>
                        <a:lnTo>
                          <a:pt x="0" y="41"/>
                        </a:lnTo>
                        <a:lnTo>
                          <a:pt x="4" y="35"/>
                        </a:lnTo>
                        <a:lnTo>
                          <a:pt x="7" y="29"/>
                        </a:lnTo>
                        <a:lnTo>
                          <a:pt x="11" y="23"/>
                        </a:lnTo>
                        <a:lnTo>
                          <a:pt x="1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630160" y="2941200"/>
                    <a:ext cx="133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611800" y="2993400"/>
                    <a:ext cx="201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5">
                        <a:moveTo>
                          <a:pt x="128" y="37"/>
                        </a:moveTo>
                        <a:lnTo>
                          <a:pt x="127" y="45"/>
                        </a:lnTo>
                        <a:lnTo>
                          <a:pt x="123" y="52"/>
                        </a:lnTo>
                        <a:lnTo>
                          <a:pt x="117" y="58"/>
                        </a:lnTo>
                        <a:lnTo>
                          <a:pt x="110" y="63"/>
                        </a:lnTo>
                        <a:lnTo>
                          <a:pt x="99" y="68"/>
                        </a:lnTo>
                        <a:lnTo>
                          <a:pt x="89" y="71"/>
                        </a:lnTo>
                        <a:lnTo>
                          <a:pt x="76" y="74"/>
                        </a:lnTo>
                        <a:lnTo>
                          <a:pt x="64" y="75"/>
                        </a:lnTo>
                        <a:lnTo>
                          <a:pt x="51" y="74"/>
                        </a:lnTo>
                        <a:lnTo>
                          <a:pt x="39" y="71"/>
                        </a:lnTo>
                        <a:lnTo>
                          <a:pt x="28" y="68"/>
                        </a:lnTo>
                        <a:lnTo>
                          <a:pt x="19" y="63"/>
                        </a:lnTo>
                        <a:lnTo>
                          <a:pt x="11" y="58"/>
                        </a:lnTo>
                        <a:lnTo>
                          <a:pt x="5" y="52"/>
                        </a:lnTo>
                        <a:lnTo>
                          <a:pt x="1" y="45"/>
                        </a:lnTo>
                        <a:lnTo>
                          <a:pt x="0" y="37"/>
                        </a:lnTo>
                        <a:lnTo>
                          <a:pt x="1" y="30"/>
                        </a:lnTo>
                        <a:lnTo>
                          <a:pt x="5" y="23"/>
                        </a:lnTo>
                        <a:lnTo>
                          <a:pt x="11" y="16"/>
                        </a:lnTo>
                        <a:lnTo>
                          <a:pt x="19" y="11"/>
                        </a:lnTo>
                        <a:lnTo>
                          <a:pt x="28" y="7"/>
                        </a:lnTo>
                        <a:lnTo>
                          <a:pt x="39" y="3"/>
                        </a:lnTo>
                        <a:lnTo>
                          <a:pt x="51" y="1"/>
                        </a:lnTo>
                        <a:lnTo>
                          <a:pt x="64" y="0"/>
                        </a:lnTo>
                        <a:lnTo>
                          <a:pt x="76" y="1"/>
                        </a:lnTo>
                        <a:lnTo>
                          <a:pt x="89" y="3"/>
                        </a:lnTo>
                        <a:lnTo>
                          <a:pt x="99" y="7"/>
                        </a:lnTo>
                        <a:lnTo>
                          <a:pt x="110" y="11"/>
                        </a:lnTo>
                        <a:lnTo>
                          <a:pt x="117" y="16"/>
                        </a:lnTo>
                        <a:lnTo>
                          <a:pt x="123" y="23"/>
                        </a:lnTo>
                        <a:lnTo>
                          <a:pt x="127" y="30"/>
                        </a:lnTo>
                        <a:lnTo>
                          <a:pt x="12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39080" y="2980440"/>
                    <a:ext cx="1245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7">
                        <a:moveTo>
                          <a:pt x="387" y="0"/>
                        </a:moveTo>
                        <a:lnTo>
                          <a:pt x="0" y="506"/>
                        </a:lnTo>
                        <a:lnTo>
                          <a:pt x="672" y="627"/>
                        </a:lnTo>
                        <a:lnTo>
                          <a:pt x="786" y="228"/>
                        </a:lnTo>
                        <a:lnTo>
                          <a:pt x="701" y="228"/>
                        </a:lnTo>
                        <a:lnTo>
                          <a:pt x="623" y="549"/>
                        </a:lnTo>
                        <a:lnTo>
                          <a:pt x="143" y="435"/>
                        </a:lnTo>
                        <a:lnTo>
                          <a:pt x="423" y="77"/>
                        </a:lnTo>
                        <a:lnTo>
                          <a:pt x="3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12440" y="2962080"/>
                    <a:ext cx="76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271">
                        <a:moveTo>
                          <a:pt x="447" y="271"/>
                        </a:moveTo>
                        <a:lnTo>
                          <a:pt x="156" y="171"/>
                        </a:lnTo>
                        <a:lnTo>
                          <a:pt x="153" y="176"/>
                        </a:lnTo>
                        <a:lnTo>
                          <a:pt x="142" y="190"/>
                        </a:lnTo>
                        <a:lnTo>
                          <a:pt x="126" y="208"/>
                        </a:lnTo>
                        <a:lnTo>
                          <a:pt x="106" y="223"/>
                        </a:lnTo>
                        <a:lnTo>
                          <a:pt x="83" y="231"/>
                        </a:lnTo>
                        <a:lnTo>
                          <a:pt x="56" y="225"/>
                        </a:lnTo>
                        <a:lnTo>
                          <a:pt x="28" y="201"/>
                        </a:lnTo>
                        <a:lnTo>
                          <a:pt x="0" y="153"/>
                        </a:lnTo>
                        <a:lnTo>
                          <a:pt x="5" y="75"/>
                        </a:lnTo>
                        <a:lnTo>
                          <a:pt x="6" y="72"/>
                        </a:lnTo>
                        <a:lnTo>
                          <a:pt x="9" y="61"/>
                        </a:lnTo>
                        <a:lnTo>
                          <a:pt x="13" y="47"/>
                        </a:lnTo>
                        <a:lnTo>
                          <a:pt x="19" y="32"/>
                        </a:lnTo>
                        <a:lnTo>
                          <a:pt x="27" y="19"/>
                        </a:lnTo>
                        <a:lnTo>
                          <a:pt x="35" y="7"/>
                        </a:lnTo>
                        <a:lnTo>
                          <a:pt x="46" y="0"/>
                        </a:lnTo>
                        <a:lnTo>
                          <a:pt x="56" y="1"/>
                        </a:lnTo>
                        <a:lnTo>
                          <a:pt x="64" y="8"/>
                        </a:lnTo>
                        <a:lnTo>
                          <a:pt x="72" y="19"/>
                        </a:lnTo>
                        <a:lnTo>
                          <a:pt x="80" y="36"/>
                        </a:lnTo>
                        <a:lnTo>
                          <a:pt x="88" y="59"/>
                        </a:lnTo>
                        <a:lnTo>
                          <a:pt x="89" y="62"/>
                        </a:lnTo>
                        <a:lnTo>
                          <a:pt x="93" y="72"/>
                        </a:lnTo>
                        <a:lnTo>
                          <a:pt x="99" y="83"/>
                        </a:lnTo>
                        <a:lnTo>
                          <a:pt x="107" y="96"/>
                        </a:lnTo>
                        <a:lnTo>
                          <a:pt x="116" y="107"/>
                        </a:lnTo>
                        <a:lnTo>
                          <a:pt x="127" y="114"/>
                        </a:lnTo>
                        <a:lnTo>
                          <a:pt x="140" y="115"/>
                        </a:lnTo>
                        <a:lnTo>
                          <a:pt x="155" y="109"/>
                        </a:lnTo>
                        <a:lnTo>
                          <a:pt x="161" y="106"/>
                        </a:lnTo>
                        <a:lnTo>
                          <a:pt x="175" y="102"/>
                        </a:lnTo>
                        <a:lnTo>
                          <a:pt x="194" y="97"/>
                        </a:lnTo>
                        <a:lnTo>
                          <a:pt x="213" y="92"/>
                        </a:lnTo>
                        <a:lnTo>
                          <a:pt x="227" y="92"/>
                        </a:lnTo>
                        <a:lnTo>
                          <a:pt x="231" y="97"/>
                        </a:lnTo>
                        <a:lnTo>
                          <a:pt x="223" y="109"/>
                        </a:lnTo>
                        <a:lnTo>
                          <a:pt x="197" y="130"/>
                        </a:lnTo>
                        <a:lnTo>
                          <a:pt x="480" y="216"/>
                        </a:lnTo>
                        <a:lnTo>
                          <a:pt x="447" y="27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720520" y="2970000"/>
                    <a:ext cx="9432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67">
                        <a:moveTo>
                          <a:pt x="0" y="271"/>
                        </a:moveTo>
                        <a:lnTo>
                          <a:pt x="143" y="0"/>
                        </a:lnTo>
                        <a:lnTo>
                          <a:pt x="286" y="44"/>
                        </a:lnTo>
                        <a:lnTo>
                          <a:pt x="265" y="199"/>
                        </a:lnTo>
                        <a:lnTo>
                          <a:pt x="522" y="63"/>
                        </a:lnTo>
                        <a:lnTo>
                          <a:pt x="526" y="68"/>
                        </a:lnTo>
                        <a:lnTo>
                          <a:pt x="540" y="81"/>
                        </a:lnTo>
                        <a:lnTo>
                          <a:pt x="556" y="99"/>
                        </a:lnTo>
                        <a:lnTo>
                          <a:pt x="574" y="124"/>
                        </a:lnTo>
                        <a:lnTo>
                          <a:pt x="588" y="153"/>
                        </a:lnTo>
                        <a:lnTo>
                          <a:pt x="594" y="184"/>
                        </a:lnTo>
                        <a:lnTo>
                          <a:pt x="591" y="218"/>
                        </a:lnTo>
                        <a:lnTo>
                          <a:pt x="573" y="250"/>
                        </a:lnTo>
                        <a:lnTo>
                          <a:pt x="571" y="256"/>
                        </a:lnTo>
                        <a:lnTo>
                          <a:pt x="567" y="272"/>
                        </a:lnTo>
                        <a:lnTo>
                          <a:pt x="559" y="296"/>
                        </a:lnTo>
                        <a:lnTo>
                          <a:pt x="548" y="327"/>
                        </a:lnTo>
                        <a:lnTo>
                          <a:pt x="533" y="362"/>
                        </a:lnTo>
                        <a:lnTo>
                          <a:pt x="514" y="400"/>
                        </a:lnTo>
                        <a:lnTo>
                          <a:pt x="491" y="438"/>
                        </a:lnTo>
                        <a:lnTo>
                          <a:pt x="462" y="474"/>
                        </a:lnTo>
                        <a:lnTo>
                          <a:pt x="430" y="508"/>
                        </a:lnTo>
                        <a:lnTo>
                          <a:pt x="390" y="536"/>
                        </a:lnTo>
                        <a:lnTo>
                          <a:pt x="347" y="555"/>
                        </a:lnTo>
                        <a:lnTo>
                          <a:pt x="297" y="567"/>
                        </a:lnTo>
                        <a:lnTo>
                          <a:pt x="242" y="567"/>
                        </a:lnTo>
                        <a:lnTo>
                          <a:pt x="180" y="553"/>
                        </a:lnTo>
                        <a:lnTo>
                          <a:pt x="112" y="525"/>
                        </a:lnTo>
                        <a:lnTo>
                          <a:pt x="36" y="479"/>
                        </a:lnTo>
                        <a:lnTo>
                          <a:pt x="0" y="2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731320" y="2996640"/>
                    <a:ext cx="720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5">
                        <a:moveTo>
                          <a:pt x="0" y="175"/>
                        </a:moveTo>
                        <a:lnTo>
                          <a:pt x="89" y="0"/>
                        </a:lnTo>
                        <a:lnTo>
                          <a:pt x="124" y="22"/>
                        </a:lnTo>
                        <a:lnTo>
                          <a:pt x="138" y="165"/>
                        </a:lnTo>
                        <a:lnTo>
                          <a:pt x="210" y="180"/>
                        </a:lnTo>
                        <a:lnTo>
                          <a:pt x="403" y="58"/>
                        </a:lnTo>
                        <a:lnTo>
                          <a:pt x="409" y="60"/>
                        </a:lnTo>
                        <a:lnTo>
                          <a:pt x="420" y="67"/>
                        </a:lnTo>
                        <a:lnTo>
                          <a:pt x="435" y="78"/>
                        </a:lnTo>
                        <a:lnTo>
                          <a:pt x="447" y="95"/>
                        </a:lnTo>
                        <a:lnTo>
                          <a:pt x="452" y="115"/>
                        </a:lnTo>
                        <a:lnTo>
                          <a:pt x="442" y="140"/>
                        </a:lnTo>
                        <a:lnTo>
                          <a:pt x="416" y="168"/>
                        </a:lnTo>
                        <a:lnTo>
                          <a:pt x="367" y="201"/>
                        </a:lnTo>
                        <a:lnTo>
                          <a:pt x="274" y="244"/>
                        </a:lnTo>
                        <a:lnTo>
                          <a:pt x="278" y="243"/>
                        </a:lnTo>
                        <a:lnTo>
                          <a:pt x="286" y="240"/>
                        </a:lnTo>
                        <a:lnTo>
                          <a:pt x="298" y="235"/>
                        </a:lnTo>
                        <a:lnTo>
                          <a:pt x="314" y="229"/>
                        </a:lnTo>
                        <a:lnTo>
                          <a:pt x="333" y="224"/>
                        </a:lnTo>
                        <a:lnTo>
                          <a:pt x="352" y="218"/>
                        </a:lnTo>
                        <a:lnTo>
                          <a:pt x="372" y="213"/>
                        </a:lnTo>
                        <a:lnTo>
                          <a:pt x="391" y="210"/>
                        </a:lnTo>
                        <a:lnTo>
                          <a:pt x="408" y="210"/>
                        </a:lnTo>
                        <a:lnTo>
                          <a:pt x="422" y="211"/>
                        </a:lnTo>
                        <a:lnTo>
                          <a:pt x="432" y="217"/>
                        </a:lnTo>
                        <a:lnTo>
                          <a:pt x="438" y="226"/>
                        </a:lnTo>
                        <a:lnTo>
                          <a:pt x="437" y="240"/>
                        </a:lnTo>
                        <a:lnTo>
                          <a:pt x="430" y="259"/>
                        </a:lnTo>
                        <a:lnTo>
                          <a:pt x="414" y="285"/>
                        </a:lnTo>
                        <a:lnTo>
                          <a:pt x="389" y="316"/>
                        </a:lnTo>
                        <a:lnTo>
                          <a:pt x="253" y="351"/>
                        </a:lnTo>
                        <a:lnTo>
                          <a:pt x="259" y="353"/>
                        </a:lnTo>
                        <a:lnTo>
                          <a:pt x="274" y="358"/>
                        </a:lnTo>
                        <a:lnTo>
                          <a:pt x="291" y="366"/>
                        </a:lnTo>
                        <a:lnTo>
                          <a:pt x="306" y="377"/>
                        </a:lnTo>
                        <a:lnTo>
                          <a:pt x="313" y="392"/>
                        </a:lnTo>
                        <a:lnTo>
                          <a:pt x="308" y="409"/>
                        </a:lnTo>
                        <a:lnTo>
                          <a:pt x="282" y="429"/>
                        </a:lnTo>
                        <a:lnTo>
                          <a:pt x="231" y="452"/>
                        </a:lnTo>
                        <a:lnTo>
                          <a:pt x="229" y="452"/>
                        </a:lnTo>
                        <a:lnTo>
                          <a:pt x="221" y="453"/>
                        </a:lnTo>
                        <a:lnTo>
                          <a:pt x="210" y="454"/>
                        </a:lnTo>
                        <a:lnTo>
                          <a:pt x="196" y="455"/>
                        </a:lnTo>
                        <a:lnTo>
                          <a:pt x="177" y="454"/>
                        </a:lnTo>
                        <a:lnTo>
                          <a:pt x="158" y="451"/>
                        </a:lnTo>
                        <a:lnTo>
                          <a:pt x="137" y="445"/>
                        </a:lnTo>
                        <a:lnTo>
                          <a:pt x="116" y="437"/>
                        </a:lnTo>
                        <a:lnTo>
                          <a:pt x="94" y="424"/>
                        </a:lnTo>
                        <a:lnTo>
                          <a:pt x="74" y="407"/>
                        </a:lnTo>
                        <a:lnTo>
                          <a:pt x="54" y="385"/>
                        </a:lnTo>
                        <a:lnTo>
                          <a:pt x="36" y="357"/>
                        </a:lnTo>
                        <a:lnTo>
                          <a:pt x="22" y="323"/>
                        </a:lnTo>
                        <a:lnTo>
                          <a:pt x="10" y="281"/>
                        </a:lnTo>
                        <a:lnTo>
                          <a:pt x="2" y="233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754360" y="3015000"/>
                    <a:ext cx="428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5">
                        <a:moveTo>
                          <a:pt x="0" y="0"/>
                        </a:moveTo>
                        <a:lnTo>
                          <a:pt x="272" y="29"/>
                        </a:lnTo>
                        <a:lnTo>
                          <a:pt x="179" y="65"/>
                        </a:lnTo>
                        <a:lnTo>
                          <a:pt x="14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742120" y="30787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16">
                        <a:moveTo>
                          <a:pt x="157" y="0"/>
                        </a:moveTo>
                        <a:lnTo>
                          <a:pt x="0" y="80"/>
                        </a:lnTo>
                        <a:lnTo>
                          <a:pt x="35" y="116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735640" y="3072600"/>
                    <a:ext cx="20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50">
                        <a:moveTo>
                          <a:pt x="129" y="0"/>
                        </a:moveTo>
                        <a:lnTo>
                          <a:pt x="0" y="22"/>
                        </a:lnTo>
                        <a:lnTo>
                          <a:pt x="36" y="50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540160" y="3121560"/>
                    <a:ext cx="11700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417">
                        <a:moveTo>
                          <a:pt x="58" y="0"/>
                        </a:moveTo>
                        <a:lnTo>
                          <a:pt x="0" y="78"/>
                        </a:lnTo>
                        <a:lnTo>
                          <a:pt x="5" y="81"/>
                        </a:lnTo>
                        <a:lnTo>
                          <a:pt x="15" y="86"/>
                        </a:lnTo>
                        <a:lnTo>
                          <a:pt x="32" y="94"/>
                        </a:lnTo>
                        <a:lnTo>
                          <a:pt x="50" y="105"/>
                        </a:lnTo>
                        <a:lnTo>
                          <a:pt x="70" y="115"/>
                        </a:lnTo>
                        <a:lnTo>
                          <a:pt x="88" y="124"/>
                        </a:lnTo>
                        <a:lnTo>
                          <a:pt x="104" y="131"/>
                        </a:lnTo>
                        <a:lnTo>
                          <a:pt x="116" y="136"/>
                        </a:lnTo>
                        <a:lnTo>
                          <a:pt x="124" y="138"/>
                        </a:lnTo>
                        <a:lnTo>
                          <a:pt x="140" y="140"/>
                        </a:lnTo>
                        <a:lnTo>
                          <a:pt x="163" y="144"/>
                        </a:lnTo>
                        <a:lnTo>
                          <a:pt x="191" y="149"/>
                        </a:lnTo>
                        <a:lnTo>
                          <a:pt x="224" y="154"/>
                        </a:lnTo>
                        <a:lnTo>
                          <a:pt x="260" y="159"/>
                        </a:lnTo>
                        <a:lnTo>
                          <a:pt x="298" y="165"/>
                        </a:lnTo>
                        <a:lnTo>
                          <a:pt x="337" y="170"/>
                        </a:lnTo>
                        <a:lnTo>
                          <a:pt x="375" y="176"/>
                        </a:lnTo>
                        <a:lnTo>
                          <a:pt x="413" y="182"/>
                        </a:lnTo>
                        <a:lnTo>
                          <a:pt x="448" y="187"/>
                        </a:lnTo>
                        <a:lnTo>
                          <a:pt x="479" y="191"/>
                        </a:lnTo>
                        <a:lnTo>
                          <a:pt x="504" y="195"/>
                        </a:lnTo>
                        <a:lnTo>
                          <a:pt x="525" y="198"/>
                        </a:lnTo>
                        <a:lnTo>
                          <a:pt x="538" y="199"/>
                        </a:lnTo>
                        <a:lnTo>
                          <a:pt x="542" y="200"/>
                        </a:lnTo>
                        <a:lnTo>
                          <a:pt x="630" y="417"/>
                        </a:lnTo>
                        <a:lnTo>
                          <a:pt x="737" y="243"/>
                        </a:lnTo>
                        <a:lnTo>
                          <a:pt x="637" y="10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636640" y="3201840"/>
                    <a:ext cx="3744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43">
                        <a:moveTo>
                          <a:pt x="0" y="13"/>
                        </a:moveTo>
                        <a:lnTo>
                          <a:pt x="223" y="243"/>
                        </a:lnTo>
                        <a:lnTo>
                          <a:pt x="237" y="171"/>
                        </a:lnTo>
                        <a:lnTo>
                          <a:pt x="44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529720" y="3113640"/>
                    <a:ext cx="180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11">
                        <a:moveTo>
                          <a:pt x="0" y="0"/>
                        </a:moveTo>
                        <a:lnTo>
                          <a:pt x="87" y="111"/>
                        </a:lnTo>
                        <a:lnTo>
                          <a:pt x="114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646360" y="3067200"/>
                    <a:ext cx="31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43">
                        <a:moveTo>
                          <a:pt x="0" y="95"/>
                        </a:moveTo>
                        <a:lnTo>
                          <a:pt x="145" y="143"/>
                        </a:lnTo>
                        <a:lnTo>
                          <a:pt x="201" y="0"/>
                        </a:lnTo>
                        <a:lnTo>
                          <a:pt x="116" y="0"/>
                        </a:lnTo>
                        <a:lnTo>
                          <a:pt x="116" y="76"/>
                        </a:lnTo>
                        <a:lnTo>
                          <a:pt x="36" y="15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675160" y="3066120"/>
                    <a:ext cx="439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30">
                        <a:moveTo>
                          <a:pt x="0" y="82"/>
                        </a:moveTo>
                        <a:lnTo>
                          <a:pt x="278" y="130"/>
                        </a:lnTo>
                        <a:lnTo>
                          <a:pt x="267" y="44"/>
                        </a:lnTo>
                        <a:lnTo>
                          <a:pt x="62" y="0"/>
                        </a:lnTo>
                        <a:lnTo>
                          <a:pt x="10" y="54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652480" y="3184200"/>
                    <a:ext cx="532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47">
                        <a:moveTo>
                          <a:pt x="334" y="108"/>
                        </a:moveTo>
                        <a:lnTo>
                          <a:pt x="331" y="125"/>
                        </a:lnTo>
                        <a:lnTo>
                          <a:pt x="325" y="144"/>
                        </a:lnTo>
                        <a:lnTo>
                          <a:pt x="317" y="162"/>
                        </a:lnTo>
                        <a:lnTo>
                          <a:pt x="308" y="181"/>
                        </a:lnTo>
                        <a:lnTo>
                          <a:pt x="297" y="199"/>
                        </a:lnTo>
                        <a:lnTo>
                          <a:pt x="284" y="218"/>
                        </a:lnTo>
                        <a:lnTo>
                          <a:pt x="271" y="236"/>
                        </a:lnTo>
                        <a:lnTo>
                          <a:pt x="255" y="255"/>
                        </a:lnTo>
                        <a:lnTo>
                          <a:pt x="236" y="273"/>
                        </a:lnTo>
                        <a:lnTo>
                          <a:pt x="218" y="289"/>
                        </a:lnTo>
                        <a:lnTo>
                          <a:pt x="198" y="303"/>
                        </a:lnTo>
                        <a:lnTo>
                          <a:pt x="178" y="316"/>
                        </a:lnTo>
                        <a:lnTo>
                          <a:pt x="159" y="327"/>
                        </a:lnTo>
                        <a:lnTo>
                          <a:pt x="139" y="335"/>
                        </a:lnTo>
                        <a:lnTo>
                          <a:pt x="121" y="341"/>
                        </a:lnTo>
                        <a:lnTo>
                          <a:pt x="102" y="346"/>
                        </a:lnTo>
                        <a:lnTo>
                          <a:pt x="91" y="347"/>
                        </a:lnTo>
                        <a:lnTo>
                          <a:pt x="79" y="347"/>
                        </a:lnTo>
                        <a:lnTo>
                          <a:pt x="69" y="347"/>
                        </a:lnTo>
                        <a:lnTo>
                          <a:pt x="59" y="344"/>
                        </a:lnTo>
                        <a:lnTo>
                          <a:pt x="48" y="342"/>
                        </a:lnTo>
                        <a:lnTo>
                          <a:pt x="40" y="339"/>
                        </a:lnTo>
                        <a:lnTo>
                          <a:pt x="31" y="333"/>
                        </a:lnTo>
                        <a:lnTo>
                          <a:pt x="24" y="327"/>
                        </a:lnTo>
                        <a:lnTo>
                          <a:pt x="9" y="307"/>
                        </a:lnTo>
                        <a:lnTo>
                          <a:pt x="1" y="283"/>
                        </a:lnTo>
                        <a:lnTo>
                          <a:pt x="0" y="256"/>
                        </a:lnTo>
                        <a:lnTo>
                          <a:pt x="6" y="225"/>
                        </a:lnTo>
                        <a:lnTo>
                          <a:pt x="16" y="192"/>
                        </a:lnTo>
                        <a:lnTo>
                          <a:pt x="33" y="159"/>
                        </a:lnTo>
                        <a:lnTo>
                          <a:pt x="55" y="124"/>
                        </a:lnTo>
                        <a:lnTo>
                          <a:pt x="83" y="92"/>
                        </a:lnTo>
                        <a:lnTo>
                          <a:pt x="101" y="74"/>
                        </a:lnTo>
                        <a:lnTo>
                          <a:pt x="120" y="58"/>
                        </a:lnTo>
                        <a:lnTo>
                          <a:pt x="139" y="44"/>
                        </a:lnTo>
                        <a:lnTo>
                          <a:pt x="159" y="31"/>
                        </a:lnTo>
                        <a:lnTo>
                          <a:pt x="177" y="21"/>
                        </a:lnTo>
                        <a:lnTo>
                          <a:pt x="197" y="13"/>
                        </a:lnTo>
                        <a:lnTo>
                          <a:pt x="215" y="6"/>
                        </a:lnTo>
                        <a:lnTo>
                          <a:pt x="234" y="1"/>
                        </a:lnTo>
                        <a:lnTo>
                          <a:pt x="245" y="0"/>
                        </a:lnTo>
                        <a:lnTo>
                          <a:pt x="257" y="0"/>
                        </a:lnTo>
                        <a:lnTo>
                          <a:pt x="268" y="0"/>
                        </a:lnTo>
                        <a:lnTo>
                          <a:pt x="279" y="1"/>
                        </a:lnTo>
                        <a:lnTo>
                          <a:pt x="288" y="5"/>
                        </a:lnTo>
                        <a:lnTo>
                          <a:pt x="297" y="8"/>
                        </a:lnTo>
                        <a:lnTo>
                          <a:pt x="305" y="14"/>
                        </a:lnTo>
                        <a:lnTo>
                          <a:pt x="313" y="20"/>
                        </a:lnTo>
                        <a:lnTo>
                          <a:pt x="326" y="37"/>
                        </a:lnTo>
                        <a:lnTo>
                          <a:pt x="334" y="58"/>
                        </a:lnTo>
                        <a:lnTo>
                          <a:pt x="336" y="82"/>
                        </a:lnTo>
                        <a:lnTo>
                          <a:pt x="334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661480" y="3207240"/>
                    <a:ext cx="3420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23">
                        <a:moveTo>
                          <a:pt x="163" y="163"/>
                        </a:moveTo>
                        <a:lnTo>
                          <a:pt x="143" y="182"/>
                        </a:lnTo>
                        <a:lnTo>
                          <a:pt x="123" y="197"/>
                        </a:lnTo>
                        <a:lnTo>
                          <a:pt x="102" y="210"/>
                        </a:lnTo>
                        <a:lnTo>
                          <a:pt x="81" y="218"/>
                        </a:lnTo>
                        <a:lnTo>
                          <a:pt x="61" y="223"/>
                        </a:lnTo>
                        <a:lnTo>
                          <a:pt x="44" y="223"/>
                        </a:lnTo>
                        <a:lnTo>
                          <a:pt x="28" y="218"/>
                        </a:lnTo>
                        <a:lnTo>
                          <a:pt x="15" y="210"/>
                        </a:lnTo>
                        <a:lnTo>
                          <a:pt x="6" y="197"/>
                        </a:lnTo>
                        <a:lnTo>
                          <a:pt x="2" y="182"/>
                        </a:lnTo>
                        <a:lnTo>
                          <a:pt x="0" y="164"/>
                        </a:lnTo>
                        <a:lnTo>
                          <a:pt x="4" y="144"/>
                        </a:lnTo>
                        <a:lnTo>
                          <a:pt x="11" y="123"/>
                        </a:lnTo>
                        <a:lnTo>
                          <a:pt x="21" y="102"/>
                        </a:lnTo>
                        <a:lnTo>
                          <a:pt x="36" y="80"/>
                        </a:lnTo>
                        <a:lnTo>
                          <a:pt x="53" y="59"/>
                        </a:lnTo>
                        <a:lnTo>
                          <a:pt x="73" y="41"/>
                        </a:lnTo>
                        <a:lnTo>
                          <a:pt x="94" y="24"/>
                        </a:lnTo>
                        <a:lnTo>
                          <a:pt x="114" y="13"/>
                        </a:lnTo>
                        <a:lnTo>
                          <a:pt x="134" y="5"/>
                        </a:lnTo>
                        <a:lnTo>
                          <a:pt x="154" y="0"/>
                        </a:lnTo>
                        <a:lnTo>
                          <a:pt x="172" y="0"/>
                        </a:lnTo>
                        <a:lnTo>
                          <a:pt x="188" y="5"/>
                        </a:lnTo>
                        <a:lnTo>
                          <a:pt x="201" y="13"/>
                        </a:lnTo>
                        <a:lnTo>
                          <a:pt x="210" y="26"/>
                        </a:lnTo>
                        <a:lnTo>
                          <a:pt x="215" y="41"/>
                        </a:lnTo>
                        <a:lnTo>
                          <a:pt x="216" y="59"/>
                        </a:lnTo>
                        <a:lnTo>
                          <a:pt x="212" y="79"/>
                        </a:lnTo>
                        <a:lnTo>
                          <a:pt x="205" y="99"/>
                        </a:lnTo>
                        <a:lnTo>
                          <a:pt x="195" y="120"/>
                        </a:lnTo>
                        <a:lnTo>
                          <a:pt x="180" y="142"/>
                        </a:lnTo>
                        <a:lnTo>
                          <a:pt x="163" y="16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"/>
                <p:cNvSpPr/>
                <p:nvPr/>
              </p:nvSpPr>
              <p:spPr>
                <a:xfrm>
                  <a:off x="2634120" y="2936520"/>
                  <a:ext cx="115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183760" y="2775240"/>
                <a:ext cx="430920" cy="630360"/>
                <a:chOff x="2183760" y="2775240"/>
                <a:chExt cx="430920" cy="6303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183760" y="2775240"/>
                  <a:ext cx="362520" cy="556920"/>
                </a:xfrm>
                <a:custGeom>
                  <a:avLst/>
                  <a:gdLst/>
                  <a:ahLst/>
                  <a:rect l="l" t="t" r="r" b="b"/>
                  <a:pathLst>
                    <a:path w="1395" h="1737">
                      <a:moveTo>
                        <a:pt x="1377" y="379"/>
                      </a:moveTo>
                      <a:lnTo>
                        <a:pt x="1367" y="379"/>
                      </a:lnTo>
                      <a:lnTo>
                        <a:pt x="1357" y="379"/>
                      </a:lnTo>
                      <a:lnTo>
                        <a:pt x="1347" y="379"/>
                      </a:lnTo>
                      <a:lnTo>
                        <a:pt x="1338" y="379"/>
                      </a:lnTo>
                      <a:lnTo>
                        <a:pt x="1327" y="379"/>
                      </a:lnTo>
                      <a:lnTo>
                        <a:pt x="1318" y="379"/>
                      </a:lnTo>
                      <a:lnTo>
                        <a:pt x="1308" y="379"/>
                      </a:lnTo>
                      <a:lnTo>
                        <a:pt x="1299" y="379"/>
                      </a:lnTo>
                      <a:lnTo>
                        <a:pt x="1304" y="374"/>
                      </a:lnTo>
                      <a:lnTo>
                        <a:pt x="1309" y="370"/>
                      </a:lnTo>
                      <a:lnTo>
                        <a:pt x="1316" y="364"/>
                      </a:lnTo>
                      <a:lnTo>
                        <a:pt x="1321" y="359"/>
                      </a:lnTo>
                      <a:lnTo>
                        <a:pt x="1327" y="355"/>
                      </a:lnTo>
                      <a:lnTo>
                        <a:pt x="1333" y="351"/>
                      </a:lnTo>
                      <a:lnTo>
                        <a:pt x="1339" y="348"/>
                      </a:lnTo>
                      <a:lnTo>
                        <a:pt x="1346" y="344"/>
                      </a:lnTo>
                      <a:lnTo>
                        <a:pt x="1353" y="341"/>
                      </a:lnTo>
                      <a:lnTo>
                        <a:pt x="1357" y="335"/>
                      </a:lnTo>
                      <a:lnTo>
                        <a:pt x="1359" y="328"/>
                      </a:lnTo>
                      <a:lnTo>
                        <a:pt x="1358" y="321"/>
                      </a:lnTo>
                      <a:lnTo>
                        <a:pt x="1355" y="315"/>
                      </a:lnTo>
                      <a:lnTo>
                        <a:pt x="1348" y="310"/>
                      </a:lnTo>
                      <a:lnTo>
                        <a:pt x="1342" y="309"/>
                      </a:lnTo>
                      <a:lnTo>
                        <a:pt x="1335" y="309"/>
                      </a:lnTo>
                      <a:lnTo>
                        <a:pt x="1325" y="314"/>
                      </a:lnTo>
                      <a:lnTo>
                        <a:pt x="1317" y="318"/>
                      </a:lnTo>
                      <a:lnTo>
                        <a:pt x="1308" y="324"/>
                      </a:lnTo>
                      <a:lnTo>
                        <a:pt x="1301" y="330"/>
                      </a:lnTo>
                      <a:lnTo>
                        <a:pt x="1293" y="336"/>
                      </a:lnTo>
                      <a:lnTo>
                        <a:pt x="1286" y="343"/>
                      </a:lnTo>
                      <a:lnTo>
                        <a:pt x="1278" y="350"/>
                      </a:lnTo>
                      <a:lnTo>
                        <a:pt x="1270" y="356"/>
                      </a:lnTo>
                      <a:lnTo>
                        <a:pt x="1271" y="339"/>
                      </a:lnTo>
                      <a:lnTo>
                        <a:pt x="1275" y="322"/>
                      </a:lnTo>
                      <a:lnTo>
                        <a:pt x="1281" y="305"/>
                      </a:lnTo>
                      <a:lnTo>
                        <a:pt x="1284" y="288"/>
                      </a:lnTo>
                      <a:lnTo>
                        <a:pt x="1285" y="281"/>
                      </a:lnTo>
                      <a:lnTo>
                        <a:pt x="1283" y="274"/>
                      </a:lnTo>
                      <a:lnTo>
                        <a:pt x="1278" y="270"/>
                      </a:lnTo>
                      <a:lnTo>
                        <a:pt x="1271" y="267"/>
                      </a:lnTo>
                      <a:lnTo>
                        <a:pt x="1264" y="267"/>
                      </a:lnTo>
                      <a:lnTo>
                        <a:pt x="1257" y="269"/>
                      </a:lnTo>
                      <a:lnTo>
                        <a:pt x="1252" y="273"/>
                      </a:lnTo>
                      <a:lnTo>
                        <a:pt x="1249" y="280"/>
                      </a:lnTo>
                      <a:lnTo>
                        <a:pt x="1244" y="302"/>
                      </a:lnTo>
                      <a:lnTo>
                        <a:pt x="1238" y="323"/>
                      </a:lnTo>
                      <a:lnTo>
                        <a:pt x="1235" y="345"/>
                      </a:lnTo>
                      <a:lnTo>
                        <a:pt x="1236" y="369"/>
                      </a:lnTo>
                      <a:lnTo>
                        <a:pt x="1214" y="369"/>
                      </a:lnTo>
                      <a:lnTo>
                        <a:pt x="1192" y="371"/>
                      </a:lnTo>
                      <a:lnTo>
                        <a:pt x="1170" y="373"/>
                      </a:lnTo>
                      <a:lnTo>
                        <a:pt x="1147" y="377"/>
                      </a:lnTo>
                      <a:lnTo>
                        <a:pt x="1125" y="381"/>
                      </a:lnTo>
                      <a:lnTo>
                        <a:pt x="1103" y="388"/>
                      </a:lnTo>
                      <a:lnTo>
                        <a:pt x="1082" y="394"/>
                      </a:lnTo>
                      <a:lnTo>
                        <a:pt x="1060" y="400"/>
                      </a:lnTo>
                      <a:lnTo>
                        <a:pt x="1038" y="409"/>
                      </a:lnTo>
                      <a:lnTo>
                        <a:pt x="1016" y="416"/>
                      </a:lnTo>
                      <a:lnTo>
                        <a:pt x="995" y="425"/>
                      </a:lnTo>
                      <a:lnTo>
                        <a:pt x="974" y="433"/>
                      </a:lnTo>
                      <a:lnTo>
                        <a:pt x="953" y="442"/>
                      </a:lnTo>
                      <a:lnTo>
                        <a:pt x="931" y="450"/>
                      </a:lnTo>
                      <a:lnTo>
                        <a:pt x="910" y="459"/>
                      </a:lnTo>
                      <a:lnTo>
                        <a:pt x="889" y="467"/>
                      </a:lnTo>
                      <a:lnTo>
                        <a:pt x="886" y="460"/>
                      </a:lnTo>
                      <a:lnTo>
                        <a:pt x="883" y="452"/>
                      </a:lnTo>
                      <a:lnTo>
                        <a:pt x="880" y="446"/>
                      </a:lnTo>
                      <a:lnTo>
                        <a:pt x="876" y="439"/>
                      </a:lnTo>
                      <a:lnTo>
                        <a:pt x="875" y="438"/>
                      </a:lnTo>
                      <a:lnTo>
                        <a:pt x="875" y="436"/>
                      </a:lnTo>
                      <a:lnTo>
                        <a:pt x="874" y="435"/>
                      </a:lnTo>
                      <a:lnTo>
                        <a:pt x="873" y="434"/>
                      </a:lnTo>
                      <a:lnTo>
                        <a:pt x="879" y="424"/>
                      </a:lnTo>
                      <a:lnTo>
                        <a:pt x="884" y="413"/>
                      </a:lnTo>
                      <a:lnTo>
                        <a:pt x="888" y="403"/>
                      </a:lnTo>
                      <a:lnTo>
                        <a:pt x="893" y="392"/>
                      </a:lnTo>
                      <a:lnTo>
                        <a:pt x="901" y="370"/>
                      </a:lnTo>
                      <a:lnTo>
                        <a:pt x="906" y="345"/>
                      </a:lnTo>
                      <a:lnTo>
                        <a:pt x="909" y="322"/>
                      </a:lnTo>
                      <a:lnTo>
                        <a:pt x="910" y="298"/>
                      </a:lnTo>
                      <a:lnTo>
                        <a:pt x="908" y="274"/>
                      </a:lnTo>
                      <a:lnTo>
                        <a:pt x="904" y="251"/>
                      </a:lnTo>
                      <a:lnTo>
                        <a:pt x="897" y="229"/>
                      </a:lnTo>
                      <a:lnTo>
                        <a:pt x="886" y="208"/>
                      </a:lnTo>
                      <a:lnTo>
                        <a:pt x="890" y="201"/>
                      </a:lnTo>
                      <a:lnTo>
                        <a:pt x="895" y="196"/>
                      </a:lnTo>
                      <a:lnTo>
                        <a:pt x="902" y="194"/>
                      </a:lnTo>
                      <a:lnTo>
                        <a:pt x="909" y="192"/>
                      </a:lnTo>
                      <a:lnTo>
                        <a:pt x="917" y="193"/>
                      </a:lnTo>
                      <a:lnTo>
                        <a:pt x="924" y="195"/>
                      </a:lnTo>
                      <a:lnTo>
                        <a:pt x="930" y="198"/>
                      </a:lnTo>
                      <a:lnTo>
                        <a:pt x="937" y="202"/>
                      </a:lnTo>
                      <a:lnTo>
                        <a:pt x="947" y="211"/>
                      </a:lnTo>
                      <a:lnTo>
                        <a:pt x="949" y="212"/>
                      </a:lnTo>
                      <a:lnTo>
                        <a:pt x="952" y="213"/>
                      </a:lnTo>
                      <a:lnTo>
                        <a:pt x="954" y="214"/>
                      </a:lnTo>
                      <a:lnTo>
                        <a:pt x="957" y="214"/>
                      </a:lnTo>
                      <a:lnTo>
                        <a:pt x="961" y="214"/>
                      </a:lnTo>
                      <a:lnTo>
                        <a:pt x="964" y="214"/>
                      </a:lnTo>
                      <a:lnTo>
                        <a:pt x="966" y="213"/>
                      </a:lnTo>
                      <a:lnTo>
                        <a:pt x="970" y="211"/>
                      </a:lnTo>
                      <a:lnTo>
                        <a:pt x="972" y="210"/>
                      </a:lnTo>
                      <a:lnTo>
                        <a:pt x="977" y="206"/>
                      </a:lnTo>
                      <a:lnTo>
                        <a:pt x="984" y="198"/>
                      </a:lnTo>
                      <a:lnTo>
                        <a:pt x="990" y="190"/>
                      </a:lnTo>
                      <a:lnTo>
                        <a:pt x="994" y="181"/>
                      </a:lnTo>
                      <a:lnTo>
                        <a:pt x="1001" y="175"/>
                      </a:lnTo>
                      <a:lnTo>
                        <a:pt x="1007" y="174"/>
                      </a:lnTo>
                      <a:lnTo>
                        <a:pt x="1011" y="174"/>
                      </a:lnTo>
                      <a:lnTo>
                        <a:pt x="1015" y="175"/>
                      </a:lnTo>
                      <a:lnTo>
                        <a:pt x="1019" y="177"/>
                      </a:lnTo>
                      <a:lnTo>
                        <a:pt x="1024" y="180"/>
                      </a:lnTo>
                      <a:lnTo>
                        <a:pt x="1028" y="183"/>
                      </a:lnTo>
                      <a:lnTo>
                        <a:pt x="1033" y="185"/>
                      </a:lnTo>
                      <a:lnTo>
                        <a:pt x="1037" y="187"/>
                      </a:lnTo>
                      <a:lnTo>
                        <a:pt x="1051" y="193"/>
                      </a:lnTo>
                      <a:lnTo>
                        <a:pt x="1054" y="194"/>
                      </a:lnTo>
                      <a:lnTo>
                        <a:pt x="1057" y="194"/>
                      </a:lnTo>
                      <a:lnTo>
                        <a:pt x="1061" y="194"/>
                      </a:lnTo>
                      <a:lnTo>
                        <a:pt x="1064" y="193"/>
                      </a:lnTo>
                      <a:lnTo>
                        <a:pt x="1073" y="190"/>
                      </a:lnTo>
                      <a:lnTo>
                        <a:pt x="1076" y="189"/>
                      </a:lnTo>
                      <a:lnTo>
                        <a:pt x="1079" y="188"/>
                      </a:lnTo>
                      <a:lnTo>
                        <a:pt x="1080" y="185"/>
                      </a:lnTo>
                      <a:lnTo>
                        <a:pt x="1082" y="183"/>
                      </a:lnTo>
                      <a:lnTo>
                        <a:pt x="1089" y="175"/>
                      </a:lnTo>
                      <a:lnTo>
                        <a:pt x="1091" y="171"/>
                      </a:lnTo>
                      <a:lnTo>
                        <a:pt x="1093" y="167"/>
                      </a:lnTo>
                      <a:lnTo>
                        <a:pt x="1094" y="164"/>
                      </a:lnTo>
                      <a:lnTo>
                        <a:pt x="1097" y="160"/>
                      </a:lnTo>
                      <a:lnTo>
                        <a:pt x="1101" y="158"/>
                      </a:lnTo>
                      <a:lnTo>
                        <a:pt x="1104" y="157"/>
                      </a:lnTo>
                      <a:lnTo>
                        <a:pt x="1110" y="157"/>
                      </a:lnTo>
                      <a:lnTo>
                        <a:pt x="1117" y="158"/>
                      </a:lnTo>
                      <a:lnTo>
                        <a:pt x="1123" y="160"/>
                      </a:lnTo>
                      <a:lnTo>
                        <a:pt x="1130" y="162"/>
                      </a:lnTo>
                      <a:lnTo>
                        <a:pt x="1137" y="164"/>
                      </a:lnTo>
                      <a:lnTo>
                        <a:pt x="1143" y="166"/>
                      </a:lnTo>
                      <a:lnTo>
                        <a:pt x="1149" y="167"/>
                      </a:lnTo>
                      <a:lnTo>
                        <a:pt x="1156" y="167"/>
                      </a:lnTo>
                      <a:lnTo>
                        <a:pt x="1163" y="169"/>
                      </a:lnTo>
                      <a:lnTo>
                        <a:pt x="1167" y="169"/>
                      </a:lnTo>
                      <a:lnTo>
                        <a:pt x="1171" y="167"/>
                      </a:lnTo>
                      <a:lnTo>
                        <a:pt x="1175" y="165"/>
                      </a:lnTo>
                      <a:lnTo>
                        <a:pt x="1178" y="163"/>
                      </a:lnTo>
                      <a:lnTo>
                        <a:pt x="1183" y="156"/>
                      </a:lnTo>
                      <a:lnTo>
                        <a:pt x="1190" y="151"/>
                      </a:lnTo>
                      <a:lnTo>
                        <a:pt x="1195" y="146"/>
                      </a:lnTo>
                      <a:lnTo>
                        <a:pt x="1200" y="141"/>
                      </a:lnTo>
                      <a:lnTo>
                        <a:pt x="1206" y="137"/>
                      </a:lnTo>
                      <a:lnTo>
                        <a:pt x="1212" y="135"/>
                      </a:lnTo>
                      <a:lnTo>
                        <a:pt x="1212" y="135"/>
                      </a:lnTo>
                      <a:lnTo>
                        <a:pt x="1216" y="137"/>
                      </a:lnTo>
                      <a:lnTo>
                        <a:pt x="1220" y="140"/>
                      </a:lnTo>
                      <a:lnTo>
                        <a:pt x="1225" y="142"/>
                      </a:lnTo>
                      <a:lnTo>
                        <a:pt x="1230" y="143"/>
                      </a:lnTo>
                      <a:lnTo>
                        <a:pt x="1234" y="145"/>
                      </a:lnTo>
                      <a:lnTo>
                        <a:pt x="1239" y="146"/>
                      </a:lnTo>
                      <a:lnTo>
                        <a:pt x="1244" y="146"/>
                      </a:lnTo>
                      <a:lnTo>
                        <a:pt x="1249" y="147"/>
                      </a:lnTo>
                      <a:lnTo>
                        <a:pt x="1256" y="146"/>
                      </a:lnTo>
                      <a:lnTo>
                        <a:pt x="1263" y="143"/>
                      </a:lnTo>
                      <a:lnTo>
                        <a:pt x="1267" y="138"/>
                      </a:lnTo>
                      <a:lnTo>
                        <a:pt x="1269" y="131"/>
                      </a:lnTo>
                      <a:lnTo>
                        <a:pt x="1268" y="124"/>
                      </a:lnTo>
                      <a:lnTo>
                        <a:pt x="1265" y="118"/>
                      </a:lnTo>
                      <a:lnTo>
                        <a:pt x="1260" y="113"/>
                      </a:lnTo>
                      <a:lnTo>
                        <a:pt x="1252" y="111"/>
                      </a:lnTo>
                      <a:lnTo>
                        <a:pt x="1250" y="111"/>
                      </a:lnTo>
                      <a:lnTo>
                        <a:pt x="1247" y="110"/>
                      </a:lnTo>
                      <a:lnTo>
                        <a:pt x="1245" y="110"/>
                      </a:lnTo>
                      <a:lnTo>
                        <a:pt x="1242" y="109"/>
                      </a:lnTo>
                      <a:lnTo>
                        <a:pt x="1220" y="100"/>
                      </a:lnTo>
                      <a:lnTo>
                        <a:pt x="1218" y="99"/>
                      </a:lnTo>
                      <a:lnTo>
                        <a:pt x="1216" y="98"/>
                      </a:lnTo>
                      <a:lnTo>
                        <a:pt x="1213" y="98"/>
                      </a:lnTo>
                      <a:lnTo>
                        <a:pt x="1211" y="99"/>
                      </a:lnTo>
                      <a:lnTo>
                        <a:pt x="1195" y="102"/>
                      </a:lnTo>
                      <a:lnTo>
                        <a:pt x="1190" y="105"/>
                      </a:lnTo>
                      <a:lnTo>
                        <a:pt x="1184" y="108"/>
                      </a:lnTo>
                      <a:lnTo>
                        <a:pt x="1180" y="111"/>
                      </a:lnTo>
                      <a:lnTo>
                        <a:pt x="1176" y="115"/>
                      </a:lnTo>
                      <a:lnTo>
                        <a:pt x="1159" y="131"/>
                      </a:lnTo>
                      <a:lnTo>
                        <a:pt x="1157" y="131"/>
                      </a:lnTo>
                      <a:lnTo>
                        <a:pt x="1157" y="131"/>
                      </a:lnTo>
                      <a:lnTo>
                        <a:pt x="1153" y="131"/>
                      </a:lnTo>
                      <a:lnTo>
                        <a:pt x="1147" y="130"/>
                      </a:lnTo>
                      <a:lnTo>
                        <a:pt x="1143" y="128"/>
                      </a:lnTo>
                      <a:lnTo>
                        <a:pt x="1139" y="127"/>
                      </a:lnTo>
                      <a:lnTo>
                        <a:pt x="1135" y="125"/>
                      </a:lnTo>
                      <a:lnTo>
                        <a:pt x="1130" y="124"/>
                      </a:lnTo>
                      <a:lnTo>
                        <a:pt x="1125" y="123"/>
                      </a:lnTo>
                      <a:lnTo>
                        <a:pt x="1121" y="122"/>
                      </a:lnTo>
                      <a:lnTo>
                        <a:pt x="1088" y="123"/>
                      </a:lnTo>
                      <a:lnTo>
                        <a:pt x="1086" y="124"/>
                      </a:lnTo>
                      <a:lnTo>
                        <a:pt x="1084" y="125"/>
                      </a:lnTo>
                      <a:lnTo>
                        <a:pt x="1082" y="127"/>
                      </a:lnTo>
                      <a:lnTo>
                        <a:pt x="1080" y="128"/>
                      </a:lnTo>
                      <a:lnTo>
                        <a:pt x="1075" y="134"/>
                      </a:lnTo>
                      <a:lnTo>
                        <a:pt x="1072" y="137"/>
                      </a:lnTo>
                      <a:lnTo>
                        <a:pt x="1069" y="140"/>
                      </a:lnTo>
                      <a:lnTo>
                        <a:pt x="1067" y="144"/>
                      </a:lnTo>
                      <a:lnTo>
                        <a:pt x="1065" y="147"/>
                      </a:lnTo>
                      <a:lnTo>
                        <a:pt x="1057" y="156"/>
                      </a:lnTo>
                      <a:lnTo>
                        <a:pt x="1051" y="154"/>
                      </a:lnTo>
                      <a:lnTo>
                        <a:pt x="1039" y="147"/>
                      </a:lnTo>
                      <a:lnTo>
                        <a:pt x="1027" y="143"/>
                      </a:lnTo>
                      <a:lnTo>
                        <a:pt x="1014" y="141"/>
                      </a:lnTo>
                      <a:lnTo>
                        <a:pt x="1001" y="140"/>
                      </a:lnTo>
                      <a:lnTo>
                        <a:pt x="990" y="142"/>
                      </a:lnTo>
                      <a:lnTo>
                        <a:pt x="978" y="147"/>
                      </a:lnTo>
                      <a:lnTo>
                        <a:pt x="969" y="156"/>
                      </a:lnTo>
                      <a:lnTo>
                        <a:pt x="960" y="167"/>
                      </a:lnTo>
                      <a:lnTo>
                        <a:pt x="957" y="173"/>
                      </a:lnTo>
                      <a:lnTo>
                        <a:pt x="956" y="173"/>
                      </a:lnTo>
                      <a:lnTo>
                        <a:pt x="945" y="164"/>
                      </a:lnTo>
                      <a:lnTo>
                        <a:pt x="934" y="159"/>
                      </a:lnTo>
                      <a:lnTo>
                        <a:pt x="921" y="156"/>
                      </a:lnTo>
                      <a:lnTo>
                        <a:pt x="907" y="156"/>
                      </a:lnTo>
                      <a:lnTo>
                        <a:pt x="894" y="158"/>
                      </a:lnTo>
                      <a:lnTo>
                        <a:pt x="882" y="162"/>
                      </a:lnTo>
                      <a:lnTo>
                        <a:pt x="871" y="170"/>
                      </a:lnTo>
                      <a:lnTo>
                        <a:pt x="862" y="178"/>
                      </a:lnTo>
                      <a:lnTo>
                        <a:pt x="857" y="174"/>
                      </a:lnTo>
                      <a:lnTo>
                        <a:pt x="854" y="171"/>
                      </a:lnTo>
                      <a:lnTo>
                        <a:pt x="850" y="166"/>
                      </a:lnTo>
                      <a:lnTo>
                        <a:pt x="846" y="163"/>
                      </a:lnTo>
                      <a:lnTo>
                        <a:pt x="833" y="155"/>
                      </a:lnTo>
                      <a:lnTo>
                        <a:pt x="820" y="146"/>
                      </a:lnTo>
                      <a:lnTo>
                        <a:pt x="808" y="139"/>
                      </a:lnTo>
                      <a:lnTo>
                        <a:pt x="794" y="133"/>
                      </a:lnTo>
                      <a:lnTo>
                        <a:pt x="780" y="126"/>
                      </a:lnTo>
                      <a:lnTo>
                        <a:pt x="766" y="122"/>
                      </a:lnTo>
                      <a:lnTo>
                        <a:pt x="753" y="118"/>
                      </a:lnTo>
                      <a:lnTo>
                        <a:pt x="738" y="116"/>
                      </a:lnTo>
                      <a:lnTo>
                        <a:pt x="734" y="115"/>
                      </a:lnTo>
                      <a:lnTo>
                        <a:pt x="729" y="113"/>
                      </a:lnTo>
                      <a:lnTo>
                        <a:pt x="725" y="112"/>
                      </a:lnTo>
                      <a:lnTo>
                        <a:pt x="722" y="111"/>
                      </a:lnTo>
                      <a:lnTo>
                        <a:pt x="718" y="110"/>
                      </a:lnTo>
                      <a:lnTo>
                        <a:pt x="713" y="108"/>
                      </a:lnTo>
                      <a:lnTo>
                        <a:pt x="709" y="107"/>
                      </a:lnTo>
                      <a:lnTo>
                        <a:pt x="705" y="106"/>
                      </a:lnTo>
                      <a:lnTo>
                        <a:pt x="707" y="105"/>
                      </a:lnTo>
                      <a:lnTo>
                        <a:pt x="710" y="105"/>
                      </a:lnTo>
                      <a:lnTo>
                        <a:pt x="712" y="104"/>
                      </a:lnTo>
                      <a:lnTo>
                        <a:pt x="716" y="104"/>
                      </a:lnTo>
                      <a:lnTo>
                        <a:pt x="722" y="104"/>
                      </a:lnTo>
                      <a:lnTo>
                        <a:pt x="727" y="105"/>
                      </a:lnTo>
                      <a:lnTo>
                        <a:pt x="734" y="106"/>
                      </a:lnTo>
                      <a:lnTo>
                        <a:pt x="740" y="107"/>
                      </a:lnTo>
                      <a:lnTo>
                        <a:pt x="746" y="108"/>
                      </a:lnTo>
                      <a:lnTo>
                        <a:pt x="753" y="109"/>
                      </a:lnTo>
                      <a:lnTo>
                        <a:pt x="759" y="109"/>
                      </a:lnTo>
                      <a:lnTo>
                        <a:pt x="765" y="110"/>
                      </a:lnTo>
                      <a:lnTo>
                        <a:pt x="772" y="110"/>
                      </a:lnTo>
                      <a:lnTo>
                        <a:pt x="777" y="109"/>
                      </a:lnTo>
                      <a:lnTo>
                        <a:pt x="782" y="107"/>
                      </a:lnTo>
                      <a:lnTo>
                        <a:pt x="786" y="103"/>
                      </a:lnTo>
                      <a:lnTo>
                        <a:pt x="789" y="98"/>
                      </a:lnTo>
                      <a:lnTo>
                        <a:pt x="789" y="97"/>
                      </a:lnTo>
                      <a:lnTo>
                        <a:pt x="791" y="94"/>
                      </a:lnTo>
                      <a:lnTo>
                        <a:pt x="793" y="91"/>
                      </a:lnTo>
                      <a:lnTo>
                        <a:pt x="794" y="88"/>
                      </a:lnTo>
                      <a:lnTo>
                        <a:pt x="796" y="84"/>
                      </a:lnTo>
                      <a:lnTo>
                        <a:pt x="801" y="84"/>
                      </a:lnTo>
                      <a:lnTo>
                        <a:pt x="808" y="84"/>
                      </a:lnTo>
                      <a:lnTo>
                        <a:pt x="813" y="85"/>
                      </a:lnTo>
                      <a:lnTo>
                        <a:pt x="818" y="86"/>
                      </a:lnTo>
                      <a:lnTo>
                        <a:pt x="824" y="87"/>
                      </a:lnTo>
                      <a:lnTo>
                        <a:pt x="830" y="87"/>
                      </a:lnTo>
                      <a:lnTo>
                        <a:pt x="835" y="88"/>
                      </a:lnTo>
                      <a:lnTo>
                        <a:pt x="840" y="89"/>
                      </a:lnTo>
                      <a:lnTo>
                        <a:pt x="854" y="91"/>
                      </a:lnTo>
                      <a:lnTo>
                        <a:pt x="858" y="91"/>
                      </a:lnTo>
                      <a:lnTo>
                        <a:pt x="863" y="90"/>
                      </a:lnTo>
                      <a:lnTo>
                        <a:pt x="867" y="89"/>
                      </a:lnTo>
                      <a:lnTo>
                        <a:pt x="870" y="86"/>
                      </a:lnTo>
                      <a:lnTo>
                        <a:pt x="879" y="74"/>
                      </a:lnTo>
                      <a:lnTo>
                        <a:pt x="879" y="72"/>
                      </a:lnTo>
                      <a:lnTo>
                        <a:pt x="880" y="70"/>
                      </a:lnTo>
                      <a:lnTo>
                        <a:pt x="880" y="67"/>
                      </a:lnTo>
                      <a:lnTo>
                        <a:pt x="880" y="66"/>
                      </a:lnTo>
                      <a:lnTo>
                        <a:pt x="887" y="66"/>
                      </a:lnTo>
                      <a:lnTo>
                        <a:pt x="894" y="66"/>
                      </a:lnTo>
                      <a:lnTo>
                        <a:pt x="901" y="66"/>
                      </a:lnTo>
                      <a:lnTo>
                        <a:pt x="908" y="66"/>
                      </a:lnTo>
                      <a:lnTo>
                        <a:pt x="916" y="66"/>
                      </a:lnTo>
                      <a:lnTo>
                        <a:pt x="923" y="66"/>
                      </a:lnTo>
                      <a:lnTo>
                        <a:pt x="929" y="66"/>
                      </a:lnTo>
                      <a:lnTo>
                        <a:pt x="937" y="66"/>
                      </a:lnTo>
                      <a:lnTo>
                        <a:pt x="942" y="66"/>
                      </a:lnTo>
                      <a:lnTo>
                        <a:pt x="946" y="65"/>
                      </a:lnTo>
                      <a:lnTo>
                        <a:pt x="949" y="64"/>
                      </a:lnTo>
                      <a:lnTo>
                        <a:pt x="953" y="62"/>
                      </a:lnTo>
                      <a:lnTo>
                        <a:pt x="956" y="58"/>
                      </a:lnTo>
                      <a:lnTo>
                        <a:pt x="963" y="50"/>
                      </a:lnTo>
                      <a:lnTo>
                        <a:pt x="964" y="48"/>
                      </a:lnTo>
                      <a:lnTo>
                        <a:pt x="965" y="45"/>
                      </a:lnTo>
                      <a:lnTo>
                        <a:pt x="966" y="44"/>
                      </a:lnTo>
                      <a:lnTo>
                        <a:pt x="966" y="42"/>
                      </a:lnTo>
                      <a:lnTo>
                        <a:pt x="974" y="42"/>
                      </a:lnTo>
                      <a:lnTo>
                        <a:pt x="981" y="44"/>
                      </a:lnTo>
                      <a:lnTo>
                        <a:pt x="990" y="44"/>
                      </a:lnTo>
                      <a:lnTo>
                        <a:pt x="997" y="45"/>
                      </a:lnTo>
                      <a:lnTo>
                        <a:pt x="1004" y="45"/>
                      </a:lnTo>
                      <a:lnTo>
                        <a:pt x="1012" y="42"/>
                      </a:lnTo>
                      <a:lnTo>
                        <a:pt x="1019" y="38"/>
                      </a:lnTo>
                      <a:lnTo>
                        <a:pt x="1027" y="31"/>
                      </a:lnTo>
                      <a:lnTo>
                        <a:pt x="1031" y="24"/>
                      </a:lnTo>
                      <a:lnTo>
                        <a:pt x="1032" y="18"/>
                      </a:lnTo>
                      <a:lnTo>
                        <a:pt x="1030" y="11"/>
                      </a:lnTo>
                      <a:lnTo>
                        <a:pt x="1026" y="5"/>
                      </a:lnTo>
                      <a:lnTo>
                        <a:pt x="1020" y="1"/>
                      </a:lnTo>
                      <a:lnTo>
                        <a:pt x="1013" y="0"/>
                      </a:lnTo>
                      <a:lnTo>
                        <a:pt x="1007" y="2"/>
                      </a:lnTo>
                      <a:lnTo>
                        <a:pt x="1000" y="6"/>
                      </a:lnTo>
                      <a:lnTo>
                        <a:pt x="1002" y="8"/>
                      </a:lnTo>
                      <a:lnTo>
                        <a:pt x="1004" y="9"/>
                      </a:lnTo>
                      <a:lnTo>
                        <a:pt x="1007" y="10"/>
                      </a:lnTo>
                      <a:lnTo>
                        <a:pt x="1009" y="11"/>
                      </a:lnTo>
                      <a:lnTo>
                        <a:pt x="1002" y="10"/>
                      </a:lnTo>
                      <a:lnTo>
                        <a:pt x="997" y="9"/>
                      </a:lnTo>
                      <a:lnTo>
                        <a:pt x="991" y="8"/>
                      </a:lnTo>
                      <a:lnTo>
                        <a:pt x="985" y="8"/>
                      </a:lnTo>
                      <a:lnTo>
                        <a:pt x="980" y="6"/>
                      </a:lnTo>
                      <a:lnTo>
                        <a:pt x="974" y="6"/>
                      </a:lnTo>
                      <a:lnTo>
                        <a:pt x="969" y="8"/>
                      </a:lnTo>
                      <a:lnTo>
                        <a:pt x="962" y="8"/>
                      </a:lnTo>
                      <a:lnTo>
                        <a:pt x="946" y="13"/>
                      </a:lnTo>
                      <a:lnTo>
                        <a:pt x="943" y="14"/>
                      </a:lnTo>
                      <a:lnTo>
                        <a:pt x="941" y="16"/>
                      </a:lnTo>
                      <a:lnTo>
                        <a:pt x="940" y="18"/>
                      </a:lnTo>
                      <a:lnTo>
                        <a:pt x="938" y="21"/>
                      </a:lnTo>
                      <a:lnTo>
                        <a:pt x="934" y="30"/>
                      </a:lnTo>
                      <a:lnTo>
                        <a:pt x="927" y="30"/>
                      </a:lnTo>
                      <a:lnTo>
                        <a:pt x="922" y="30"/>
                      </a:lnTo>
                      <a:lnTo>
                        <a:pt x="917" y="30"/>
                      </a:lnTo>
                      <a:lnTo>
                        <a:pt x="911" y="30"/>
                      </a:lnTo>
                      <a:lnTo>
                        <a:pt x="907" y="30"/>
                      </a:lnTo>
                      <a:lnTo>
                        <a:pt x="902" y="30"/>
                      </a:lnTo>
                      <a:lnTo>
                        <a:pt x="897" y="30"/>
                      </a:lnTo>
                      <a:lnTo>
                        <a:pt x="892" y="30"/>
                      </a:lnTo>
                      <a:lnTo>
                        <a:pt x="887" y="30"/>
                      </a:lnTo>
                      <a:lnTo>
                        <a:pt x="869" y="31"/>
                      </a:lnTo>
                      <a:lnTo>
                        <a:pt x="866" y="31"/>
                      </a:lnTo>
                      <a:lnTo>
                        <a:pt x="863" y="32"/>
                      </a:lnTo>
                      <a:lnTo>
                        <a:pt x="860" y="34"/>
                      </a:lnTo>
                      <a:lnTo>
                        <a:pt x="857" y="35"/>
                      </a:lnTo>
                      <a:lnTo>
                        <a:pt x="852" y="40"/>
                      </a:lnTo>
                      <a:lnTo>
                        <a:pt x="850" y="42"/>
                      </a:lnTo>
                      <a:lnTo>
                        <a:pt x="848" y="46"/>
                      </a:lnTo>
                      <a:lnTo>
                        <a:pt x="847" y="49"/>
                      </a:lnTo>
                      <a:lnTo>
                        <a:pt x="847" y="52"/>
                      </a:lnTo>
                      <a:lnTo>
                        <a:pt x="846" y="54"/>
                      </a:lnTo>
                      <a:lnTo>
                        <a:pt x="846" y="54"/>
                      </a:lnTo>
                      <a:lnTo>
                        <a:pt x="839" y="53"/>
                      </a:lnTo>
                      <a:lnTo>
                        <a:pt x="834" y="52"/>
                      </a:lnTo>
                      <a:lnTo>
                        <a:pt x="828" y="51"/>
                      </a:lnTo>
                      <a:lnTo>
                        <a:pt x="821" y="50"/>
                      </a:lnTo>
                      <a:lnTo>
                        <a:pt x="816" y="49"/>
                      </a:lnTo>
                      <a:lnTo>
                        <a:pt x="810" y="49"/>
                      </a:lnTo>
                      <a:lnTo>
                        <a:pt x="803" y="48"/>
                      </a:lnTo>
                      <a:lnTo>
                        <a:pt x="797" y="48"/>
                      </a:lnTo>
                      <a:lnTo>
                        <a:pt x="782" y="49"/>
                      </a:lnTo>
                      <a:lnTo>
                        <a:pt x="779" y="50"/>
                      </a:lnTo>
                      <a:lnTo>
                        <a:pt x="776" y="52"/>
                      </a:lnTo>
                      <a:lnTo>
                        <a:pt x="773" y="54"/>
                      </a:lnTo>
                      <a:lnTo>
                        <a:pt x="771" y="57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5" y="67"/>
                      </a:lnTo>
                      <a:lnTo>
                        <a:pt x="762" y="74"/>
                      </a:lnTo>
                      <a:lnTo>
                        <a:pt x="761" y="73"/>
                      </a:lnTo>
                      <a:lnTo>
                        <a:pt x="761" y="73"/>
                      </a:lnTo>
                      <a:lnTo>
                        <a:pt x="746" y="70"/>
                      </a:lnTo>
                      <a:lnTo>
                        <a:pt x="731" y="69"/>
                      </a:lnTo>
                      <a:lnTo>
                        <a:pt x="717" y="69"/>
                      </a:lnTo>
                      <a:lnTo>
                        <a:pt x="703" y="71"/>
                      </a:lnTo>
                      <a:lnTo>
                        <a:pt x="688" y="75"/>
                      </a:lnTo>
                      <a:lnTo>
                        <a:pt x="675" y="82"/>
                      </a:lnTo>
                      <a:lnTo>
                        <a:pt x="664" y="91"/>
                      </a:lnTo>
                      <a:lnTo>
                        <a:pt x="653" y="103"/>
                      </a:lnTo>
                      <a:lnTo>
                        <a:pt x="633" y="109"/>
                      </a:lnTo>
                      <a:lnTo>
                        <a:pt x="614" y="118"/>
                      </a:lnTo>
                      <a:lnTo>
                        <a:pt x="597" y="128"/>
                      </a:lnTo>
                      <a:lnTo>
                        <a:pt x="580" y="142"/>
                      </a:lnTo>
                      <a:lnTo>
                        <a:pt x="565" y="157"/>
                      </a:lnTo>
                      <a:lnTo>
                        <a:pt x="550" y="172"/>
                      </a:lnTo>
                      <a:lnTo>
                        <a:pt x="537" y="189"/>
                      </a:lnTo>
                      <a:lnTo>
                        <a:pt x="523" y="205"/>
                      </a:lnTo>
                      <a:lnTo>
                        <a:pt x="510" y="221"/>
                      </a:lnTo>
                      <a:lnTo>
                        <a:pt x="500" y="238"/>
                      </a:lnTo>
                      <a:lnTo>
                        <a:pt x="491" y="257"/>
                      </a:lnTo>
                      <a:lnTo>
                        <a:pt x="484" y="277"/>
                      </a:lnTo>
                      <a:lnTo>
                        <a:pt x="479" y="296"/>
                      </a:lnTo>
                      <a:lnTo>
                        <a:pt x="475" y="315"/>
                      </a:lnTo>
                      <a:lnTo>
                        <a:pt x="473" y="335"/>
                      </a:lnTo>
                      <a:lnTo>
                        <a:pt x="472" y="355"/>
                      </a:lnTo>
                      <a:lnTo>
                        <a:pt x="476" y="367"/>
                      </a:lnTo>
                      <a:lnTo>
                        <a:pt x="481" y="378"/>
                      </a:lnTo>
                      <a:lnTo>
                        <a:pt x="486" y="389"/>
                      </a:lnTo>
                      <a:lnTo>
                        <a:pt x="492" y="399"/>
                      </a:lnTo>
                      <a:lnTo>
                        <a:pt x="500" y="410"/>
                      </a:lnTo>
                      <a:lnTo>
                        <a:pt x="506" y="418"/>
                      </a:lnTo>
                      <a:lnTo>
                        <a:pt x="515" y="428"/>
                      </a:lnTo>
                      <a:lnTo>
                        <a:pt x="523" y="436"/>
                      </a:lnTo>
                      <a:lnTo>
                        <a:pt x="522" y="439"/>
                      </a:lnTo>
                      <a:lnTo>
                        <a:pt x="522" y="440"/>
                      </a:lnTo>
                      <a:lnTo>
                        <a:pt x="521" y="442"/>
                      </a:lnTo>
                      <a:lnTo>
                        <a:pt x="520" y="444"/>
                      </a:lnTo>
                      <a:lnTo>
                        <a:pt x="520" y="451"/>
                      </a:lnTo>
                      <a:lnTo>
                        <a:pt x="520" y="459"/>
                      </a:lnTo>
                      <a:lnTo>
                        <a:pt x="520" y="467"/>
                      </a:lnTo>
                      <a:lnTo>
                        <a:pt x="519" y="475"/>
                      </a:lnTo>
                      <a:lnTo>
                        <a:pt x="505" y="471"/>
                      </a:lnTo>
                      <a:lnTo>
                        <a:pt x="492" y="468"/>
                      </a:lnTo>
                      <a:lnTo>
                        <a:pt x="479" y="465"/>
                      </a:lnTo>
                      <a:lnTo>
                        <a:pt x="466" y="462"/>
                      </a:lnTo>
                      <a:lnTo>
                        <a:pt x="452" y="460"/>
                      </a:lnTo>
                      <a:lnTo>
                        <a:pt x="438" y="457"/>
                      </a:lnTo>
                      <a:lnTo>
                        <a:pt x="425" y="455"/>
                      </a:lnTo>
                      <a:lnTo>
                        <a:pt x="412" y="452"/>
                      </a:lnTo>
                      <a:lnTo>
                        <a:pt x="398" y="451"/>
                      </a:lnTo>
                      <a:lnTo>
                        <a:pt x="384" y="449"/>
                      </a:lnTo>
                      <a:lnTo>
                        <a:pt x="371" y="448"/>
                      </a:lnTo>
                      <a:lnTo>
                        <a:pt x="358" y="448"/>
                      </a:lnTo>
                      <a:lnTo>
                        <a:pt x="344" y="448"/>
                      </a:lnTo>
                      <a:lnTo>
                        <a:pt x="330" y="448"/>
                      </a:lnTo>
                      <a:lnTo>
                        <a:pt x="317" y="448"/>
                      </a:lnTo>
                      <a:lnTo>
                        <a:pt x="303" y="449"/>
                      </a:lnTo>
                      <a:lnTo>
                        <a:pt x="282" y="452"/>
                      </a:lnTo>
                      <a:lnTo>
                        <a:pt x="262" y="457"/>
                      </a:lnTo>
                      <a:lnTo>
                        <a:pt x="241" y="464"/>
                      </a:lnTo>
                      <a:lnTo>
                        <a:pt x="222" y="471"/>
                      </a:lnTo>
                      <a:lnTo>
                        <a:pt x="204" y="481"/>
                      </a:lnTo>
                      <a:lnTo>
                        <a:pt x="185" y="491"/>
                      </a:lnTo>
                      <a:lnTo>
                        <a:pt x="167" y="500"/>
                      </a:lnTo>
                      <a:lnTo>
                        <a:pt x="148" y="510"/>
                      </a:lnTo>
                      <a:lnTo>
                        <a:pt x="135" y="503"/>
                      </a:lnTo>
                      <a:lnTo>
                        <a:pt x="121" y="497"/>
                      </a:lnTo>
                      <a:lnTo>
                        <a:pt x="107" y="493"/>
                      </a:lnTo>
                      <a:lnTo>
                        <a:pt x="92" y="488"/>
                      </a:lnTo>
                      <a:lnTo>
                        <a:pt x="76" y="486"/>
                      </a:lnTo>
                      <a:lnTo>
                        <a:pt x="62" y="487"/>
                      </a:lnTo>
                      <a:lnTo>
                        <a:pt x="46" y="491"/>
                      </a:lnTo>
                      <a:lnTo>
                        <a:pt x="30" y="497"/>
                      </a:lnTo>
                      <a:lnTo>
                        <a:pt x="26" y="502"/>
                      </a:lnTo>
                      <a:lnTo>
                        <a:pt x="23" y="509"/>
                      </a:lnTo>
                      <a:lnTo>
                        <a:pt x="23" y="516"/>
                      </a:lnTo>
                      <a:lnTo>
                        <a:pt x="26" y="522"/>
                      </a:lnTo>
                      <a:lnTo>
                        <a:pt x="31" y="527"/>
                      </a:lnTo>
                      <a:lnTo>
                        <a:pt x="38" y="529"/>
                      </a:lnTo>
                      <a:lnTo>
                        <a:pt x="45" y="529"/>
                      </a:lnTo>
                      <a:lnTo>
                        <a:pt x="51" y="525"/>
                      </a:lnTo>
                      <a:lnTo>
                        <a:pt x="58" y="524"/>
                      </a:lnTo>
                      <a:lnTo>
                        <a:pt x="66" y="524"/>
                      </a:lnTo>
                      <a:lnTo>
                        <a:pt x="73" y="524"/>
                      </a:lnTo>
                      <a:lnTo>
                        <a:pt x="81" y="524"/>
                      </a:lnTo>
                      <a:lnTo>
                        <a:pt x="88" y="525"/>
                      </a:lnTo>
                      <a:lnTo>
                        <a:pt x="95" y="527"/>
                      </a:lnTo>
                      <a:lnTo>
                        <a:pt x="103" y="529"/>
                      </a:lnTo>
                      <a:lnTo>
                        <a:pt x="109" y="531"/>
                      </a:lnTo>
                      <a:lnTo>
                        <a:pt x="96" y="535"/>
                      </a:lnTo>
                      <a:lnTo>
                        <a:pt x="84" y="539"/>
                      </a:lnTo>
                      <a:lnTo>
                        <a:pt x="71" y="543"/>
                      </a:lnTo>
                      <a:lnTo>
                        <a:pt x="58" y="548"/>
                      </a:lnTo>
                      <a:lnTo>
                        <a:pt x="47" y="553"/>
                      </a:lnTo>
                      <a:lnTo>
                        <a:pt x="34" y="558"/>
                      </a:lnTo>
                      <a:lnTo>
                        <a:pt x="22" y="564"/>
                      </a:lnTo>
                      <a:lnTo>
                        <a:pt x="11" y="570"/>
                      </a:lnTo>
                      <a:lnTo>
                        <a:pt x="4" y="574"/>
                      </a:lnTo>
                      <a:lnTo>
                        <a:pt x="1" y="579"/>
                      </a:lnTo>
                      <a:lnTo>
                        <a:pt x="0" y="587"/>
                      </a:lnTo>
                      <a:lnTo>
                        <a:pt x="2" y="593"/>
                      </a:lnTo>
                      <a:lnTo>
                        <a:pt x="7" y="600"/>
                      </a:lnTo>
                      <a:lnTo>
                        <a:pt x="13" y="603"/>
                      </a:lnTo>
                      <a:lnTo>
                        <a:pt x="19" y="604"/>
                      </a:lnTo>
                      <a:lnTo>
                        <a:pt x="26" y="602"/>
                      </a:lnTo>
                      <a:lnTo>
                        <a:pt x="35" y="596"/>
                      </a:lnTo>
                      <a:lnTo>
                        <a:pt x="46" y="592"/>
                      </a:lnTo>
                      <a:lnTo>
                        <a:pt x="55" y="588"/>
                      </a:lnTo>
                      <a:lnTo>
                        <a:pt x="66" y="584"/>
                      </a:lnTo>
                      <a:lnTo>
                        <a:pt x="76" y="579"/>
                      </a:lnTo>
                      <a:lnTo>
                        <a:pt x="87" y="575"/>
                      </a:lnTo>
                      <a:lnTo>
                        <a:pt x="96" y="572"/>
                      </a:lnTo>
                      <a:lnTo>
                        <a:pt x="107" y="569"/>
                      </a:lnTo>
                      <a:lnTo>
                        <a:pt x="101" y="578"/>
                      </a:lnTo>
                      <a:lnTo>
                        <a:pt x="94" y="589"/>
                      </a:lnTo>
                      <a:lnTo>
                        <a:pt x="87" y="599"/>
                      </a:lnTo>
                      <a:lnTo>
                        <a:pt x="81" y="609"/>
                      </a:lnTo>
                      <a:lnTo>
                        <a:pt x="74" y="620"/>
                      </a:lnTo>
                      <a:lnTo>
                        <a:pt x="69" y="630"/>
                      </a:lnTo>
                      <a:lnTo>
                        <a:pt x="64" y="641"/>
                      </a:lnTo>
                      <a:lnTo>
                        <a:pt x="59" y="653"/>
                      </a:lnTo>
                      <a:lnTo>
                        <a:pt x="58" y="660"/>
                      </a:lnTo>
                      <a:lnTo>
                        <a:pt x="59" y="666"/>
                      </a:lnTo>
                      <a:lnTo>
                        <a:pt x="64" y="673"/>
                      </a:lnTo>
                      <a:lnTo>
                        <a:pt x="69" y="676"/>
                      </a:lnTo>
                      <a:lnTo>
                        <a:pt x="76" y="678"/>
                      </a:lnTo>
                      <a:lnTo>
                        <a:pt x="83" y="676"/>
                      </a:lnTo>
                      <a:lnTo>
                        <a:pt x="89" y="673"/>
                      </a:lnTo>
                      <a:lnTo>
                        <a:pt x="92" y="666"/>
                      </a:lnTo>
                      <a:lnTo>
                        <a:pt x="98" y="654"/>
                      </a:lnTo>
                      <a:lnTo>
                        <a:pt x="103" y="641"/>
                      </a:lnTo>
                      <a:lnTo>
                        <a:pt x="110" y="629"/>
                      </a:lnTo>
                      <a:lnTo>
                        <a:pt x="118" y="618"/>
                      </a:lnTo>
                      <a:lnTo>
                        <a:pt x="125" y="607"/>
                      </a:lnTo>
                      <a:lnTo>
                        <a:pt x="132" y="595"/>
                      </a:lnTo>
                      <a:lnTo>
                        <a:pt x="140" y="584"/>
                      </a:lnTo>
                      <a:lnTo>
                        <a:pt x="147" y="572"/>
                      </a:lnTo>
                      <a:lnTo>
                        <a:pt x="149" y="568"/>
                      </a:lnTo>
                      <a:lnTo>
                        <a:pt x="150" y="563"/>
                      </a:lnTo>
                      <a:lnTo>
                        <a:pt x="149" y="558"/>
                      </a:lnTo>
                      <a:lnTo>
                        <a:pt x="147" y="553"/>
                      </a:lnTo>
                      <a:lnTo>
                        <a:pt x="148" y="551"/>
                      </a:lnTo>
                      <a:lnTo>
                        <a:pt x="149" y="550"/>
                      </a:lnTo>
                      <a:lnTo>
                        <a:pt x="150" y="548"/>
                      </a:lnTo>
                      <a:lnTo>
                        <a:pt x="152" y="546"/>
                      </a:lnTo>
                      <a:lnTo>
                        <a:pt x="153" y="546"/>
                      </a:lnTo>
                      <a:lnTo>
                        <a:pt x="154" y="546"/>
                      </a:lnTo>
                      <a:lnTo>
                        <a:pt x="155" y="546"/>
                      </a:lnTo>
                      <a:lnTo>
                        <a:pt x="156" y="546"/>
                      </a:lnTo>
                      <a:lnTo>
                        <a:pt x="174" y="537"/>
                      </a:lnTo>
                      <a:lnTo>
                        <a:pt x="192" y="528"/>
                      </a:lnTo>
                      <a:lnTo>
                        <a:pt x="210" y="519"/>
                      </a:lnTo>
                      <a:lnTo>
                        <a:pt x="228" y="510"/>
                      </a:lnTo>
                      <a:lnTo>
                        <a:pt x="246" y="501"/>
                      </a:lnTo>
                      <a:lnTo>
                        <a:pt x="264" y="495"/>
                      </a:lnTo>
                      <a:lnTo>
                        <a:pt x="283" y="488"/>
                      </a:lnTo>
                      <a:lnTo>
                        <a:pt x="303" y="485"/>
                      </a:lnTo>
                      <a:lnTo>
                        <a:pt x="316" y="484"/>
                      </a:lnTo>
                      <a:lnTo>
                        <a:pt x="329" y="483"/>
                      </a:lnTo>
                      <a:lnTo>
                        <a:pt x="342" y="483"/>
                      </a:lnTo>
                      <a:lnTo>
                        <a:pt x="355" y="483"/>
                      </a:lnTo>
                      <a:lnTo>
                        <a:pt x="368" y="484"/>
                      </a:lnTo>
                      <a:lnTo>
                        <a:pt x="381" y="485"/>
                      </a:lnTo>
                      <a:lnTo>
                        <a:pt x="394" y="486"/>
                      </a:lnTo>
                      <a:lnTo>
                        <a:pt x="408" y="488"/>
                      </a:lnTo>
                      <a:lnTo>
                        <a:pt x="420" y="491"/>
                      </a:lnTo>
                      <a:lnTo>
                        <a:pt x="433" y="493"/>
                      </a:lnTo>
                      <a:lnTo>
                        <a:pt x="446" y="495"/>
                      </a:lnTo>
                      <a:lnTo>
                        <a:pt x="459" y="498"/>
                      </a:lnTo>
                      <a:lnTo>
                        <a:pt x="472" y="500"/>
                      </a:lnTo>
                      <a:lnTo>
                        <a:pt x="485" y="503"/>
                      </a:lnTo>
                      <a:lnTo>
                        <a:pt x="498" y="505"/>
                      </a:lnTo>
                      <a:lnTo>
                        <a:pt x="510" y="509"/>
                      </a:lnTo>
                      <a:lnTo>
                        <a:pt x="512" y="510"/>
                      </a:lnTo>
                      <a:lnTo>
                        <a:pt x="513" y="510"/>
                      </a:lnTo>
                      <a:lnTo>
                        <a:pt x="516" y="510"/>
                      </a:lnTo>
                      <a:lnTo>
                        <a:pt x="517" y="510"/>
                      </a:lnTo>
                      <a:lnTo>
                        <a:pt x="509" y="652"/>
                      </a:lnTo>
                      <a:lnTo>
                        <a:pt x="503" y="797"/>
                      </a:lnTo>
                      <a:lnTo>
                        <a:pt x="497" y="942"/>
                      </a:lnTo>
                      <a:lnTo>
                        <a:pt x="491" y="1079"/>
                      </a:lnTo>
                      <a:lnTo>
                        <a:pt x="498" y="1108"/>
                      </a:lnTo>
                      <a:lnTo>
                        <a:pt x="501" y="1112"/>
                      </a:lnTo>
                      <a:lnTo>
                        <a:pt x="505" y="1115"/>
                      </a:lnTo>
                      <a:lnTo>
                        <a:pt x="510" y="1118"/>
                      </a:lnTo>
                      <a:lnTo>
                        <a:pt x="516" y="1118"/>
                      </a:lnTo>
                      <a:lnTo>
                        <a:pt x="536" y="1115"/>
                      </a:lnTo>
                      <a:lnTo>
                        <a:pt x="543" y="1113"/>
                      </a:lnTo>
                      <a:lnTo>
                        <a:pt x="550" y="1110"/>
                      </a:lnTo>
                      <a:lnTo>
                        <a:pt x="558" y="1109"/>
                      </a:lnTo>
                      <a:lnTo>
                        <a:pt x="565" y="1109"/>
                      </a:lnTo>
                      <a:lnTo>
                        <a:pt x="576" y="1110"/>
                      </a:lnTo>
                      <a:lnTo>
                        <a:pt x="588" y="1110"/>
                      </a:lnTo>
                      <a:lnTo>
                        <a:pt x="598" y="1110"/>
                      </a:lnTo>
                      <a:lnTo>
                        <a:pt x="610" y="1110"/>
                      </a:lnTo>
                      <a:lnTo>
                        <a:pt x="620" y="1110"/>
                      </a:lnTo>
                      <a:lnTo>
                        <a:pt x="632" y="1109"/>
                      </a:lnTo>
                      <a:lnTo>
                        <a:pt x="643" y="1109"/>
                      </a:lnTo>
                      <a:lnTo>
                        <a:pt x="653" y="1108"/>
                      </a:lnTo>
                      <a:lnTo>
                        <a:pt x="659" y="1154"/>
                      </a:lnTo>
                      <a:lnTo>
                        <a:pt x="668" y="1198"/>
                      </a:lnTo>
                      <a:lnTo>
                        <a:pt x="675" y="1243"/>
                      </a:lnTo>
                      <a:lnTo>
                        <a:pt x="682" y="1287"/>
                      </a:lnTo>
                      <a:lnTo>
                        <a:pt x="675" y="1303"/>
                      </a:lnTo>
                      <a:lnTo>
                        <a:pt x="669" y="1318"/>
                      </a:lnTo>
                      <a:lnTo>
                        <a:pt x="662" y="1334"/>
                      </a:lnTo>
                      <a:lnTo>
                        <a:pt x="654" y="1350"/>
                      </a:lnTo>
                      <a:lnTo>
                        <a:pt x="634" y="1356"/>
                      </a:lnTo>
                      <a:lnTo>
                        <a:pt x="614" y="1362"/>
                      </a:lnTo>
                      <a:lnTo>
                        <a:pt x="594" y="1369"/>
                      </a:lnTo>
                      <a:lnTo>
                        <a:pt x="574" y="1375"/>
                      </a:lnTo>
                      <a:lnTo>
                        <a:pt x="555" y="1382"/>
                      </a:lnTo>
                      <a:lnTo>
                        <a:pt x="535" y="1390"/>
                      </a:lnTo>
                      <a:lnTo>
                        <a:pt x="515" y="1396"/>
                      </a:lnTo>
                      <a:lnTo>
                        <a:pt x="494" y="1404"/>
                      </a:lnTo>
                      <a:lnTo>
                        <a:pt x="474" y="1412"/>
                      </a:lnTo>
                      <a:lnTo>
                        <a:pt x="454" y="1419"/>
                      </a:lnTo>
                      <a:lnTo>
                        <a:pt x="434" y="1428"/>
                      </a:lnTo>
                      <a:lnTo>
                        <a:pt x="415" y="1436"/>
                      </a:lnTo>
                      <a:lnTo>
                        <a:pt x="395" y="1445"/>
                      </a:lnTo>
                      <a:lnTo>
                        <a:pt x="375" y="1453"/>
                      </a:lnTo>
                      <a:lnTo>
                        <a:pt x="355" y="1462"/>
                      </a:lnTo>
                      <a:lnTo>
                        <a:pt x="335" y="1471"/>
                      </a:lnTo>
                      <a:lnTo>
                        <a:pt x="322" y="1480"/>
                      </a:lnTo>
                      <a:lnTo>
                        <a:pt x="321" y="1482"/>
                      </a:lnTo>
                      <a:lnTo>
                        <a:pt x="319" y="1484"/>
                      </a:lnTo>
                      <a:lnTo>
                        <a:pt x="318" y="1486"/>
                      </a:lnTo>
                      <a:lnTo>
                        <a:pt x="316" y="1488"/>
                      </a:lnTo>
                      <a:lnTo>
                        <a:pt x="311" y="1503"/>
                      </a:lnTo>
                      <a:lnTo>
                        <a:pt x="311" y="1512"/>
                      </a:lnTo>
                      <a:lnTo>
                        <a:pt x="311" y="1520"/>
                      </a:lnTo>
                      <a:lnTo>
                        <a:pt x="311" y="1529"/>
                      </a:lnTo>
                      <a:lnTo>
                        <a:pt x="313" y="1537"/>
                      </a:lnTo>
                      <a:lnTo>
                        <a:pt x="317" y="1554"/>
                      </a:lnTo>
                      <a:lnTo>
                        <a:pt x="318" y="1558"/>
                      </a:lnTo>
                      <a:lnTo>
                        <a:pt x="320" y="1561"/>
                      </a:lnTo>
                      <a:lnTo>
                        <a:pt x="323" y="1563"/>
                      </a:lnTo>
                      <a:lnTo>
                        <a:pt x="326" y="1566"/>
                      </a:lnTo>
                      <a:lnTo>
                        <a:pt x="335" y="1571"/>
                      </a:lnTo>
                      <a:lnTo>
                        <a:pt x="346" y="1580"/>
                      </a:lnTo>
                      <a:lnTo>
                        <a:pt x="358" y="1590"/>
                      </a:lnTo>
                      <a:lnTo>
                        <a:pt x="370" y="1599"/>
                      </a:lnTo>
                      <a:lnTo>
                        <a:pt x="382" y="1608"/>
                      </a:lnTo>
                      <a:lnTo>
                        <a:pt x="394" y="1616"/>
                      </a:lnTo>
                      <a:lnTo>
                        <a:pt x="407" y="1624"/>
                      </a:lnTo>
                      <a:lnTo>
                        <a:pt x="419" y="1632"/>
                      </a:lnTo>
                      <a:lnTo>
                        <a:pt x="433" y="1639"/>
                      </a:lnTo>
                      <a:lnTo>
                        <a:pt x="446" y="1646"/>
                      </a:lnTo>
                      <a:lnTo>
                        <a:pt x="459" y="1652"/>
                      </a:lnTo>
                      <a:lnTo>
                        <a:pt x="473" y="1659"/>
                      </a:lnTo>
                      <a:lnTo>
                        <a:pt x="487" y="1664"/>
                      </a:lnTo>
                      <a:lnTo>
                        <a:pt x="501" y="1669"/>
                      </a:lnTo>
                      <a:lnTo>
                        <a:pt x="516" y="1674"/>
                      </a:lnTo>
                      <a:lnTo>
                        <a:pt x="529" y="1678"/>
                      </a:lnTo>
                      <a:lnTo>
                        <a:pt x="544" y="1682"/>
                      </a:lnTo>
                      <a:lnTo>
                        <a:pt x="558" y="1681"/>
                      </a:lnTo>
                      <a:lnTo>
                        <a:pt x="572" y="1681"/>
                      </a:lnTo>
                      <a:lnTo>
                        <a:pt x="584" y="1680"/>
                      </a:lnTo>
                      <a:lnTo>
                        <a:pt x="598" y="1678"/>
                      </a:lnTo>
                      <a:lnTo>
                        <a:pt x="612" y="1677"/>
                      </a:lnTo>
                      <a:lnTo>
                        <a:pt x="626" y="1676"/>
                      </a:lnTo>
                      <a:lnTo>
                        <a:pt x="638" y="1674"/>
                      </a:lnTo>
                      <a:lnTo>
                        <a:pt x="652" y="1672"/>
                      </a:lnTo>
                      <a:lnTo>
                        <a:pt x="652" y="1675"/>
                      </a:lnTo>
                      <a:lnTo>
                        <a:pt x="653" y="1678"/>
                      </a:lnTo>
                      <a:lnTo>
                        <a:pt x="653" y="1681"/>
                      </a:lnTo>
                      <a:lnTo>
                        <a:pt x="653" y="1685"/>
                      </a:lnTo>
                      <a:lnTo>
                        <a:pt x="652" y="1693"/>
                      </a:lnTo>
                      <a:lnTo>
                        <a:pt x="652" y="1695"/>
                      </a:lnTo>
                      <a:lnTo>
                        <a:pt x="653" y="1697"/>
                      </a:lnTo>
                      <a:lnTo>
                        <a:pt x="654" y="1699"/>
                      </a:lnTo>
                      <a:lnTo>
                        <a:pt x="655" y="1701"/>
                      </a:lnTo>
                      <a:lnTo>
                        <a:pt x="663" y="1713"/>
                      </a:lnTo>
                      <a:lnTo>
                        <a:pt x="673" y="1721"/>
                      </a:lnTo>
                      <a:lnTo>
                        <a:pt x="686" y="1729"/>
                      </a:lnTo>
                      <a:lnTo>
                        <a:pt x="700" y="1733"/>
                      </a:lnTo>
                      <a:lnTo>
                        <a:pt x="713" y="1736"/>
                      </a:lnTo>
                      <a:lnTo>
                        <a:pt x="727" y="1737"/>
                      </a:lnTo>
                      <a:lnTo>
                        <a:pt x="741" y="1736"/>
                      </a:lnTo>
                      <a:lnTo>
                        <a:pt x="754" y="1732"/>
                      </a:lnTo>
                      <a:lnTo>
                        <a:pt x="765" y="1724"/>
                      </a:lnTo>
                      <a:lnTo>
                        <a:pt x="778" y="1710"/>
                      </a:lnTo>
                      <a:lnTo>
                        <a:pt x="784" y="1691"/>
                      </a:lnTo>
                      <a:lnTo>
                        <a:pt x="784" y="1670"/>
                      </a:lnTo>
                      <a:lnTo>
                        <a:pt x="778" y="1651"/>
                      </a:lnTo>
                      <a:lnTo>
                        <a:pt x="778" y="1650"/>
                      </a:lnTo>
                      <a:lnTo>
                        <a:pt x="777" y="1649"/>
                      </a:lnTo>
                      <a:lnTo>
                        <a:pt x="777" y="1648"/>
                      </a:lnTo>
                      <a:lnTo>
                        <a:pt x="776" y="1647"/>
                      </a:lnTo>
                      <a:lnTo>
                        <a:pt x="790" y="1644"/>
                      </a:lnTo>
                      <a:lnTo>
                        <a:pt x="802" y="1640"/>
                      </a:lnTo>
                      <a:lnTo>
                        <a:pt x="816" y="1637"/>
                      </a:lnTo>
                      <a:lnTo>
                        <a:pt x="830" y="1632"/>
                      </a:lnTo>
                      <a:lnTo>
                        <a:pt x="843" y="1629"/>
                      </a:lnTo>
                      <a:lnTo>
                        <a:pt x="856" y="1625"/>
                      </a:lnTo>
                      <a:lnTo>
                        <a:pt x="870" y="1621"/>
                      </a:lnTo>
                      <a:lnTo>
                        <a:pt x="883" y="1616"/>
                      </a:lnTo>
                      <a:lnTo>
                        <a:pt x="897" y="1612"/>
                      </a:lnTo>
                      <a:lnTo>
                        <a:pt x="909" y="1608"/>
                      </a:lnTo>
                      <a:lnTo>
                        <a:pt x="923" y="1603"/>
                      </a:lnTo>
                      <a:lnTo>
                        <a:pt x="936" y="1598"/>
                      </a:lnTo>
                      <a:lnTo>
                        <a:pt x="949" y="1593"/>
                      </a:lnTo>
                      <a:lnTo>
                        <a:pt x="962" y="1589"/>
                      </a:lnTo>
                      <a:lnTo>
                        <a:pt x="976" y="1584"/>
                      </a:lnTo>
                      <a:lnTo>
                        <a:pt x="989" y="1578"/>
                      </a:lnTo>
                      <a:lnTo>
                        <a:pt x="1002" y="1572"/>
                      </a:lnTo>
                      <a:lnTo>
                        <a:pt x="1016" y="1567"/>
                      </a:lnTo>
                      <a:lnTo>
                        <a:pt x="1030" y="1560"/>
                      </a:lnTo>
                      <a:lnTo>
                        <a:pt x="1044" y="1555"/>
                      </a:lnTo>
                      <a:lnTo>
                        <a:pt x="1057" y="1550"/>
                      </a:lnTo>
                      <a:lnTo>
                        <a:pt x="1071" y="1543"/>
                      </a:lnTo>
                      <a:lnTo>
                        <a:pt x="1085" y="1538"/>
                      </a:lnTo>
                      <a:lnTo>
                        <a:pt x="1099" y="1532"/>
                      </a:lnTo>
                      <a:lnTo>
                        <a:pt x="1104" y="1543"/>
                      </a:lnTo>
                      <a:lnTo>
                        <a:pt x="1110" y="1554"/>
                      </a:lnTo>
                      <a:lnTo>
                        <a:pt x="1120" y="1563"/>
                      </a:lnTo>
                      <a:lnTo>
                        <a:pt x="1130" y="1571"/>
                      </a:lnTo>
                      <a:lnTo>
                        <a:pt x="1141" y="1576"/>
                      </a:lnTo>
                      <a:lnTo>
                        <a:pt x="1154" y="1580"/>
                      </a:lnTo>
                      <a:lnTo>
                        <a:pt x="1166" y="1583"/>
                      </a:lnTo>
                      <a:lnTo>
                        <a:pt x="1180" y="1581"/>
                      </a:lnTo>
                      <a:lnTo>
                        <a:pt x="1201" y="1574"/>
                      </a:lnTo>
                      <a:lnTo>
                        <a:pt x="1205" y="1572"/>
                      </a:lnTo>
                      <a:lnTo>
                        <a:pt x="1208" y="1570"/>
                      </a:lnTo>
                      <a:lnTo>
                        <a:pt x="1211" y="1567"/>
                      </a:lnTo>
                      <a:lnTo>
                        <a:pt x="1213" y="1562"/>
                      </a:lnTo>
                      <a:lnTo>
                        <a:pt x="1215" y="1553"/>
                      </a:lnTo>
                      <a:lnTo>
                        <a:pt x="1222" y="1534"/>
                      </a:lnTo>
                      <a:lnTo>
                        <a:pt x="1225" y="1514"/>
                      </a:lnTo>
                      <a:lnTo>
                        <a:pt x="1219" y="1494"/>
                      </a:lnTo>
                      <a:lnTo>
                        <a:pt x="1207" y="1478"/>
                      </a:lnTo>
                      <a:lnTo>
                        <a:pt x="1217" y="1471"/>
                      </a:lnTo>
                      <a:lnTo>
                        <a:pt x="1229" y="1465"/>
                      </a:lnTo>
                      <a:lnTo>
                        <a:pt x="1239" y="1458"/>
                      </a:lnTo>
                      <a:lnTo>
                        <a:pt x="1251" y="1451"/>
                      </a:lnTo>
                      <a:lnTo>
                        <a:pt x="1262" y="1444"/>
                      </a:lnTo>
                      <a:lnTo>
                        <a:pt x="1272" y="1436"/>
                      </a:lnTo>
                      <a:lnTo>
                        <a:pt x="1282" y="1429"/>
                      </a:lnTo>
                      <a:lnTo>
                        <a:pt x="1292" y="1422"/>
                      </a:lnTo>
                      <a:lnTo>
                        <a:pt x="1308" y="1410"/>
                      </a:lnTo>
                      <a:lnTo>
                        <a:pt x="1310" y="1408"/>
                      </a:lnTo>
                      <a:lnTo>
                        <a:pt x="1312" y="1405"/>
                      </a:lnTo>
                      <a:lnTo>
                        <a:pt x="1314" y="1401"/>
                      </a:lnTo>
                      <a:lnTo>
                        <a:pt x="1315" y="1397"/>
                      </a:lnTo>
                      <a:lnTo>
                        <a:pt x="1316" y="1381"/>
                      </a:lnTo>
                      <a:lnTo>
                        <a:pt x="1307" y="1364"/>
                      </a:lnTo>
                      <a:lnTo>
                        <a:pt x="1298" y="1350"/>
                      </a:lnTo>
                      <a:lnTo>
                        <a:pt x="1286" y="1336"/>
                      </a:lnTo>
                      <a:lnTo>
                        <a:pt x="1273" y="1323"/>
                      </a:lnTo>
                      <a:lnTo>
                        <a:pt x="1261" y="1311"/>
                      </a:lnTo>
                      <a:lnTo>
                        <a:pt x="1246" y="1302"/>
                      </a:lnTo>
                      <a:lnTo>
                        <a:pt x="1231" y="1292"/>
                      </a:lnTo>
                      <a:lnTo>
                        <a:pt x="1215" y="1284"/>
                      </a:lnTo>
                      <a:lnTo>
                        <a:pt x="1198" y="1277"/>
                      </a:lnTo>
                      <a:lnTo>
                        <a:pt x="1181" y="1271"/>
                      </a:lnTo>
                      <a:lnTo>
                        <a:pt x="1163" y="1265"/>
                      </a:lnTo>
                      <a:lnTo>
                        <a:pt x="1146" y="1261"/>
                      </a:lnTo>
                      <a:lnTo>
                        <a:pt x="1128" y="1256"/>
                      </a:lnTo>
                      <a:lnTo>
                        <a:pt x="1110" y="1252"/>
                      </a:lnTo>
                      <a:lnTo>
                        <a:pt x="1092" y="1249"/>
                      </a:lnTo>
                      <a:lnTo>
                        <a:pt x="1075" y="1247"/>
                      </a:lnTo>
                      <a:lnTo>
                        <a:pt x="1074" y="1247"/>
                      </a:lnTo>
                      <a:lnTo>
                        <a:pt x="1072" y="1247"/>
                      </a:lnTo>
                      <a:lnTo>
                        <a:pt x="1071" y="1247"/>
                      </a:lnTo>
                      <a:lnTo>
                        <a:pt x="1069" y="1248"/>
                      </a:lnTo>
                      <a:lnTo>
                        <a:pt x="1069" y="1248"/>
                      </a:lnTo>
                      <a:lnTo>
                        <a:pt x="1058" y="1250"/>
                      </a:lnTo>
                      <a:lnTo>
                        <a:pt x="1048" y="1252"/>
                      </a:lnTo>
                      <a:lnTo>
                        <a:pt x="1037" y="1254"/>
                      </a:lnTo>
                      <a:lnTo>
                        <a:pt x="1028" y="1256"/>
                      </a:lnTo>
                      <a:lnTo>
                        <a:pt x="1017" y="1258"/>
                      </a:lnTo>
                      <a:lnTo>
                        <a:pt x="1007" y="1261"/>
                      </a:lnTo>
                      <a:lnTo>
                        <a:pt x="996" y="1263"/>
                      </a:lnTo>
                      <a:lnTo>
                        <a:pt x="987" y="1265"/>
                      </a:lnTo>
                      <a:lnTo>
                        <a:pt x="991" y="1258"/>
                      </a:lnTo>
                      <a:lnTo>
                        <a:pt x="995" y="1252"/>
                      </a:lnTo>
                      <a:lnTo>
                        <a:pt x="1000" y="1246"/>
                      </a:lnTo>
                      <a:lnTo>
                        <a:pt x="1007" y="1240"/>
                      </a:lnTo>
                      <a:lnTo>
                        <a:pt x="1027" y="1215"/>
                      </a:lnTo>
                      <a:lnTo>
                        <a:pt x="1028" y="1213"/>
                      </a:lnTo>
                      <a:lnTo>
                        <a:pt x="1029" y="1210"/>
                      </a:lnTo>
                      <a:lnTo>
                        <a:pt x="1029" y="1208"/>
                      </a:lnTo>
                      <a:lnTo>
                        <a:pt x="1029" y="1205"/>
                      </a:lnTo>
                      <a:lnTo>
                        <a:pt x="1026" y="1187"/>
                      </a:lnTo>
                      <a:lnTo>
                        <a:pt x="1015" y="1146"/>
                      </a:lnTo>
                      <a:lnTo>
                        <a:pt x="1007" y="1105"/>
                      </a:lnTo>
                      <a:lnTo>
                        <a:pt x="1000" y="1062"/>
                      </a:lnTo>
                      <a:lnTo>
                        <a:pt x="999" y="1020"/>
                      </a:lnTo>
                      <a:lnTo>
                        <a:pt x="1003" y="1019"/>
                      </a:lnTo>
                      <a:lnTo>
                        <a:pt x="1008" y="1018"/>
                      </a:lnTo>
                      <a:lnTo>
                        <a:pt x="1012" y="1017"/>
                      </a:lnTo>
                      <a:lnTo>
                        <a:pt x="1017" y="1015"/>
                      </a:lnTo>
                      <a:lnTo>
                        <a:pt x="1021" y="1014"/>
                      </a:lnTo>
                      <a:lnTo>
                        <a:pt x="1026" y="1013"/>
                      </a:lnTo>
                      <a:lnTo>
                        <a:pt x="1030" y="1012"/>
                      </a:lnTo>
                      <a:lnTo>
                        <a:pt x="1034" y="1011"/>
                      </a:lnTo>
                      <a:lnTo>
                        <a:pt x="1089" y="981"/>
                      </a:lnTo>
                      <a:lnTo>
                        <a:pt x="1090" y="981"/>
                      </a:lnTo>
                      <a:lnTo>
                        <a:pt x="1090" y="980"/>
                      </a:lnTo>
                      <a:lnTo>
                        <a:pt x="1090" y="980"/>
                      </a:lnTo>
                      <a:lnTo>
                        <a:pt x="1091" y="980"/>
                      </a:lnTo>
                      <a:lnTo>
                        <a:pt x="1096" y="975"/>
                      </a:lnTo>
                      <a:lnTo>
                        <a:pt x="1098" y="967"/>
                      </a:lnTo>
                      <a:lnTo>
                        <a:pt x="1098" y="961"/>
                      </a:lnTo>
                      <a:lnTo>
                        <a:pt x="1094" y="954"/>
                      </a:lnTo>
                      <a:lnTo>
                        <a:pt x="1087" y="945"/>
                      </a:lnTo>
                      <a:lnTo>
                        <a:pt x="1084" y="933"/>
                      </a:lnTo>
                      <a:lnTo>
                        <a:pt x="1073" y="909"/>
                      </a:lnTo>
                      <a:lnTo>
                        <a:pt x="1063" y="885"/>
                      </a:lnTo>
                      <a:lnTo>
                        <a:pt x="1052" y="858"/>
                      </a:lnTo>
                      <a:lnTo>
                        <a:pt x="1040" y="832"/>
                      </a:lnTo>
                      <a:lnTo>
                        <a:pt x="1030" y="805"/>
                      </a:lnTo>
                      <a:lnTo>
                        <a:pt x="1018" y="776"/>
                      </a:lnTo>
                      <a:lnTo>
                        <a:pt x="1007" y="749"/>
                      </a:lnTo>
                      <a:lnTo>
                        <a:pt x="995" y="720"/>
                      </a:lnTo>
                      <a:lnTo>
                        <a:pt x="983" y="692"/>
                      </a:lnTo>
                      <a:lnTo>
                        <a:pt x="972" y="663"/>
                      </a:lnTo>
                      <a:lnTo>
                        <a:pt x="960" y="635"/>
                      </a:lnTo>
                      <a:lnTo>
                        <a:pt x="948" y="607"/>
                      </a:lnTo>
                      <a:lnTo>
                        <a:pt x="937" y="579"/>
                      </a:lnTo>
                      <a:lnTo>
                        <a:pt x="926" y="552"/>
                      </a:lnTo>
                      <a:lnTo>
                        <a:pt x="915" y="525"/>
                      </a:lnTo>
                      <a:lnTo>
                        <a:pt x="903" y="499"/>
                      </a:lnTo>
                      <a:lnTo>
                        <a:pt x="923" y="491"/>
                      </a:lnTo>
                      <a:lnTo>
                        <a:pt x="943" y="482"/>
                      </a:lnTo>
                      <a:lnTo>
                        <a:pt x="963" y="474"/>
                      </a:lnTo>
                      <a:lnTo>
                        <a:pt x="983" y="466"/>
                      </a:lnTo>
                      <a:lnTo>
                        <a:pt x="1003" y="459"/>
                      </a:lnTo>
                      <a:lnTo>
                        <a:pt x="1025" y="451"/>
                      </a:lnTo>
                      <a:lnTo>
                        <a:pt x="1045" y="444"/>
                      </a:lnTo>
                      <a:lnTo>
                        <a:pt x="1066" y="438"/>
                      </a:lnTo>
                      <a:lnTo>
                        <a:pt x="1078" y="433"/>
                      </a:lnTo>
                      <a:lnTo>
                        <a:pt x="1090" y="430"/>
                      </a:lnTo>
                      <a:lnTo>
                        <a:pt x="1102" y="426"/>
                      </a:lnTo>
                      <a:lnTo>
                        <a:pt x="1113" y="423"/>
                      </a:lnTo>
                      <a:lnTo>
                        <a:pt x="1126" y="418"/>
                      </a:lnTo>
                      <a:lnTo>
                        <a:pt x="1138" y="415"/>
                      </a:lnTo>
                      <a:lnTo>
                        <a:pt x="1151" y="412"/>
                      </a:lnTo>
                      <a:lnTo>
                        <a:pt x="1162" y="410"/>
                      </a:lnTo>
                      <a:lnTo>
                        <a:pt x="1175" y="407"/>
                      </a:lnTo>
                      <a:lnTo>
                        <a:pt x="1187" y="405"/>
                      </a:lnTo>
                      <a:lnTo>
                        <a:pt x="1199" y="404"/>
                      </a:lnTo>
                      <a:lnTo>
                        <a:pt x="1212" y="403"/>
                      </a:lnTo>
                      <a:lnTo>
                        <a:pt x="1224" y="403"/>
                      </a:lnTo>
                      <a:lnTo>
                        <a:pt x="1236" y="403"/>
                      </a:lnTo>
                      <a:lnTo>
                        <a:pt x="1248" y="403"/>
                      </a:lnTo>
                      <a:lnTo>
                        <a:pt x="1261" y="405"/>
                      </a:lnTo>
                      <a:lnTo>
                        <a:pt x="1263" y="409"/>
                      </a:lnTo>
                      <a:lnTo>
                        <a:pt x="1267" y="412"/>
                      </a:lnTo>
                      <a:lnTo>
                        <a:pt x="1271" y="414"/>
                      </a:lnTo>
                      <a:lnTo>
                        <a:pt x="1276" y="415"/>
                      </a:lnTo>
                      <a:lnTo>
                        <a:pt x="1289" y="415"/>
                      </a:lnTo>
                      <a:lnTo>
                        <a:pt x="1302" y="415"/>
                      </a:lnTo>
                      <a:lnTo>
                        <a:pt x="1315" y="415"/>
                      </a:lnTo>
                      <a:lnTo>
                        <a:pt x="1327" y="415"/>
                      </a:lnTo>
                      <a:lnTo>
                        <a:pt x="1339" y="415"/>
                      </a:lnTo>
                      <a:lnTo>
                        <a:pt x="1352" y="415"/>
                      </a:lnTo>
                      <a:lnTo>
                        <a:pt x="1364" y="415"/>
                      </a:lnTo>
                      <a:lnTo>
                        <a:pt x="1377" y="415"/>
                      </a:lnTo>
                      <a:lnTo>
                        <a:pt x="1383" y="414"/>
                      </a:lnTo>
                      <a:lnTo>
                        <a:pt x="1390" y="410"/>
                      </a:lnTo>
                      <a:lnTo>
                        <a:pt x="1394" y="405"/>
                      </a:lnTo>
                      <a:lnTo>
                        <a:pt x="1395" y="397"/>
                      </a:lnTo>
                      <a:lnTo>
                        <a:pt x="1394" y="391"/>
                      </a:lnTo>
                      <a:lnTo>
                        <a:pt x="1390" y="385"/>
                      </a:lnTo>
                      <a:lnTo>
                        <a:pt x="1383" y="380"/>
                      </a:lnTo>
                      <a:lnTo>
                        <a:pt x="1377" y="37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240280" y="3205440"/>
                  <a:ext cx="361800" cy="20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95440" y="2925360"/>
                  <a:ext cx="27360" cy="57960"/>
                </a:xfrm>
                <a:custGeom>
                  <a:avLst/>
                  <a:gdLst/>
                  <a:ahLst/>
                  <a:rect l="l" t="t" r="r" b="b"/>
                  <a:pathLst>
                    <a:path w="106" h="181">
                      <a:moveTo>
                        <a:pt x="106" y="164"/>
                      </a:moveTo>
                      <a:lnTo>
                        <a:pt x="98" y="169"/>
                      </a:lnTo>
                      <a:lnTo>
                        <a:pt x="91" y="172"/>
                      </a:lnTo>
                      <a:lnTo>
                        <a:pt x="83" y="176"/>
                      </a:lnTo>
                      <a:lnTo>
                        <a:pt x="75" y="179"/>
                      </a:lnTo>
                      <a:lnTo>
                        <a:pt x="66" y="181"/>
                      </a:lnTo>
                      <a:lnTo>
                        <a:pt x="65" y="180"/>
                      </a:lnTo>
                      <a:lnTo>
                        <a:pt x="61" y="175"/>
                      </a:lnTo>
                      <a:lnTo>
                        <a:pt x="53" y="157"/>
                      </a:lnTo>
                      <a:lnTo>
                        <a:pt x="46" y="140"/>
                      </a:lnTo>
                      <a:lnTo>
                        <a:pt x="38" y="122"/>
                      </a:lnTo>
                      <a:lnTo>
                        <a:pt x="31" y="103"/>
                      </a:lnTo>
                      <a:lnTo>
                        <a:pt x="23" y="85"/>
                      </a:lnTo>
                      <a:lnTo>
                        <a:pt x="16" y="67"/>
                      </a:lnTo>
                      <a:lnTo>
                        <a:pt x="9" y="50"/>
                      </a:lnTo>
                      <a:lnTo>
                        <a:pt x="0" y="32"/>
                      </a:lnTo>
                      <a:lnTo>
                        <a:pt x="5" y="29"/>
                      </a:lnTo>
                      <a:lnTo>
                        <a:pt x="10" y="25"/>
                      </a:lnTo>
                      <a:lnTo>
                        <a:pt x="15" y="21"/>
                      </a:lnTo>
                      <a:lnTo>
                        <a:pt x="19" y="17"/>
                      </a:lnTo>
                      <a:lnTo>
                        <a:pt x="23" y="13"/>
                      </a:lnTo>
                      <a:lnTo>
                        <a:pt x="27" y="9"/>
                      </a:lnTo>
                      <a:lnTo>
                        <a:pt x="31" y="5"/>
                      </a:lnTo>
                      <a:lnTo>
                        <a:pt x="35" y="0"/>
                      </a:lnTo>
                      <a:lnTo>
                        <a:pt x="43" y="19"/>
                      </a:lnTo>
                      <a:lnTo>
                        <a:pt x="52" y="38"/>
                      </a:lnTo>
                      <a:lnTo>
                        <a:pt x="60" y="59"/>
                      </a:lnTo>
                      <a:lnTo>
                        <a:pt x="70" y="79"/>
                      </a:lnTo>
                      <a:lnTo>
                        <a:pt x="78" y="100"/>
                      </a:lnTo>
                      <a:lnTo>
                        <a:pt x="88" y="121"/>
                      </a:lnTo>
                      <a:lnTo>
                        <a:pt x="96" y="142"/>
                      </a:lnTo>
                      <a:lnTo>
                        <a:pt x="106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344320" y="2933280"/>
                  <a:ext cx="56520" cy="39960"/>
                </a:xfrm>
                <a:custGeom>
                  <a:avLst/>
                  <a:gdLst/>
                  <a:ahLst/>
                  <a:rect l="l" t="t" r="r" b="b"/>
                  <a:pathLst>
                    <a:path w="218" h="12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37" y="11"/>
                      </a:lnTo>
                      <a:lnTo>
                        <a:pt x="57" y="16"/>
                      </a:lnTo>
                      <a:lnTo>
                        <a:pt x="76" y="20"/>
                      </a:lnTo>
                      <a:lnTo>
                        <a:pt x="95" y="23"/>
                      </a:lnTo>
                      <a:lnTo>
                        <a:pt x="115" y="25"/>
                      </a:lnTo>
                      <a:lnTo>
                        <a:pt x="134" y="27"/>
                      </a:lnTo>
                      <a:lnTo>
                        <a:pt x="152" y="28"/>
                      </a:lnTo>
                      <a:lnTo>
                        <a:pt x="159" y="26"/>
                      </a:lnTo>
                      <a:lnTo>
                        <a:pt x="167" y="23"/>
                      </a:lnTo>
                      <a:lnTo>
                        <a:pt x="175" y="20"/>
                      </a:lnTo>
                      <a:lnTo>
                        <a:pt x="182" y="17"/>
                      </a:lnTo>
                      <a:lnTo>
                        <a:pt x="186" y="27"/>
                      </a:lnTo>
                      <a:lnTo>
                        <a:pt x="192" y="38"/>
                      </a:lnTo>
                      <a:lnTo>
                        <a:pt x="196" y="48"/>
                      </a:lnTo>
                      <a:lnTo>
                        <a:pt x="200" y="59"/>
                      </a:lnTo>
                      <a:lnTo>
                        <a:pt x="206" y="70"/>
                      </a:lnTo>
                      <a:lnTo>
                        <a:pt x="210" y="81"/>
                      </a:lnTo>
                      <a:lnTo>
                        <a:pt x="214" y="92"/>
                      </a:lnTo>
                      <a:lnTo>
                        <a:pt x="218" y="102"/>
                      </a:lnTo>
                      <a:lnTo>
                        <a:pt x="204" y="104"/>
                      </a:lnTo>
                      <a:lnTo>
                        <a:pt x="191" y="107"/>
                      </a:lnTo>
                      <a:lnTo>
                        <a:pt x="178" y="109"/>
                      </a:lnTo>
                      <a:lnTo>
                        <a:pt x="164" y="111"/>
                      </a:lnTo>
                      <a:lnTo>
                        <a:pt x="150" y="113"/>
                      </a:lnTo>
                      <a:lnTo>
                        <a:pt x="137" y="114"/>
                      </a:lnTo>
                      <a:lnTo>
                        <a:pt x="123" y="116"/>
                      </a:lnTo>
                      <a:lnTo>
                        <a:pt x="109" y="117"/>
                      </a:lnTo>
                      <a:lnTo>
                        <a:pt x="95" y="118"/>
                      </a:lnTo>
                      <a:lnTo>
                        <a:pt x="83" y="119"/>
                      </a:lnTo>
                      <a:lnTo>
                        <a:pt x="69" y="120"/>
                      </a:lnTo>
                      <a:lnTo>
                        <a:pt x="55" y="121"/>
                      </a:lnTo>
                      <a:lnTo>
                        <a:pt x="41" y="123"/>
                      </a:lnTo>
                      <a:lnTo>
                        <a:pt x="28" y="123"/>
                      </a:lnTo>
                      <a:lnTo>
                        <a:pt x="14" y="124"/>
                      </a:lnTo>
                      <a:lnTo>
                        <a:pt x="0" y="125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315880" y="2818800"/>
                  <a:ext cx="95040" cy="110880"/>
                </a:xfrm>
                <a:custGeom>
                  <a:avLst/>
                  <a:gdLst/>
                  <a:ahLst/>
                  <a:rect l="l" t="t" r="r" b="b"/>
                  <a:pathLst>
                    <a:path w="366" h="346">
                      <a:moveTo>
                        <a:pt x="0" y="221"/>
                      </a:moveTo>
                      <a:lnTo>
                        <a:pt x="1" y="192"/>
                      </a:lnTo>
                      <a:lnTo>
                        <a:pt x="5" y="164"/>
                      </a:lnTo>
                      <a:lnTo>
                        <a:pt x="15" y="138"/>
                      </a:lnTo>
                      <a:lnTo>
                        <a:pt x="28" y="113"/>
                      </a:lnTo>
                      <a:lnTo>
                        <a:pt x="42" y="90"/>
                      </a:lnTo>
                      <a:lnTo>
                        <a:pt x="60" y="67"/>
                      </a:lnTo>
                      <a:lnTo>
                        <a:pt x="81" y="47"/>
                      </a:lnTo>
                      <a:lnTo>
                        <a:pt x="102" y="28"/>
                      </a:lnTo>
                      <a:lnTo>
                        <a:pt x="107" y="24"/>
                      </a:lnTo>
                      <a:lnTo>
                        <a:pt x="113" y="19"/>
                      </a:lnTo>
                      <a:lnTo>
                        <a:pt x="120" y="15"/>
                      </a:lnTo>
                      <a:lnTo>
                        <a:pt x="126" y="11"/>
                      </a:lnTo>
                      <a:lnTo>
                        <a:pt x="132" y="7"/>
                      </a:lnTo>
                      <a:lnTo>
                        <a:pt x="139" y="5"/>
                      </a:lnTo>
                      <a:lnTo>
                        <a:pt x="145" y="2"/>
                      </a:lnTo>
                      <a:lnTo>
                        <a:pt x="153" y="1"/>
                      </a:lnTo>
                      <a:lnTo>
                        <a:pt x="155" y="1"/>
                      </a:lnTo>
                      <a:lnTo>
                        <a:pt x="157" y="1"/>
                      </a:lnTo>
                      <a:lnTo>
                        <a:pt x="158" y="1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1"/>
                      </a:lnTo>
                      <a:lnTo>
                        <a:pt x="167" y="6"/>
                      </a:lnTo>
                      <a:lnTo>
                        <a:pt x="172" y="10"/>
                      </a:lnTo>
                      <a:lnTo>
                        <a:pt x="176" y="13"/>
                      </a:lnTo>
                      <a:lnTo>
                        <a:pt x="182" y="15"/>
                      </a:lnTo>
                      <a:lnTo>
                        <a:pt x="201" y="13"/>
                      </a:lnTo>
                      <a:lnTo>
                        <a:pt x="220" y="15"/>
                      </a:lnTo>
                      <a:lnTo>
                        <a:pt x="239" y="18"/>
                      </a:lnTo>
                      <a:lnTo>
                        <a:pt x="257" y="23"/>
                      </a:lnTo>
                      <a:lnTo>
                        <a:pt x="275" y="30"/>
                      </a:lnTo>
                      <a:lnTo>
                        <a:pt x="292" y="39"/>
                      </a:lnTo>
                      <a:lnTo>
                        <a:pt x="308" y="49"/>
                      </a:lnTo>
                      <a:lnTo>
                        <a:pt x="323" y="62"/>
                      </a:lnTo>
                      <a:lnTo>
                        <a:pt x="340" y="81"/>
                      </a:lnTo>
                      <a:lnTo>
                        <a:pt x="353" y="102"/>
                      </a:lnTo>
                      <a:lnTo>
                        <a:pt x="361" y="125"/>
                      </a:lnTo>
                      <a:lnTo>
                        <a:pt x="365" y="149"/>
                      </a:lnTo>
                      <a:lnTo>
                        <a:pt x="366" y="173"/>
                      </a:lnTo>
                      <a:lnTo>
                        <a:pt x="364" y="199"/>
                      </a:lnTo>
                      <a:lnTo>
                        <a:pt x="359" y="223"/>
                      </a:lnTo>
                      <a:lnTo>
                        <a:pt x="350" y="246"/>
                      </a:lnTo>
                      <a:lnTo>
                        <a:pt x="343" y="263"/>
                      </a:lnTo>
                      <a:lnTo>
                        <a:pt x="335" y="280"/>
                      </a:lnTo>
                      <a:lnTo>
                        <a:pt x="325" y="297"/>
                      </a:lnTo>
                      <a:lnTo>
                        <a:pt x="313" y="312"/>
                      </a:lnTo>
                      <a:lnTo>
                        <a:pt x="301" y="325"/>
                      </a:lnTo>
                      <a:lnTo>
                        <a:pt x="287" y="335"/>
                      </a:lnTo>
                      <a:lnTo>
                        <a:pt x="270" y="343"/>
                      </a:lnTo>
                      <a:lnTo>
                        <a:pt x="251" y="346"/>
                      </a:lnTo>
                      <a:lnTo>
                        <a:pt x="233" y="346"/>
                      </a:lnTo>
                      <a:lnTo>
                        <a:pt x="215" y="345"/>
                      </a:lnTo>
                      <a:lnTo>
                        <a:pt x="197" y="343"/>
                      </a:lnTo>
                      <a:lnTo>
                        <a:pt x="179" y="340"/>
                      </a:lnTo>
                      <a:lnTo>
                        <a:pt x="160" y="337"/>
                      </a:lnTo>
                      <a:lnTo>
                        <a:pt x="142" y="331"/>
                      </a:lnTo>
                      <a:lnTo>
                        <a:pt x="125" y="325"/>
                      </a:lnTo>
                      <a:lnTo>
                        <a:pt x="107" y="319"/>
                      </a:lnTo>
                      <a:lnTo>
                        <a:pt x="90" y="310"/>
                      </a:lnTo>
                      <a:lnTo>
                        <a:pt x="74" y="300"/>
                      </a:lnTo>
                      <a:lnTo>
                        <a:pt x="59" y="290"/>
                      </a:lnTo>
                      <a:lnTo>
                        <a:pt x="45" y="279"/>
                      </a:lnTo>
                      <a:lnTo>
                        <a:pt x="32" y="267"/>
                      </a:lnTo>
                      <a:lnTo>
                        <a:pt x="20" y="253"/>
                      </a:lnTo>
                      <a:lnTo>
                        <a:pt x="10" y="237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326320" y="2922840"/>
                  <a:ext cx="13680" cy="77400"/>
                </a:xfrm>
                <a:custGeom>
                  <a:avLst/>
                  <a:gdLst/>
                  <a:ahLst/>
                  <a:rect l="l" t="t" r="r" b="b"/>
                  <a:pathLst>
                    <a:path w="54" h="242">
                      <a:moveTo>
                        <a:pt x="54" y="25"/>
                      </a:moveTo>
                      <a:lnTo>
                        <a:pt x="53" y="26"/>
                      </a:lnTo>
                      <a:lnTo>
                        <a:pt x="52" y="28"/>
                      </a:lnTo>
                      <a:lnTo>
                        <a:pt x="51" y="30"/>
                      </a:lnTo>
                      <a:lnTo>
                        <a:pt x="51" y="32"/>
                      </a:lnTo>
                      <a:lnTo>
                        <a:pt x="51" y="64"/>
                      </a:lnTo>
                      <a:lnTo>
                        <a:pt x="51" y="96"/>
                      </a:lnTo>
                      <a:lnTo>
                        <a:pt x="51" y="128"/>
                      </a:lnTo>
                      <a:lnTo>
                        <a:pt x="51" y="161"/>
                      </a:lnTo>
                      <a:lnTo>
                        <a:pt x="50" y="163"/>
                      </a:lnTo>
                      <a:lnTo>
                        <a:pt x="50" y="166"/>
                      </a:lnTo>
                      <a:lnTo>
                        <a:pt x="50" y="168"/>
                      </a:lnTo>
                      <a:lnTo>
                        <a:pt x="51" y="170"/>
                      </a:lnTo>
                      <a:lnTo>
                        <a:pt x="51" y="200"/>
                      </a:lnTo>
                      <a:lnTo>
                        <a:pt x="51" y="222"/>
                      </a:lnTo>
                      <a:lnTo>
                        <a:pt x="51" y="236"/>
                      </a:lnTo>
                      <a:lnTo>
                        <a:pt x="51" y="241"/>
                      </a:lnTo>
                      <a:lnTo>
                        <a:pt x="49" y="242"/>
                      </a:lnTo>
                      <a:lnTo>
                        <a:pt x="43" y="242"/>
                      </a:lnTo>
                      <a:lnTo>
                        <a:pt x="37" y="242"/>
                      </a:lnTo>
                      <a:lnTo>
                        <a:pt x="31" y="242"/>
                      </a:lnTo>
                      <a:lnTo>
                        <a:pt x="25" y="242"/>
                      </a:lnTo>
                      <a:lnTo>
                        <a:pt x="18" y="242"/>
                      </a:lnTo>
                      <a:lnTo>
                        <a:pt x="12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1" y="180"/>
                      </a:lnTo>
                      <a:lnTo>
                        <a:pt x="1" y="117"/>
                      </a:lnTo>
                      <a:lnTo>
                        <a:pt x="3" y="57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7" y="7"/>
                      </a:lnTo>
                      <a:lnTo>
                        <a:pt x="23" y="10"/>
                      </a:lnTo>
                      <a:lnTo>
                        <a:pt x="29" y="14"/>
                      </a:lnTo>
                      <a:lnTo>
                        <a:pt x="35" y="17"/>
                      </a:lnTo>
                      <a:lnTo>
                        <a:pt x="42" y="20"/>
                      </a:lnTo>
                      <a:lnTo>
                        <a:pt x="48" y="22"/>
                      </a:lnTo>
                      <a:lnTo>
                        <a:pt x="5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358000" y="3305880"/>
                  <a:ext cx="20160" cy="15120"/>
                </a:xfrm>
                <a:custGeom>
                  <a:avLst/>
                  <a:gdLst/>
                  <a:ahLst/>
                  <a:rect l="l" t="t" r="r" b="b"/>
                  <a:pathLst>
                    <a:path w="78" h="47">
                      <a:moveTo>
                        <a:pt x="73" y="8"/>
                      </a:moveTo>
                      <a:lnTo>
                        <a:pt x="76" y="17"/>
                      </a:lnTo>
                      <a:lnTo>
                        <a:pt x="78" y="24"/>
                      </a:lnTo>
                      <a:lnTo>
                        <a:pt x="78" y="31"/>
                      </a:lnTo>
                      <a:lnTo>
                        <a:pt x="75" y="39"/>
                      </a:lnTo>
                      <a:lnTo>
                        <a:pt x="71" y="43"/>
                      </a:lnTo>
                      <a:lnTo>
                        <a:pt x="66" y="46"/>
                      </a:lnTo>
                      <a:lnTo>
                        <a:pt x="59" y="47"/>
                      </a:lnTo>
                      <a:lnTo>
                        <a:pt x="53" y="46"/>
                      </a:lnTo>
                      <a:lnTo>
                        <a:pt x="46" y="45"/>
                      </a:lnTo>
                      <a:lnTo>
                        <a:pt x="39" y="43"/>
                      </a:lnTo>
                      <a:lnTo>
                        <a:pt x="32" y="41"/>
                      </a:lnTo>
                      <a:lnTo>
                        <a:pt x="26" y="40"/>
                      </a:lnTo>
                      <a:lnTo>
                        <a:pt x="15" y="28"/>
                      </a:lnTo>
                      <a:lnTo>
                        <a:pt x="17" y="38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7" y="12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8" y="7"/>
                      </a:lnTo>
                      <a:lnTo>
                        <a:pt x="46" y="5"/>
                      </a:lnTo>
                      <a:lnTo>
                        <a:pt x="52" y="4"/>
                      </a:lnTo>
                      <a:lnTo>
                        <a:pt x="59" y="3"/>
                      </a:lnTo>
                      <a:lnTo>
                        <a:pt x="66" y="1"/>
                      </a:lnTo>
                      <a:lnTo>
                        <a:pt x="73" y="0"/>
                      </a:lnTo>
                      <a:lnTo>
                        <a:pt x="72" y="2"/>
                      </a:lnTo>
                      <a:lnTo>
                        <a:pt x="72" y="4"/>
                      </a:lnTo>
                      <a:lnTo>
                        <a:pt x="72" y="6"/>
                      </a:lnTo>
                      <a:lnTo>
                        <a:pt x="7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77880" y="3254760"/>
                  <a:ext cx="15840" cy="16200"/>
                </a:xfrm>
                <a:custGeom>
                  <a:avLst/>
                  <a:gdLst/>
                  <a:ahLst/>
                  <a:rect l="l" t="t" r="r" b="b"/>
                  <a:pathLst>
                    <a:path w="61" h="51">
                      <a:moveTo>
                        <a:pt x="48" y="4"/>
                      </a:moveTo>
                      <a:lnTo>
                        <a:pt x="53" y="6"/>
                      </a:lnTo>
                      <a:lnTo>
                        <a:pt x="58" y="10"/>
                      </a:lnTo>
                      <a:lnTo>
                        <a:pt x="61" y="17"/>
                      </a:lnTo>
                      <a:lnTo>
                        <a:pt x="61" y="27"/>
                      </a:lnTo>
                      <a:lnTo>
                        <a:pt x="52" y="46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31" y="51"/>
                      </a:lnTo>
                      <a:lnTo>
                        <a:pt x="25" y="49"/>
                      </a:lnTo>
                      <a:lnTo>
                        <a:pt x="18" y="47"/>
                      </a:lnTo>
                      <a:lnTo>
                        <a:pt x="13" y="43"/>
                      </a:lnTo>
                      <a:lnTo>
                        <a:pt x="9" y="39"/>
                      </a:lnTo>
                      <a:lnTo>
                        <a:pt x="5" y="34"/>
                      </a:lnTo>
                      <a:lnTo>
                        <a:pt x="3" y="27"/>
                      </a:lnTo>
                      <a:lnTo>
                        <a:pt x="0" y="20"/>
                      </a:lnTo>
                      <a:lnTo>
                        <a:pt x="6" y="18"/>
                      </a:lnTo>
                      <a:lnTo>
                        <a:pt x="11" y="15"/>
                      </a:lnTo>
                      <a:lnTo>
                        <a:pt x="16" y="12"/>
                      </a:lnTo>
                      <a:lnTo>
                        <a:pt x="22" y="10"/>
                      </a:lnTo>
                      <a:lnTo>
                        <a:pt x="27" y="8"/>
                      </a:lnTo>
                      <a:lnTo>
                        <a:pt x="32" y="5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4" y="1"/>
                      </a:lnTo>
                      <a:lnTo>
                        <a:pt x="45" y="2"/>
                      </a:lnTo>
                      <a:lnTo>
                        <a:pt x="47" y="3"/>
                      </a:lnTo>
                      <a:lnTo>
                        <a:pt x="4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358360" y="3240000"/>
                  <a:ext cx="41400" cy="19080"/>
                </a:xfrm>
                <a:custGeom>
                  <a:avLst/>
                  <a:gdLst/>
                  <a:ahLst/>
                  <a:rect l="l" t="t" r="r" b="b"/>
                  <a:pathLst>
                    <a:path w="160" h="60">
                      <a:moveTo>
                        <a:pt x="157" y="60"/>
                      </a:moveTo>
                      <a:lnTo>
                        <a:pt x="138" y="60"/>
                      </a:lnTo>
                      <a:lnTo>
                        <a:pt x="119" y="57"/>
                      </a:lnTo>
                      <a:lnTo>
                        <a:pt x="101" y="53"/>
                      </a:lnTo>
                      <a:lnTo>
                        <a:pt x="82" y="48"/>
                      </a:lnTo>
                      <a:lnTo>
                        <a:pt x="65" y="40"/>
                      </a:lnTo>
                      <a:lnTo>
                        <a:pt x="47" y="33"/>
                      </a:lnTo>
                      <a:lnTo>
                        <a:pt x="30" y="24"/>
                      </a:lnTo>
                      <a:lnTo>
                        <a:pt x="13" y="16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40" y="13"/>
                      </a:lnTo>
                      <a:lnTo>
                        <a:pt x="61" y="18"/>
                      </a:lnTo>
                      <a:lnTo>
                        <a:pt x="81" y="24"/>
                      </a:lnTo>
                      <a:lnTo>
                        <a:pt x="100" y="30"/>
                      </a:lnTo>
                      <a:lnTo>
                        <a:pt x="120" y="36"/>
                      </a:lnTo>
                      <a:lnTo>
                        <a:pt x="140" y="41"/>
                      </a:lnTo>
                      <a:lnTo>
                        <a:pt x="160" y="48"/>
                      </a:lnTo>
                      <a:lnTo>
                        <a:pt x="159" y="51"/>
                      </a:lnTo>
                      <a:lnTo>
                        <a:pt x="159" y="54"/>
                      </a:lnTo>
                      <a:lnTo>
                        <a:pt x="158" y="57"/>
                      </a:lnTo>
                      <a:lnTo>
                        <a:pt x="157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425680" y="3210120"/>
                  <a:ext cx="26640" cy="18000"/>
                </a:xfrm>
                <a:custGeom>
                  <a:avLst/>
                  <a:gdLst/>
                  <a:ahLst/>
                  <a:rect l="l" t="t" r="r" b="b"/>
                  <a:pathLst>
                    <a:path w="103" h="57">
                      <a:moveTo>
                        <a:pt x="94" y="56"/>
                      </a:moveTo>
                      <a:lnTo>
                        <a:pt x="93" y="57"/>
                      </a:lnTo>
                      <a:lnTo>
                        <a:pt x="83" y="55"/>
                      </a:lnTo>
                      <a:lnTo>
                        <a:pt x="73" y="54"/>
                      </a:lnTo>
                      <a:lnTo>
                        <a:pt x="64" y="53"/>
                      </a:lnTo>
                      <a:lnTo>
                        <a:pt x="54" y="50"/>
                      </a:lnTo>
                      <a:lnTo>
                        <a:pt x="45" y="48"/>
                      </a:lnTo>
                      <a:lnTo>
                        <a:pt x="34" y="44"/>
                      </a:lnTo>
                      <a:lnTo>
                        <a:pt x="25" y="42"/>
                      </a:lnTo>
                      <a:lnTo>
                        <a:pt x="15" y="39"/>
                      </a:lnTo>
                      <a:lnTo>
                        <a:pt x="6" y="37"/>
                      </a:lnTo>
                      <a:lnTo>
                        <a:pt x="3" y="35"/>
                      </a:lnTo>
                      <a:lnTo>
                        <a:pt x="0" y="24"/>
                      </a:lnTo>
                      <a:lnTo>
                        <a:pt x="3" y="16"/>
                      </a:lnTo>
                      <a:lnTo>
                        <a:pt x="7" y="7"/>
                      </a:lnTo>
                      <a:lnTo>
                        <a:pt x="12" y="0"/>
                      </a:lnTo>
                      <a:lnTo>
                        <a:pt x="24" y="4"/>
                      </a:lnTo>
                      <a:lnTo>
                        <a:pt x="35" y="8"/>
                      </a:lnTo>
                      <a:lnTo>
                        <a:pt x="46" y="14"/>
                      </a:lnTo>
                      <a:lnTo>
                        <a:pt x="58" y="19"/>
                      </a:lnTo>
                      <a:lnTo>
                        <a:pt x="69" y="23"/>
                      </a:lnTo>
                      <a:lnTo>
                        <a:pt x="80" y="28"/>
                      </a:lnTo>
                      <a:lnTo>
                        <a:pt x="91" y="34"/>
                      </a:lnTo>
                      <a:lnTo>
                        <a:pt x="103" y="38"/>
                      </a:lnTo>
                      <a:lnTo>
                        <a:pt x="101" y="42"/>
                      </a:lnTo>
                      <a:lnTo>
                        <a:pt x="99" y="46"/>
                      </a:lnTo>
                      <a:lnTo>
                        <a:pt x="96" y="52"/>
                      </a:lnTo>
                      <a:lnTo>
                        <a:pt x="94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362680" y="3106080"/>
                  <a:ext cx="79200" cy="9684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305" y="172"/>
                      </a:moveTo>
                      <a:lnTo>
                        <a:pt x="296" y="180"/>
                      </a:lnTo>
                      <a:lnTo>
                        <a:pt x="288" y="187"/>
                      </a:lnTo>
                      <a:lnTo>
                        <a:pt x="282" y="196"/>
                      </a:lnTo>
                      <a:lnTo>
                        <a:pt x="274" y="204"/>
                      </a:lnTo>
                      <a:lnTo>
                        <a:pt x="269" y="214"/>
                      </a:lnTo>
                      <a:lnTo>
                        <a:pt x="263" y="223"/>
                      </a:lnTo>
                      <a:lnTo>
                        <a:pt x="258" y="233"/>
                      </a:lnTo>
                      <a:lnTo>
                        <a:pt x="253" y="243"/>
                      </a:lnTo>
                      <a:lnTo>
                        <a:pt x="238" y="247"/>
                      </a:lnTo>
                      <a:lnTo>
                        <a:pt x="222" y="250"/>
                      </a:lnTo>
                      <a:lnTo>
                        <a:pt x="207" y="254"/>
                      </a:lnTo>
                      <a:lnTo>
                        <a:pt x="192" y="257"/>
                      </a:lnTo>
                      <a:lnTo>
                        <a:pt x="177" y="260"/>
                      </a:lnTo>
                      <a:lnTo>
                        <a:pt x="162" y="265"/>
                      </a:lnTo>
                      <a:lnTo>
                        <a:pt x="147" y="268"/>
                      </a:lnTo>
                      <a:lnTo>
                        <a:pt x="131" y="272"/>
                      </a:lnTo>
                      <a:lnTo>
                        <a:pt x="116" y="275"/>
                      </a:lnTo>
                      <a:lnTo>
                        <a:pt x="102" y="279"/>
                      </a:lnTo>
                      <a:lnTo>
                        <a:pt x="87" y="284"/>
                      </a:lnTo>
                      <a:lnTo>
                        <a:pt x="72" y="287"/>
                      </a:lnTo>
                      <a:lnTo>
                        <a:pt x="57" y="291"/>
                      </a:lnTo>
                      <a:lnTo>
                        <a:pt x="42" y="295"/>
                      </a:lnTo>
                      <a:lnTo>
                        <a:pt x="28" y="298"/>
                      </a:lnTo>
                      <a:lnTo>
                        <a:pt x="13" y="303"/>
                      </a:lnTo>
                      <a:lnTo>
                        <a:pt x="16" y="294"/>
                      </a:lnTo>
                      <a:lnTo>
                        <a:pt x="19" y="287"/>
                      </a:lnTo>
                      <a:lnTo>
                        <a:pt x="21" y="278"/>
                      </a:lnTo>
                      <a:lnTo>
                        <a:pt x="23" y="270"/>
                      </a:lnTo>
                      <a:lnTo>
                        <a:pt x="27" y="244"/>
                      </a:lnTo>
                      <a:lnTo>
                        <a:pt x="27" y="220"/>
                      </a:lnTo>
                      <a:lnTo>
                        <a:pt x="24" y="195"/>
                      </a:lnTo>
                      <a:lnTo>
                        <a:pt x="20" y="170"/>
                      </a:lnTo>
                      <a:lnTo>
                        <a:pt x="15" y="146"/>
                      </a:lnTo>
                      <a:lnTo>
                        <a:pt x="10" y="122"/>
                      </a:lnTo>
                      <a:lnTo>
                        <a:pt x="4" y="97"/>
                      </a:lnTo>
                      <a:lnTo>
                        <a:pt x="0" y="73"/>
                      </a:lnTo>
                      <a:lnTo>
                        <a:pt x="18" y="70"/>
                      </a:lnTo>
                      <a:lnTo>
                        <a:pt x="35" y="66"/>
                      </a:lnTo>
                      <a:lnTo>
                        <a:pt x="53" y="63"/>
                      </a:lnTo>
                      <a:lnTo>
                        <a:pt x="70" y="60"/>
                      </a:lnTo>
                      <a:lnTo>
                        <a:pt x="87" y="56"/>
                      </a:lnTo>
                      <a:lnTo>
                        <a:pt x="105" y="52"/>
                      </a:lnTo>
                      <a:lnTo>
                        <a:pt x="122" y="46"/>
                      </a:lnTo>
                      <a:lnTo>
                        <a:pt x="139" y="42"/>
                      </a:lnTo>
                      <a:lnTo>
                        <a:pt x="156" y="37"/>
                      </a:lnTo>
                      <a:lnTo>
                        <a:pt x="173" y="32"/>
                      </a:lnTo>
                      <a:lnTo>
                        <a:pt x="191" y="26"/>
                      </a:lnTo>
                      <a:lnTo>
                        <a:pt x="207" y="21"/>
                      </a:lnTo>
                      <a:lnTo>
                        <a:pt x="224" y="16"/>
                      </a:lnTo>
                      <a:lnTo>
                        <a:pt x="241" y="10"/>
                      </a:lnTo>
                      <a:lnTo>
                        <a:pt x="258" y="5"/>
                      </a:lnTo>
                      <a:lnTo>
                        <a:pt x="275" y="0"/>
                      </a:lnTo>
                      <a:lnTo>
                        <a:pt x="277" y="43"/>
                      </a:lnTo>
                      <a:lnTo>
                        <a:pt x="285" y="87"/>
                      </a:lnTo>
                      <a:lnTo>
                        <a:pt x="294" y="129"/>
                      </a:lnTo>
                      <a:lnTo>
                        <a:pt x="305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320560" y="2971080"/>
                  <a:ext cx="136800" cy="150120"/>
                </a:xfrm>
                <a:custGeom>
                  <a:avLst/>
                  <a:gdLst/>
                  <a:ahLst/>
                  <a:rect l="l" t="t" r="r" b="b"/>
                  <a:pathLst>
                    <a:path w="527" h="468">
                      <a:moveTo>
                        <a:pt x="526" y="349"/>
                      </a:moveTo>
                      <a:lnTo>
                        <a:pt x="526" y="349"/>
                      </a:lnTo>
                      <a:lnTo>
                        <a:pt x="527" y="349"/>
                      </a:lnTo>
                      <a:lnTo>
                        <a:pt x="527" y="350"/>
                      </a:lnTo>
                      <a:lnTo>
                        <a:pt x="527" y="350"/>
                      </a:lnTo>
                      <a:lnTo>
                        <a:pt x="520" y="355"/>
                      </a:lnTo>
                      <a:lnTo>
                        <a:pt x="512" y="357"/>
                      </a:lnTo>
                      <a:lnTo>
                        <a:pt x="505" y="359"/>
                      </a:lnTo>
                      <a:lnTo>
                        <a:pt x="499" y="363"/>
                      </a:lnTo>
                      <a:lnTo>
                        <a:pt x="491" y="365"/>
                      </a:lnTo>
                      <a:lnTo>
                        <a:pt x="484" y="367"/>
                      </a:lnTo>
                      <a:lnTo>
                        <a:pt x="476" y="369"/>
                      </a:lnTo>
                      <a:lnTo>
                        <a:pt x="469" y="372"/>
                      </a:lnTo>
                      <a:lnTo>
                        <a:pt x="462" y="374"/>
                      </a:lnTo>
                      <a:lnTo>
                        <a:pt x="460" y="373"/>
                      </a:lnTo>
                      <a:lnTo>
                        <a:pt x="458" y="373"/>
                      </a:lnTo>
                      <a:lnTo>
                        <a:pt x="456" y="372"/>
                      </a:lnTo>
                      <a:lnTo>
                        <a:pt x="454" y="372"/>
                      </a:lnTo>
                      <a:lnTo>
                        <a:pt x="450" y="373"/>
                      </a:lnTo>
                      <a:lnTo>
                        <a:pt x="445" y="375"/>
                      </a:lnTo>
                      <a:lnTo>
                        <a:pt x="442" y="377"/>
                      </a:lnTo>
                      <a:lnTo>
                        <a:pt x="438" y="382"/>
                      </a:lnTo>
                      <a:lnTo>
                        <a:pt x="414" y="390"/>
                      </a:lnTo>
                      <a:lnTo>
                        <a:pt x="390" y="399"/>
                      </a:lnTo>
                      <a:lnTo>
                        <a:pt x="365" y="406"/>
                      </a:lnTo>
                      <a:lnTo>
                        <a:pt x="341" y="414"/>
                      </a:lnTo>
                      <a:lnTo>
                        <a:pt x="317" y="422"/>
                      </a:lnTo>
                      <a:lnTo>
                        <a:pt x="291" y="429"/>
                      </a:lnTo>
                      <a:lnTo>
                        <a:pt x="267" y="436"/>
                      </a:lnTo>
                      <a:lnTo>
                        <a:pt x="243" y="442"/>
                      </a:lnTo>
                      <a:lnTo>
                        <a:pt x="217" y="447"/>
                      </a:lnTo>
                      <a:lnTo>
                        <a:pt x="192" y="451"/>
                      </a:lnTo>
                      <a:lnTo>
                        <a:pt x="166" y="456"/>
                      </a:lnTo>
                      <a:lnTo>
                        <a:pt x="142" y="459"/>
                      </a:lnTo>
                      <a:lnTo>
                        <a:pt x="117" y="461"/>
                      </a:lnTo>
                      <a:lnTo>
                        <a:pt x="91" y="462"/>
                      </a:lnTo>
                      <a:lnTo>
                        <a:pt x="65" y="462"/>
                      </a:lnTo>
                      <a:lnTo>
                        <a:pt x="39" y="461"/>
                      </a:lnTo>
                      <a:lnTo>
                        <a:pt x="34" y="461"/>
                      </a:lnTo>
                      <a:lnTo>
                        <a:pt x="30" y="461"/>
                      </a:lnTo>
                      <a:lnTo>
                        <a:pt x="25" y="462"/>
                      </a:lnTo>
                      <a:lnTo>
                        <a:pt x="20" y="463"/>
                      </a:lnTo>
                      <a:lnTo>
                        <a:pt x="15" y="465"/>
                      </a:lnTo>
                      <a:lnTo>
                        <a:pt x="10" y="466"/>
                      </a:lnTo>
                      <a:lnTo>
                        <a:pt x="5" y="467"/>
                      </a:lnTo>
                      <a:lnTo>
                        <a:pt x="0" y="468"/>
                      </a:lnTo>
                      <a:lnTo>
                        <a:pt x="3" y="399"/>
                      </a:lnTo>
                      <a:lnTo>
                        <a:pt x="8" y="329"/>
                      </a:lnTo>
                      <a:lnTo>
                        <a:pt x="11" y="259"/>
                      </a:lnTo>
                      <a:lnTo>
                        <a:pt x="11" y="188"/>
                      </a:lnTo>
                      <a:lnTo>
                        <a:pt x="15" y="170"/>
                      </a:lnTo>
                      <a:lnTo>
                        <a:pt x="18" y="151"/>
                      </a:lnTo>
                      <a:lnTo>
                        <a:pt x="20" y="131"/>
                      </a:lnTo>
                      <a:lnTo>
                        <a:pt x="21" y="110"/>
                      </a:lnTo>
                      <a:lnTo>
                        <a:pt x="26" y="110"/>
                      </a:lnTo>
                      <a:lnTo>
                        <a:pt x="30" y="110"/>
                      </a:lnTo>
                      <a:lnTo>
                        <a:pt x="34" y="110"/>
                      </a:lnTo>
                      <a:lnTo>
                        <a:pt x="38" y="110"/>
                      </a:lnTo>
                      <a:lnTo>
                        <a:pt x="43" y="110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5" y="110"/>
                      </a:lnTo>
                      <a:lnTo>
                        <a:pt x="85" y="106"/>
                      </a:lnTo>
                      <a:lnTo>
                        <a:pt x="87" y="105"/>
                      </a:lnTo>
                      <a:lnTo>
                        <a:pt x="89" y="103"/>
                      </a:lnTo>
                      <a:lnTo>
                        <a:pt x="90" y="101"/>
                      </a:lnTo>
                      <a:lnTo>
                        <a:pt x="91" y="98"/>
                      </a:lnTo>
                      <a:lnTo>
                        <a:pt x="91" y="92"/>
                      </a:lnTo>
                      <a:lnTo>
                        <a:pt x="91" y="77"/>
                      </a:lnTo>
                      <a:lnTo>
                        <a:pt x="91" y="53"/>
                      </a:lnTo>
                      <a:lnTo>
                        <a:pt x="91" y="25"/>
                      </a:lnTo>
                      <a:lnTo>
                        <a:pt x="105" y="24"/>
                      </a:lnTo>
                      <a:lnTo>
                        <a:pt x="119" y="24"/>
                      </a:lnTo>
                      <a:lnTo>
                        <a:pt x="132" y="23"/>
                      </a:lnTo>
                      <a:lnTo>
                        <a:pt x="146" y="21"/>
                      </a:lnTo>
                      <a:lnTo>
                        <a:pt x="160" y="20"/>
                      </a:lnTo>
                      <a:lnTo>
                        <a:pt x="174" y="19"/>
                      </a:lnTo>
                      <a:lnTo>
                        <a:pt x="188" y="18"/>
                      </a:lnTo>
                      <a:lnTo>
                        <a:pt x="201" y="17"/>
                      </a:lnTo>
                      <a:lnTo>
                        <a:pt x="215" y="16"/>
                      </a:lnTo>
                      <a:lnTo>
                        <a:pt x="229" y="15"/>
                      </a:lnTo>
                      <a:lnTo>
                        <a:pt x="243" y="13"/>
                      </a:lnTo>
                      <a:lnTo>
                        <a:pt x="256" y="12"/>
                      </a:lnTo>
                      <a:lnTo>
                        <a:pt x="270" y="10"/>
                      </a:lnTo>
                      <a:lnTo>
                        <a:pt x="284" y="8"/>
                      </a:lnTo>
                      <a:lnTo>
                        <a:pt x="298" y="5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0"/>
                      </a:lnTo>
                      <a:lnTo>
                        <a:pt x="321" y="11"/>
                      </a:lnTo>
                      <a:lnTo>
                        <a:pt x="325" y="23"/>
                      </a:lnTo>
                      <a:lnTo>
                        <a:pt x="330" y="33"/>
                      </a:lnTo>
                      <a:lnTo>
                        <a:pt x="336" y="44"/>
                      </a:lnTo>
                      <a:lnTo>
                        <a:pt x="338" y="48"/>
                      </a:lnTo>
                      <a:lnTo>
                        <a:pt x="339" y="50"/>
                      </a:lnTo>
                      <a:lnTo>
                        <a:pt x="340" y="51"/>
                      </a:lnTo>
                      <a:lnTo>
                        <a:pt x="341" y="52"/>
                      </a:lnTo>
                      <a:lnTo>
                        <a:pt x="343" y="53"/>
                      </a:lnTo>
                      <a:lnTo>
                        <a:pt x="352" y="55"/>
                      </a:lnTo>
                      <a:lnTo>
                        <a:pt x="353" y="56"/>
                      </a:lnTo>
                      <a:lnTo>
                        <a:pt x="354" y="56"/>
                      </a:lnTo>
                      <a:lnTo>
                        <a:pt x="355" y="56"/>
                      </a:lnTo>
                      <a:lnTo>
                        <a:pt x="356" y="56"/>
                      </a:lnTo>
                      <a:lnTo>
                        <a:pt x="362" y="54"/>
                      </a:lnTo>
                      <a:lnTo>
                        <a:pt x="367" y="53"/>
                      </a:lnTo>
                      <a:lnTo>
                        <a:pt x="373" y="51"/>
                      </a:lnTo>
                      <a:lnTo>
                        <a:pt x="377" y="50"/>
                      </a:lnTo>
                      <a:lnTo>
                        <a:pt x="382" y="48"/>
                      </a:lnTo>
                      <a:lnTo>
                        <a:pt x="386" y="46"/>
                      </a:lnTo>
                      <a:lnTo>
                        <a:pt x="392" y="44"/>
                      </a:lnTo>
                      <a:lnTo>
                        <a:pt x="396" y="42"/>
                      </a:lnTo>
                      <a:lnTo>
                        <a:pt x="400" y="38"/>
                      </a:lnTo>
                      <a:lnTo>
                        <a:pt x="416" y="78"/>
                      </a:lnTo>
                      <a:lnTo>
                        <a:pt x="433" y="117"/>
                      </a:lnTo>
                      <a:lnTo>
                        <a:pt x="448" y="156"/>
                      </a:lnTo>
                      <a:lnTo>
                        <a:pt x="464" y="194"/>
                      </a:lnTo>
                      <a:lnTo>
                        <a:pt x="480" y="231"/>
                      </a:lnTo>
                      <a:lnTo>
                        <a:pt x="494" y="267"/>
                      </a:lnTo>
                      <a:lnTo>
                        <a:pt x="509" y="302"/>
                      </a:lnTo>
                      <a:lnTo>
                        <a:pt x="523" y="335"/>
                      </a:lnTo>
                      <a:lnTo>
                        <a:pt x="526" y="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327760" y="2872800"/>
                  <a:ext cx="62640" cy="30960"/>
                </a:xfrm>
                <a:custGeom>
                  <a:avLst/>
                  <a:gdLst/>
                  <a:ahLst/>
                  <a:rect l="l" t="t" r="r" b="b"/>
                  <a:pathLst>
                    <a:path w="241" h="97">
                      <a:moveTo>
                        <a:pt x="235" y="92"/>
                      </a:moveTo>
                      <a:lnTo>
                        <a:pt x="238" y="91"/>
                      </a:lnTo>
                      <a:lnTo>
                        <a:pt x="240" y="88"/>
                      </a:lnTo>
                      <a:lnTo>
                        <a:pt x="241" y="85"/>
                      </a:lnTo>
                      <a:lnTo>
                        <a:pt x="241" y="82"/>
                      </a:lnTo>
                      <a:lnTo>
                        <a:pt x="239" y="79"/>
                      </a:lnTo>
                      <a:lnTo>
                        <a:pt x="236" y="76"/>
                      </a:lnTo>
                      <a:lnTo>
                        <a:pt x="233" y="75"/>
                      </a:lnTo>
                      <a:lnTo>
                        <a:pt x="229" y="75"/>
                      </a:lnTo>
                      <a:lnTo>
                        <a:pt x="215" y="77"/>
                      </a:lnTo>
                      <a:lnTo>
                        <a:pt x="200" y="79"/>
                      </a:lnTo>
                      <a:lnTo>
                        <a:pt x="185" y="79"/>
                      </a:lnTo>
                      <a:lnTo>
                        <a:pt x="170" y="79"/>
                      </a:lnTo>
                      <a:lnTo>
                        <a:pt x="155" y="77"/>
                      </a:lnTo>
                      <a:lnTo>
                        <a:pt x="140" y="75"/>
                      </a:lnTo>
                      <a:lnTo>
                        <a:pt x="126" y="72"/>
                      </a:lnTo>
                      <a:lnTo>
                        <a:pt x="112" y="69"/>
                      </a:lnTo>
                      <a:lnTo>
                        <a:pt x="98" y="64"/>
                      </a:lnTo>
                      <a:lnTo>
                        <a:pt x="84" y="58"/>
                      </a:lnTo>
                      <a:lnTo>
                        <a:pt x="71" y="52"/>
                      </a:lnTo>
                      <a:lnTo>
                        <a:pt x="58" y="44"/>
                      </a:lnTo>
                      <a:lnTo>
                        <a:pt x="46" y="35"/>
                      </a:lnTo>
                      <a:lnTo>
                        <a:pt x="36" y="26"/>
                      </a:lnTo>
                      <a:lnTo>
                        <a:pt x="25" y="15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12" y="28"/>
                      </a:lnTo>
                      <a:lnTo>
                        <a:pt x="23" y="39"/>
                      </a:lnTo>
                      <a:lnTo>
                        <a:pt x="36" y="50"/>
                      </a:lnTo>
                      <a:lnTo>
                        <a:pt x="48" y="59"/>
                      </a:lnTo>
                      <a:lnTo>
                        <a:pt x="62" y="67"/>
                      </a:lnTo>
                      <a:lnTo>
                        <a:pt x="77" y="74"/>
                      </a:lnTo>
                      <a:lnTo>
                        <a:pt x="92" y="81"/>
                      </a:lnTo>
                      <a:lnTo>
                        <a:pt x="107" y="86"/>
                      </a:lnTo>
                      <a:lnTo>
                        <a:pt x="122" y="90"/>
                      </a:lnTo>
                      <a:lnTo>
                        <a:pt x="138" y="93"/>
                      </a:lnTo>
                      <a:lnTo>
                        <a:pt x="154" y="95"/>
                      </a:lnTo>
                      <a:lnTo>
                        <a:pt x="171" y="97"/>
                      </a:lnTo>
                      <a:lnTo>
                        <a:pt x="187" y="97"/>
                      </a:lnTo>
                      <a:lnTo>
                        <a:pt x="203" y="97"/>
                      </a:lnTo>
                      <a:lnTo>
                        <a:pt x="219" y="94"/>
                      </a:lnTo>
                      <a:lnTo>
                        <a:pt x="235" y="92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352240" y="3025440"/>
                  <a:ext cx="61560" cy="52920"/>
                </a:xfrm>
                <a:custGeom>
                  <a:avLst/>
                  <a:gdLst/>
                  <a:ahLst/>
                  <a:rect l="l" t="t" r="r" b="b"/>
                  <a:pathLst>
                    <a:path w="238" h="166">
                      <a:moveTo>
                        <a:pt x="234" y="98"/>
                      </a:moveTo>
                      <a:lnTo>
                        <a:pt x="230" y="88"/>
                      </a:lnTo>
                      <a:lnTo>
                        <a:pt x="225" y="78"/>
                      </a:lnTo>
                      <a:lnTo>
                        <a:pt x="221" y="69"/>
                      </a:lnTo>
                      <a:lnTo>
                        <a:pt x="216" y="58"/>
                      </a:lnTo>
                      <a:lnTo>
                        <a:pt x="211" y="48"/>
                      </a:lnTo>
                      <a:lnTo>
                        <a:pt x="206" y="39"/>
                      </a:lnTo>
                      <a:lnTo>
                        <a:pt x="203" y="28"/>
                      </a:lnTo>
                      <a:lnTo>
                        <a:pt x="200" y="18"/>
                      </a:lnTo>
                      <a:lnTo>
                        <a:pt x="198" y="7"/>
                      </a:lnTo>
                      <a:lnTo>
                        <a:pt x="197" y="5"/>
                      </a:lnTo>
                      <a:lnTo>
                        <a:pt x="195" y="3"/>
                      </a:lnTo>
                      <a:lnTo>
                        <a:pt x="193" y="2"/>
                      </a:lnTo>
                      <a:lnTo>
                        <a:pt x="189" y="1"/>
                      </a:lnTo>
                      <a:lnTo>
                        <a:pt x="182" y="0"/>
                      </a:lnTo>
                      <a:lnTo>
                        <a:pt x="161" y="5"/>
                      </a:lnTo>
                      <a:lnTo>
                        <a:pt x="141" y="10"/>
                      </a:lnTo>
                      <a:lnTo>
                        <a:pt x="119" y="16"/>
                      </a:lnTo>
                      <a:lnTo>
                        <a:pt x="99" y="21"/>
                      </a:lnTo>
                      <a:lnTo>
                        <a:pt x="78" y="26"/>
                      </a:lnTo>
                      <a:lnTo>
                        <a:pt x="58" y="31"/>
                      </a:lnTo>
                      <a:lnTo>
                        <a:pt x="37" y="36"/>
                      </a:lnTo>
                      <a:lnTo>
                        <a:pt x="16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2" y="42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5" y="44"/>
                      </a:lnTo>
                      <a:lnTo>
                        <a:pt x="3" y="45"/>
                      </a:lnTo>
                      <a:lnTo>
                        <a:pt x="1" y="48"/>
                      </a:lnTo>
                      <a:lnTo>
                        <a:pt x="0" y="52"/>
                      </a:lnTo>
                      <a:lnTo>
                        <a:pt x="0" y="78"/>
                      </a:lnTo>
                      <a:lnTo>
                        <a:pt x="4" y="103"/>
                      </a:lnTo>
                      <a:lnTo>
                        <a:pt x="10" y="129"/>
                      </a:lnTo>
                      <a:lnTo>
                        <a:pt x="21" y="153"/>
                      </a:lnTo>
                      <a:lnTo>
                        <a:pt x="23" y="159"/>
                      </a:lnTo>
                      <a:lnTo>
                        <a:pt x="24" y="161"/>
                      </a:lnTo>
                      <a:lnTo>
                        <a:pt x="25" y="162"/>
                      </a:lnTo>
                      <a:lnTo>
                        <a:pt x="27" y="163"/>
                      </a:lnTo>
                      <a:lnTo>
                        <a:pt x="28" y="164"/>
                      </a:lnTo>
                      <a:lnTo>
                        <a:pt x="37" y="166"/>
                      </a:lnTo>
                      <a:lnTo>
                        <a:pt x="49" y="165"/>
                      </a:lnTo>
                      <a:lnTo>
                        <a:pt x="61" y="163"/>
                      </a:lnTo>
                      <a:lnTo>
                        <a:pt x="73" y="162"/>
                      </a:lnTo>
                      <a:lnTo>
                        <a:pt x="85" y="160"/>
                      </a:lnTo>
                      <a:lnTo>
                        <a:pt x="97" y="159"/>
                      </a:lnTo>
                      <a:lnTo>
                        <a:pt x="109" y="157"/>
                      </a:lnTo>
                      <a:lnTo>
                        <a:pt x="121" y="155"/>
                      </a:lnTo>
                      <a:lnTo>
                        <a:pt x="132" y="153"/>
                      </a:lnTo>
                      <a:lnTo>
                        <a:pt x="145" y="151"/>
                      </a:lnTo>
                      <a:lnTo>
                        <a:pt x="157" y="149"/>
                      </a:lnTo>
                      <a:lnTo>
                        <a:pt x="168" y="146"/>
                      </a:lnTo>
                      <a:lnTo>
                        <a:pt x="180" y="143"/>
                      </a:lnTo>
                      <a:lnTo>
                        <a:pt x="190" y="139"/>
                      </a:lnTo>
                      <a:lnTo>
                        <a:pt x="202" y="135"/>
                      </a:lnTo>
                      <a:lnTo>
                        <a:pt x="214" y="131"/>
                      </a:lnTo>
                      <a:lnTo>
                        <a:pt x="224" y="126"/>
                      </a:lnTo>
                      <a:lnTo>
                        <a:pt x="227" y="126"/>
                      </a:lnTo>
                      <a:lnTo>
                        <a:pt x="230" y="125"/>
                      </a:lnTo>
                      <a:lnTo>
                        <a:pt x="232" y="124"/>
                      </a:lnTo>
                      <a:lnTo>
                        <a:pt x="233" y="123"/>
                      </a:lnTo>
                      <a:lnTo>
                        <a:pt x="234" y="120"/>
                      </a:lnTo>
                      <a:lnTo>
                        <a:pt x="237" y="115"/>
                      </a:lnTo>
                      <a:lnTo>
                        <a:pt x="238" y="113"/>
                      </a:lnTo>
                      <a:lnTo>
                        <a:pt x="238" y="112"/>
                      </a:lnTo>
                      <a:lnTo>
                        <a:pt x="238" y="110"/>
                      </a:lnTo>
                      <a:lnTo>
                        <a:pt x="237" y="108"/>
                      </a:lnTo>
                      <a:lnTo>
                        <a:pt x="234" y="9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356920" y="3031200"/>
                  <a:ext cx="52200" cy="41400"/>
                </a:xfrm>
                <a:custGeom>
                  <a:avLst/>
                  <a:gdLst/>
                  <a:ahLst/>
                  <a:rect l="l" t="t" r="r" b="b"/>
                  <a:pathLst>
                    <a:path w="201" h="130">
                      <a:moveTo>
                        <a:pt x="31" y="130"/>
                      </a:moveTo>
                      <a:lnTo>
                        <a:pt x="19" y="129"/>
                      </a:lnTo>
                      <a:lnTo>
                        <a:pt x="17" y="124"/>
                      </a:lnTo>
                      <a:lnTo>
                        <a:pt x="8" y="103"/>
                      </a:lnTo>
                      <a:lnTo>
                        <a:pt x="3" y="82"/>
                      </a:lnTo>
                      <a:lnTo>
                        <a:pt x="0" y="6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3" y="38"/>
                      </a:lnTo>
                      <a:lnTo>
                        <a:pt x="22" y="34"/>
                      </a:lnTo>
                      <a:lnTo>
                        <a:pt x="42" y="30"/>
                      </a:lnTo>
                      <a:lnTo>
                        <a:pt x="61" y="26"/>
                      </a:lnTo>
                      <a:lnTo>
                        <a:pt x="80" y="22"/>
                      </a:lnTo>
                      <a:lnTo>
                        <a:pt x="100" y="17"/>
                      </a:lnTo>
                      <a:lnTo>
                        <a:pt x="119" y="11"/>
                      </a:lnTo>
                      <a:lnTo>
                        <a:pt x="139" y="6"/>
                      </a:lnTo>
                      <a:lnTo>
                        <a:pt x="158" y="0"/>
                      </a:lnTo>
                      <a:lnTo>
                        <a:pt x="164" y="0"/>
                      </a:lnTo>
                      <a:lnTo>
                        <a:pt x="165" y="5"/>
                      </a:lnTo>
                      <a:lnTo>
                        <a:pt x="170" y="24"/>
                      </a:lnTo>
                      <a:lnTo>
                        <a:pt x="179" y="42"/>
                      </a:lnTo>
                      <a:lnTo>
                        <a:pt x="187" y="59"/>
                      </a:lnTo>
                      <a:lnTo>
                        <a:pt x="196" y="76"/>
                      </a:lnTo>
                      <a:lnTo>
                        <a:pt x="201" y="91"/>
                      </a:lnTo>
                      <a:lnTo>
                        <a:pt x="193" y="93"/>
                      </a:lnTo>
                      <a:lnTo>
                        <a:pt x="173" y="102"/>
                      </a:lnTo>
                      <a:lnTo>
                        <a:pt x="153" y="109"/>
                      </a:lnTo>
                      <a:lnTo>
                        <a:pt x="133" y="114"/>
                      </a:lnTo>
                      <a:lnTo>
                        <a:pt x="113" y="117"/>
                      </a:lnTo>
                      <a:lnTo>
                        <a:pt x="92" y="120"/>
                      </a:lnTo>
                      <a:lnTo>
                        <a:pt x="72" y="123"/>
                      </a:lnTo>
                      <a:lnTo>
                        <a:pt x="51" y="126"/>
                      </a:lnTo>
                      <a:lnTo>
                        <a:pt x="31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339280" y="284400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18"/>
                      </a:moveTo>
                      <a:lnTo>
                        <a:pt x="1" y="26"/>
                      </a:lnTo>
                      <a:lnTo>
                        <a:pt x="5" y="31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6" y="35"/>
                      </a:lnTo>
                      <a:lnTo>
                        <a:pt x="32" y="31"/>
                      </a:lnTo>
                      <a:lnTo>
                        <a:pt x="36" y="26"/>
                      </a:lnTo>
                      <a:lnTo>
                        <a:pt x="37" y="18"/>
                      </a:lnTo>
                      <a:lnTo>
                        <a:pt x="36" y="11"/>
                      </a:lnTo>
                      <a:lnTo>
                        <a:pt x="32" y="5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386800" y="286560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19"/>
                      </a:moveTo>
                      <a:lnTo>
                        <a:pt x="1" y="25"/>
                      </a:lnTo>
                      <a:lnTo>
                        <a:pt x="5" y="32"/>
                      </a:lnTo>
                      <a:lnTo>
                        <a:pt x="12" y="36"/>
                      </a:lnTo>
                      <a:lnTo>
                        <a:pt x="19" y="37"/>
                      </a:lnTo>
                      <a:lnTo>
                        <a:pt x="27" y="36"/>
                      </a:lnTo>
                      <a:lnTo>
                        <a:pt x="32" y="32"/>
                      </a:lnTo>
                      <a:lnTo>
                        <a:pt x="36" y="25"/>
                      </a:lnTo>
                      <a:lnTo>
                        <a:pt x="37" y="19"/>
                      </a:lnTo>
                      <a:lnTo>
                        <a:pt x="36" y="12"/>
                      </a:lnTo>
                      <a:lnTo>
                        <a:pt x="32" y="5"/>
                      </a:lnTo>
                      <a:lnTo>
                        <a:pt x="27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52600" y="3174840"/>
                  <a:ext cx="262080" cy="61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5200" y="3220920"/>
                  <a:ext cx="49680" cy="3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440080" y="3205440"/>
                  <a:ext cx="49680" cy="3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365200" y="3193920"/>
                  <a:ext cx="15480" cy="40320"/>
                </a:xfrm>
                <a:custGeom>
                  <a:avLst/>
                  <a:gdLst/>
                  <a:ahLst/>
                  <a:rect l="l" t="t" r="r" b="b"/>
                  <a:pathLst>
                    <a:path w="60" h="126">
                      <a:moveTo>
                        <a:pt x="0" y="0"/>
                      </a:moveTo>
                      <a:cubicBezTo>
                        <a:pt x="8" y="24"/>
                        <a:pt x="22" y="106"/>
                        <a:pt x="36" y="120"/>
                      </a:cubicBezTo>
                      <a:cubicBezTo>
                        <a:pt x="42" y="126"/>
                        <a:pt x="52" y="120"/>
                        <a:pt x="60" y="12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428200" y="3170880"/>
                  <a:ext cx="36720" cy="34560"/>
                </a:xfrm>
                <a:custGeom>
                  <a:avLst/>
                  <a:gdLst/>
                  <a:ahLst/>
                  <a:rect l="l" t="t" r="r" b="b"/>
                  <a:pathLst>
                    <a:path w="142" h="108">
                      <a:moveTo>
                        <a:pt x="46" y="0"/>
                      </a:moveTo>
                      <a:cubicBezTo>
                        <a:pt x="45" y="1"/>
                        <a:pt x="0" y="62"/>
                        <a:pt x="10" y="72"/>
                      </a:cubicBezTo>
                      <a:cubicBezTo>
                        <a:pt x="30" y="92"/>
                        <a:pt x="106" y="108"/>
                        <a:pt x="142" y="1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340000" y="3005280"/>
                  <a:ext cx="74880" cy="61560"/>
                </a:xfrm>
                <a:custGeom>
                  <a:avLst/>
                  <a:gdLst>
                    <a:gd name="textAreaLeft" fmla="*/ 17640 w 74880"/>
                    <a:gd name="textAreaRight" fmla="*/ 57240 w 74880"/>
                    <a:gd name="textAreaTop" fmla="*/ 7200 h 61560"/>
                    <a:gd name="textAreaBottom" fmla="*/ 38520 h 6156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865960" y="2933280"/>
                <a:ext cx="256680" cy="339480"/>
                <a:chOff x="2865960" y="2933280"/>
                <a:chExt cx="256680" cy="3394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81800" y="2933280"/>
                  <a:ext cx="205200" cy="70200"/>
                </a:xfrm>
                <a:custGeom>
                  <a:avLst/>
                  <a:gdLst/>
                  <a:ahLst/>
                  <a:rect l="l" t="t" r="r" b="b"/>
                  <a:pathLst>
                    <a:path w="1192" h="317">
                      <a:moveTo>
                        <a:pt x="1099" y="2"/>
                      </a:moveTo>
                      <a:lnTo>
                        <a:pt x="1095" y="0"/>
                      </a:lnTo>
                      <a:lnTo>
                        <a:pt x="1089" y="0"/>
                      </a:lnTo>
                      <a:lnTo>
                        <a:pt x="30" y="0"/>
                      </a:lnTo>
                      <a:lnTo>
                        <a:pt x="17" y="2"/>
                      </a:lnTo>
                      <a:lnTo>
                        <a:pt x="9" y="9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2"/>
                      </a:lnTo>
                      <a:lnTo>
                        <a:pt x="17" y="59"/>
                      </a:lnTo>
                      <a:lnTo>
                        <a:pt x="30" y="61"/>
                      </a:lnTo>
                      <a:lnTo>
                        <a:pt x="45" y="61"/>
                      </a:lnTo>
                      <a:lnTo>
                        <a:pt x="55" y="81"/>
                      </a:lnTo>
                      <a:lnTo>
                        <a:pt x="66" y="107"/>
                      </a:lnTo>
                      <a:lnTo>
                        <a:pt x="74" y="137"/>
                      </a:lnTo>
                      <a:lnTo>
                        <a:pt x="77" y="170"/>
                      </a:lnTo>
                      <a:lnTo>
                        <a:pt x="76" y="196"/>
                      </a:lnTo>
                      <a:lnTo>
                        <a:pt x="72" y="219"/>
                      </a:lnTo>
                      <a:lnTo>
                        <a:pt x="64" y="240"/>
                      </a:lnTo>
                      <a:lnTo>
                        <a:pt x="53" y="257"/>
                      </a:lnTo>
                      <a:lnTo>
                        <a:pt x="30" y="257"/>
                      </a:lnTo>
                      <a:lnTo>
                        <a:pt x="17" y="260"/>
                      </a:lnTo>
                      <a:lnTo>
                        <a:pt x="9" y="266"/>
                      </a:lnTo>
                      <a:lnTo>
                        <a:pt x="2" y="275"/>
                      </a:lnTo>
                      <a:lnTo>
                        <a:pt x="0" y="287"/>
                      </a:lnTo>
                      <a:lnTo>
                        <a:pt x="2" y="299"/>
                      </a:lnTo>
                      <a:lnTo>
                        <a:pt x="9" y="308"/>
                      </a:lnTo>
                      <a:lnTo>
                        <a:pt x="17" y="315"/>
                      </a:lnTo>
                      <a:lnTo>
                        <a:pt x="30" y="317"/>
                      </a:lnTo>
                      <a:lnTo>
                        <a:pt x="1101" y="317"/>
                      </a:lnTo>
                      <a:lnTo>
                        <a:pt x="1107" y="317"/>
                      </a:lnTo>
                      <a:lnTo>
                        <a:pt x="1112" y="316"/>
                      </a:lnTo>
                      <a:lnTo>
                        <a:pt x="1130" y="307"/>
                      </a:lnTo>
                      <a:lnTo>
                        <a:pt x="1146" y="295"/>
                      </a:lnTo>
                      <a:lnTo>
                        <a:pt x="1160" y="278"/>
                      </a:lnTo>
                      <a:lnTo>
                        <a:pt x="1171" y="260"/>
                      </a:lnTo>
                      <a:lnTo>
                        <a:pt x="1181" y="239"/>
                      </a:lnTo>
                      <a:lnTo>
                        <a:pt x="1188" y="215"/>
                      </a:lnTo>
                      <a:lnTo>
                        <a:pt x="1191" y="190"/>
                      </a:lnTo>
                      <a:lnTo>
                        <a:pt x="1192" y="162"/>
                      </a:lnTo>
                      <a:lnTo>
                        <a:pt x="1190" y="134"/>
                      </a:lnTo>
                      <a:lnTo>
                        <a:pt x="1184" y="107"/>
                      </a:lnTo>
                      <a:lnTo>
                        <a:pt x="1176" y="82"/>
                      </a:lnTo>
                      <a:lnTo>
                        <a:pt x="1165" y="60"/>
                      </a:lnTo>
                      <a:lnTo>
                        <a:pt x="1152" y="41"/>
                      </a:lnTo>
                      <a:lnTo>
                        <a:pt x="1137" y="24"/>
                      </a:lnTo>
                      <a:lnTo>
                        <a:pt x="1119" y="11"/>
                      </a:lnTo>
                      <a:lnTo>
                        <a:pt x="109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898720" y="2946600"/>
                  <a:ext cx="177840" cy="43200"/>
                </a:xfrm>
                <a:custGeom>
                  <a:avLst/>
                  <a:gdLst/>
                  <a:ahLst/>
                  <a:rect l="l" t="t" r="r" b="b"/>
                  <a:pathLst>
                    <a:path w="1032" h="196">
                      <a:moveTo>
                        <a:pt x="996" y="196"/>
                      </a:moveTo>
                      <a:lnTo>
                        <a:pt x="10" y="196"/>
                      </a:lnTo>
                      <a:lnTo>
                        <a:pt x="18" y="177"/>
                      </a:lnTo>
                      <a:lnTo>
                        <a:pt x="23" y="154"/>
                      </a:lnTo>
                      <a:lnTo>
                        <a:pt x="27" y="131"/>
                      </a:lnTo>
                      <a:lnTo>
                        <a:pt x="27" y="108"/>
                      </a:lnTo>
                      <a:lnTo>
                        <a:pt x="23" y="78"/>
                      </a:lnTo>
                      <a:lnTo>
                        <a:pt x="18" y="51"/>
                      </a:lnTo>
                      <a:lnTo>
                        <a:pt x="10" y="24"/>
                      </a:lnTo>
                      <a:lnTo>
                        <a:pt x="0" y="0"/>
                      </a:lnTo>
                      <a:lnTo>
                        <a:pt x="985" y="0"/>
                      </a:lnTo>
                      <a:lnTo>
                        <a:pt x="996" y="6"/>
                      </a:lnTo>
                      <a:lnTo>
                        <a:pt x="1006" y="16"/>
                      </a:lnTo>
                      <a:lnTo>
                        <a:pt x="1013" y="28"/>
                      </a:lnTo>
                      <a:lnTo>
                        <a:pt x="1020" y="42"/>
                      </a:lnTo>
                      <a:lnTo>
                        <a:pt x="1026" y="56"/>
                      </a:lnTo>
                      <a:lnTo>
                        <a:pt x="1029" y="72"/>
                      </a:lnTo>
                      <a:lnTo>
                        <a:pt x="1031" y="87"/>
                      </a:lnTo>
                      <a:lnTo>
                        <a:pt x="1032" y="103"/>
                      </a:lnTo>
                      <a:lnTo>
                        <a:pt x="1032" y="119"/>
                      </a:lnTo>
                      <a:lnTo>
                        <a:pt x="1030" y="135"/>
                      </a:lnTo>
                      <a:lnTo>
                        <a:pt x="1027" y="149"/>
                      </a:lnTo>
                      <a:lnTo>
                        <a:pt x="1022" y="161"/>
                      </a:lnTo>
                      <a:lnTo>
                        <a:pt x="1017" y="173"/>
                      </a:lnTo>
                      <a:lnTo>
                        <a:pt x="1011" y="183"/>
                      </a:lnTo>
                      <a:lnTo>
                        <a:pt x="1003" y="191"/>
                      </a:lnTo>
                      <a:lnTo>
                        <a:pt x="996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11320" y="295416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1" h="23">
                      <a:moveTo>
                        <a:pt x="11" y="23"/>
                      </a:moveTo>
                      <a:lnTo>
                        <a:pt x="839" y="23"/>
                      </a:lnTo>
                      <a:lnTo>
                        <a:pt x="839" y="23"/>
                      </a:lnTo>
                      <a:lnTo>
                        <a:pt x="843" y="22"/>
                      </a:lnTo>
                      <a:lnTo>
                        <a:pt x="848" y="20"/>
                      </a:lnTo>
                      <a:lnTo>
                        <a:pt x="850" y="15"/>
                      </a:lnTo>
                      <a:lnTo>
                        <a:pt x="851" y="11"/>
                      </a:lnTo>
                      <a:lnTo>
                        <a:pt x="850" y="7"/>
                      </a:lnTo>
                      <a:lnTo>
                        <a:pt x="848" y="3"/>
                      </a:lnTo>
                      <a:lnTo>
                        <a:pt x="843" y="1"/>
                      </a:lnTo>
                      <a:lnTo>
                        <a:pt x="839" y="0"/>
                      </a:lnTo>
                      <a:lnTo>
                        <a:pt x="83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20"/>
                      </a:lnTo>
                      <a:lnTo>
                        <a:pt x="7" y="22"/>
                      </a:lnTo>
                      <a:lnTo>
                        <a:pt x="11" y="23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937960" y="296568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2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1" y="17"/>
                      </a:lnTo>
                      <a:lnTo>
                        <a:pt x="852" y="12"/>
                      </a:lnTo>
                      <a:lnTo>
                        <a:pt x="851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909520" y="297756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1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0" y="17"/>
                      </a:lnTo>
                      <a:lnTo>
                        <a:pt x="851" y="12"/>
                      </a:lnTo>
                      <a:lnTo>
                        <a:pt x="850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865960" y="3067200"/>
                  <a:ext cx="256680" cy="33840"/>
                </a:xfrm>
                <a:custGeom>
                  <a:avLst/>
                  <a:gdLst/>
                  <a:ahLst/>
                  <a:rect l="l" t="t" r="r" b="b"/>
                  <a:pathLst>
                    <a:path w="1491" h="153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1491" y="153"/>
                      </a:lnTo>
                      <a:lnTo>
                        <a:pt x="1491" y="105"/>
                      </a:lnTo>
                      <a:lnTo>
                        <a:pt x="1434" y="105"/>
                      </a:lnTo>
                      <a:lnTo>
                        <a:pt x="1434" y="49"/>
                      </a:lnTo>
                      <a:lnTo>
                        <a:pt x="1491" y="49"/>
                      </a:lnTo>
                      <a:lnTo>
                        <a:pt x="149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874240" y="3078000"/>
                  <a:ext cx="230400" cy="1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870640" y="3140280"/>
                  <a:ext cx="216720" cy="68400"/>
                </a:xfrm>
                <a:custGeom>
                  <a:avLst/>
                  <a:gdLst/>
                  <a:ahLst/>
                  <a:rect l="l" t="t" r="r" b="b"/>
                  <a:pathLst>
                    <a:path w="1259" h="309">
                      <a:moveTo>
                        <a:pt x="1184" y="0"/>
                      </a:move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3"/>
                      </a:lnTo>
                      <a:lnTo>
                        <a:pt x="7" y="40"/>
                      </a:lnTo>
                      <a:lnTo>
                        <a:pt x="15" y="46"/>
                      </a:lnTo>
                      <a:lnTo>
                        <a:pt x="24" y="48"/>
                      </a:lnTo>
                      <a:lnTo>
                        <a:pt x="72" y="48"/>
                      </a:lnTo>
                      <a:lnTo>
                        <a:pt x="80" y="67"/>
                      </a:lnTo>
                      <a:lnTo>
                        <a:pt x="88" y="89"/>
                      </a:lnTo>
                      <a:lnTo>
                        <a:pt x="95" y="114"/>
                      </a:lnTo>
                      <a:lnTo>
                        <a:pt x="99" y="142"/>
                      </a:lnTo>
                      <a:lnTo>
                        <a:pt x="100" y="172"/>
                      </a:lnTo>
                      <a:lnTo>
                        <a:pt x="97" y="202"/>
                      </a:lnTo>
                      <a:lnTo>
                        <a:pt x="89" y="232"/>
                      </a:lnTo>
                      <a:lnTo>
                        <a:pt x="76" y="260"/>
                      </a:lnTo>
                      <a:lnTo>
                        <a:pt x="76" y="261"/>
                      </a:lnTo>
                      <a:lnTo>
                        <a:pt x="24" y="261"/>
                      </a:lnTo>
                      <a:lnTo>
                        <a:pt x="15" y="264"/>
                      </a:lnTo>
                      <a:lnTo>
                        <a:pt x="7" y="268"/>
                      </a:lnTo>
                      <a:lnTo>
                        <a:pt x="2" y="276"/>
                      </a:lnTo>
                      <a:lnTo>
                        <a:pt x="0" y="285"/>
                      </a:lnTo>
                      <a:lnTo>
                        <a:pt x="2" y="293"/>
                      </a:lnTo>
                      <a:lnTo>
                        <a:pt x="7" y="301"/>
                      </a:lnTo>
                      <a:lnTo>
                        <a:pt x="15" y="307"/>
                      </a:lnTo>
                      <a:lnTo>
                        <a:pt x="24" y="309"/>
                      </a:lnTo>
                      <a:lnTo>
                        <a:pt x="1184" y="309"/>
                      </a:lnTo>
                      <a:lnTo>
                        <a:pt x="1203" y="306"/>
                      </a:lnTo>
                      <a:lnTo>
                        <a:pt x="1220" y="296"/>
                      </a:lnTo>
                      <a:lnTo>
                        <a:pt x="1232" y="280"/>
                      </a:lnTo>
                      <a:lnTo>
                        <a:pt x="1243" y="259"/>
                      </a:lnTo>
                      <a:lnTo>
                        <a:pt x="1251" y="236"/>
                      </a:lnTo>
                      <a:lnTo>
                        <a:pt x="1255" y="211"/>
                      </a:lnTo>
                      <a:lnTo>
                        <a:pt x="1258" y="183"/>
                      </a:lnTo>
                      <a:lnTo>
                        <a:pt x="1259" y="154"/>
                      </a:lnTo>
                      <a:lnTo>
                        <a:pt x="1258" y="126"/>
                      </a:lnTo>
                      <a:lnTo>
                        <a:pt x="1255" y="98"/>
                      </a:lnTo>
                      <a:lnTo>
                        <a:pt x="1251" y="72"/>
                      </a:lnTo>
                      <a:lnTo>
                        <a:pt x="1243" y="48"/>
                      </a:lnTo>
                      <a:lnTo>
                        <a:pt x="1232" y="28"/>
                      </a:lnTo>
                      <a:lnTo>
                        <a:pt x="1220" y="13"/>
                      </a:lnTo>
                      <a:lnTo>
                        <a:pt x="1203" y="3"/>
                      </a:lnTo>
                      <a:lnTo>
                        <a:pt x="11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892240" y="3151080"/>
                  <a:ext cx="187200" cy="47160"/>
                </a:xfrm>
                <a:custGeom>
                  <a:avLst/>
                  <a:gdLst/>
                  <a:ahLst/>
                  <a:rect l="l" t="t" r="r" b="b"/>
                  <a:pathLst>
                    <a:path w="1088" h="213">
                      <a:moveTo>
                        <a:pt x="1060" y="213"/>
                      </a:moveTo>
                      <a:lnTo>
                        <a:pt x="5" y="213"/>
                      </a:lnTo>
                      <a:lnTo>
                        <a:pt x="15" y="185"/>
                      </a:lnTo>
                      <a:lnTo>
                        <a:pt x="22" y="156"/>
                      </a:lnTo>
                      <a:lnTo>
                        <a:pt x="24" y="127"/>
                      </a:lnTo>
                      <a:lnTo>
                        <a:pt x="24" y="99"/>
                      </a:lnTo>
                      <a:lnTo>
                        <a:pt x="21" y="71"/>
                      </a:lnTo>
                      <a:lnTo>
                        <a:pt x="15" y="45"/>
                      </a:lnTo>
                      <a:lnTo>
                        <a:pt x="7" y="22"/>
                      </a:lnTo>
                      <a:lnTo>
                        <a:pt x="0" y="0"/>
                      </a:lnTo>
                      <a:lnTo>
                        <a:pt x="1060" y="0"/>
                      </a:lnTo>
                      <a:lnTo>
                        <a:pt x="1068" y="7"/>
                      </a:lnTo>
                      <a:lnTo>
                        <a:pt x="1077" y="28"/>
                      </a:lnTo>
                      <a:lnTo>
                        <a:pt x="1085" y="61"/>
                      </a:lnTo>
                      <a:lnTo>
                        <a:pt x="1088" y="106"/>
                      </a:lnTo>
                      <a:lnTo>
                        <a:pt x="1085" y="153"/>
                      </a:lnTo>
                      <a:lnTo>
                        <a:pt x="1077" y="186"/>
                      </a:lnTo>
                      <a:lnTo>
                        <a:pt x="1068" y="207"/>
                      </a:lnTo>
                      <a:lnTo>
                        <a:pt x="1060" y="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885040" y="3101760"/>
                  <a:ext cx="233280" cy="37080"/>
                </a:xfrm>
                <a:custGeom>
                  <a:avLst/>
                  <a:gdLst/>
                  <a:ahLst/>
                  <a:rect l="l" t="t" r="r" b="b"/>
                  <a:pathLst>
                    <a:path w="1354" h="168">
                      <a:moveTo>
                        <a:pt x="0" y="88"/>
                      </a:moveTo>
                      <a:lnTo>
                        <a:pt x="1" y="104"/>
                      </a:lnTo>
                      <a:lnTo>
                        <a:pt x="4" y="118"/>
                      </a:lnTo>
                      <a:lnTo>
                        <a:pt x="11" y="130"/>
                      </a:lnTo>
                      <a:lnTo>
                        <a:pt x="18" y="142"/>
                      </a:lnTo>
                      <a:lnTo>
                        <a:pt x="24" y="148"/>
                      </a:lnTo>
                      <a:lnTo>
                        <a:pt x="29" y="153"/>
                      </a:lnTo>
                      <a:lnTo>
                        <a:pt x="36" y="158"/>
                      </a:lnTo>
                      <a:lnTo>
                        <a:pt x="43" y="161"/>
                      </a:lnTo>
                      <a:lnTo>
                        <a:pt x="50" y="165"/>
                      </a:lnTo>
                      <a:lnTo>
                        <a:pt x="58" y="166"/>
                      </a:lnTo>
                      <a:lnTo>
                        <a:pt x="66" y="168"/>
                      </a:lnTo>
                      <a:lnTo>
                        <a:pt x="75" y="168"/>
                      </a:lnTo>
                      <a:lnTo>
                        <a:pt x="1335" y="168"/>
                      </a:lnTo>
                      <a:lnTo>
                        <a:pt x="1342" y="167"/>
                      </a:lnTo>
                      <a:lnTo>
                        <a:pt x="1349" y="163"/>
                      </a:lnTo>
                      <a:lnTo>
                        <a:pt x="1353" y="157"/>
                      </a:lnTo>
                      <a:lnTo>
                        <a:pt x="1354" y="149"/>
                      </a:lnTo>
                      <a:lnTo>
                        <a:pt x="1353" y="143"/>
                      </a:lnTo>
                      <a:lnTo>
                        <a:pt x="1349" y="137"/>
                      </a:lnTo>
                      <a:lnTo>
                        <a:pt x="1342" y="134"/>
                      </a:lnTo>
                      <a:lnTo>
                        <a:pt x="1335" y="133"/>
                      </a:lnTo>
                      <a:lnTo>
                        <a:pt x="1255" y="133"/>
                      </a:lnTo>
                      <a:lnTo>
                        <a:pt x="1240" y="107"/>
                      </a:lnTo>
                      <a:lnTo>
                        <a:pt x="1238" y="81"/>
                      </a:lnTo>
                      <a:lnTo>
                        <a:pt x="1243" y="56"/>
                      </a:lnTo>
                      <a:lnTo>
                        <a:pt x="1252" y="37"/>
                      </a:lnTo>
                      <a:lnTo>
                        <a:pt x="1335" y="37"/>
                      </a:lnTo>
                      <a:lnTo>
                        <a:pt x="1342" y="35"/>
                      </a:lnTo>
                      <a:lnTo>
                        <a:pt x="1349" y="31"/>
                      </a:lnTo>
                      <a:lnTo>
                        <a:pt x="1353" y="26"/>
                      </a:lnTo>
                      <a:lnTo>
                        <a:pt x="1354" y="18"/>
                      </a:lnTo>
                      <a:lnTo>
                        <a:pt x="1353" y="11"/>
                      </a:lnTo>
                      <a:lnTo>
                        <a:pt x="1349" y="6"/>
                      </a:lnTo>
                      <a:lnTo>
                        <a:pt x="1342" y="1"/>
                      </a:lnTo>
                      <a:lnTo>
                        <a:pt x="1335" y="0"/>
                      </a:lnTo>
                      <a:lnTo>
                        <a:pt x="79" y="0"/>
                      </a:lnTo>
                      <a:lnTo>
                        <a:pt x="60" y="2"/>
                      </a:lnTo>
                      <a:lnTo>
                        <a:pt x="45" y="8"/>
                      </a:lnTo>
                      <a:lnTo>
                        <a:pt x="32" y="17"/>
                      </a:lnTo>
                      <a:lnTo>
                        <a:pt x="20" y="28"/>
                      </a:lnTo>
                      <a:lnTo>
                        <a:pt x="11" y="42"/>
                      </a:lnTo>
                      <a:lnTo>
                        <a:pt x="5" y="56"/>
                      </a:lnTo>
                      <a:lnTo>
                        <a:pt x="1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891160" y="3110040"/>
                  <a:ext cx="202680" cy="21240"/>
                </a:xfrm>
                <a:custGeom>
                  <a:avLst/>
                  <a:gdLst/>
                  <a:ahLst/>
                  <a:rect l="l" t="t" r="r" b="b"/>
                  <a:pathLst>
                    <a:path w="1176" h="96">
                      <a:moveTo>
                        <a:pt x="0" y="51"/>
                      </a:moveTo>
                      <a:lnTo>
                        <a:pt x="0" y="44"/>
                      </a:lnTo>
                      <a:lnTo>
                        <a:pt x="2" y="35"/>
                      </a:lnTo>
                      <a:lnTo>
                        <a:pt x="6" y="26"/>
                      </a:lnTo>
                      <a:lnTo>
                        <a:pt x="10" y="17"/>
                      </a:lnTo>
                      <a:lnTo>
                        <a:pt x="16" y="11"/>
                      </a:lnTo>
                      <a:lnTo>
                        <a:pt x="23" y="5"/>
                      </a:lnTo>
                      <a:lnTo>
                        <a:pt x="32" y="1"/>
                      </a:lnTo>
                      <a:lnTo>
                        <a:pt x="43" y="0"/>
                      </a:lnTo>
                      <a:lnTo>
                        <a:pt x="1176" y="0"/>
                      </a:lnTo>
                      <a:lnTo>
                        <a:pt x="1169" y="22"/>
                      </a:lnTo>
                      <a:lnTo>
                        <a:pt x="1166" y="46"/>
                      </a:lnTo>
                      <a:lnTo>
                        <a:pt x="1168" y="71"/>
                      </a:lnTo>
                      <a:lnTo>
                        <a:pt x="1176" y="96"/>
                      </a:lnTo>
                      <a:lnTo>
                        <a:pt x="39" y="96"/>
                      </a:lnTo>
                      <a:lnTo>
                        <a:pt x="30" y="95"/>
                      </a:lnTo>
                      <a:lnTo>
                        <a:pt x="22" y="92"/>
                      </a:lnTo>
                      <a:lnTo>
                        <a:pt x="16" y="89"/>
                      </a:lnTo>
                      <a:lnTo>
                        <a:pt x="10" y="84"/>
                      </a:lnTo>
                      <a:lnTo>
                        <a:pt x="6" y="77"/>
                      </a:lnTo>
                      <a:lnTo>
                        <a:pt x="2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899080" y="311544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6" y="0"/>
                      </a:lnTo>
                      <a:lnTo>
                        <a:pt x="1066" y="0"/>
                      </a:lnTo>
                      <a:lnTo>
                        <a:pt x="1068" y="0"/>
                      </a:lnTo>
                      <a:lnTo>
                        <a:pt x="1070" y="1"/>
                      </a:lnTo>
                      <a:lnTo>
                        <a:pt x="1071" y="3"/>
                      </a:lnTo>
                      <a:lnTo>
                        <a:pt x="1072" y="5"/>
                      </a:lnTo>
                      <a:lnTo>
                        <a:pt x="1071" y="8"/>
                      </a:lnTo>
                      <a:lnTo>
                        <a:pt x="1070" y="10"/>
                      </a:lnTo>
                      <a:lnTo>
                        <a:pt x="1068" y="11"/>
                      </a:lnTo>
                      <a:lnTo>
                        <a:pt x="1066" y="12"/>
                      </a:lnTo>
                      <a:lnTo>
                        <a:pt x="106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05920" y="312408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5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5" y="0"/>
                      </a:lnTo>
                      <a:lnTo>
                        <a:pt x="1065" y="0"/>
                      </a:lnTo>
                      <a:lnTo>
                        <a:pt x="1067" y="1"/>
                      </a:lnTo>
                      <a:lnTo>
                        <a:pt x="1070" y="2"/>
                      </a:lnTo>
                      <a:lnTo>
                        <a:pt x="1071" y="4"/>
                      </a:lnTo>
                      <a:lnTo>
                        <a:pt x="1072" y="6"/>
                      </a:lnTo>
                      <a:lnTo>
                        <a:pt x="1071" y="8"/>
                      </a:lnTo>
                      <a:lnTo>
                        <a:pt x="1070" y="11"/>
                      </a:lnTo>
                      <a:lnTo>
                        <a:pt x="1067" y="12"/>
                      </a:lnTo>
                      <a:lnTo>
                        <a:pt x="1065" y="12"/>
                      </a:lnTo>
                      <a:lnTo>
                        <a:pt x="106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871360" y="3214080"/>
                  <a:ext cx="245520" cy="58680"/>
                </a:xfrm>
                <a:custGeom>
                  <a:avLst/>
                  <a:gdLst/>
                  <a:ahLst/>
                  <a:rect l="l" t="t" r="r" b="b"/>
                  <a:pathLst>
                    <a:path w="1426" h="26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18" y="25"/>
                      </a:lnTo>
                      <a:lnTo>
                        <a:pt x="1323" y="27"/>
                      </a:lnTo>
                      <a:lnTo>
                        <a:pt x="1327" y="29"/>
                      </a:lnTo>
                      <a:lnTo>
                        <a:pt x="1329" y="33"/>
                      </a:lnTo>
                      <a:lnTo>
                        <a:pt x="1331" y="38"/>
                      </a:lnTo>
                      <a:lnTo>
                        <a:pt x="1329" y="42"/>
                      </a:lnTo>
                      <a:lnTo>
                        <a:pt x="1327" y="46"/>
                      </a:lnTo>
                      <a:lnTo>
                        <a:pt x="1323" y="49"/>
                      </a:lnTo>
                      <a:lnTo>
                        <a:pt x="1318" y="50"/>
                      </a:lnTo>
                      <a:lnTo>
                        <a:pt x="0" y="50"/>
                      </a:lnTo>
                      <a:lnTo>
                        <a:pt x="0" y="126"/>
                      </a:lnTo>
                      <a:lnTo>
                        <a:pt x="1318" y="126"/>
                      </a:lnTo>
                      <a:lnTo>
                        <a:pt x="1323" y="127"/>
                      </a:lnTo>
                      <a:lnTo>
                        <a:pt x="1327" y="129"/>
                      </a:lnTo>
                      <a:lnTo>
                        <a:pt x="1329" y="134"/>
                      </a:lnTo>
                      <a:lnTo>
                        <a:pt x="1331" y="138"/>
                      </a:lnTo>
                      <a:lnTo>
                        <a:pt x="1329" y="143"/>
                      </a:lnTo>
                      <a:lnTo>
                        <a:pt x="1327" y="147"/>
                      </a:lnTo>
                      <a:lnTo>
                        <a:pt x="1323" y="149"/>
                      </a:lnTo>
                      <a:lnTo>
                        <a:pt x="1318" y="150"/>
                      </a:lnTo>
                      <a:lnTo>
                        <a:pt x="0" y="150"/>
                      </a:lnTo>
                      <a:lnTo>
                        <a:pt x="0" y="219"/>
                      </a:lnTo>
                      <a:lnTo>
                        <a:pt x="1318" y="219"/>
                      </a:lnTo>
                      <a:lnTo>
                        <a:pt x="1323" y="220"/>
                      </a:lnTo>
                      <a:lnTo>
                        <a:pt x="1327" y="222"/>
                      </a:lnTo>
                      <a:lnTo>
                        <a:pt x="1329" y="227"/>
                      </a:lnTo>
                      <a:lnTo>
                        <a:pt x="1331" y="231"/>
                      </a:lnTo>
                      <a:lnTo>
                        <a:pt x="1329" y="235"/>
                      </a:lnTo>
                      <a:lnTo>
                        <a:pt x="1327" y="240"/>
                      </a:lnTo>
                      <a:lnTo>
                        <a:pt x="1323" y="242"/>
                      </a:lnTo>
                      <a:lnTo>
                        <a:pt x="1318" y="243"/>
                      </a:lnTo>
                      <a:lnTo>
                        <a:pt x="0" y="243"/>
                      </a:lnTo>
                      <a:lnTo>
                        <a:pt x="0" y="265"/>
                      </a:lnTo>
                      <a:lnTo>
                        <a:pt x="1426" y="265"/>
                      </a:lnTo>
                      <a:lnTo>
                        <a:pt x="14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876400" y="3230280"/>
                  <a:ext cx="232920" cy="504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7"/>
                      </a:lnTo>
                      <a:lnTo>
                        <a:pt x="1352" y="12"/>
                      </a:lnTo>
                      <a:lnTo>
                        <a:pt x="1351" y="8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76400" y="3252960"/>
                  <a:ext cx="232920" cy="504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6"/>
                      </a:lnTo>
                      <a:lnTo>
                        <a:pt x="1352" y="12"/>
                      </a:lnTo>
                      <a:lnTo>
                        <a:pt x="1351" y="7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24000" y="3162600"/>
                  <a:ext cx="46800" cy="74880"/>
                </a:xfrm>
                <a:custGeom>
                  <a:avLst/>
                  <a:gdLst/>
                  <a:ahLst/>
                  <a:rect l="l" t="t" r="r" b="b"/>
                  <a:pathLst>
                    <a:path w="273" h="338">
                      <a:moveTo>
                        <a:pt x="174" y="0"/>
                      </a:moveTo>
                      <a:lnTo>
                        <a:pt x="0" y="0"/>
                      </a:lnTo>
                      <a:lnTo>
                        <a:pt x="18" y="19"/>
                      </a:lnTo>
                      <a:lnTo>
                        <a:pt x="38" y="42"/>
                      </a:lnTo>
                      <a:lnTo>
                        <a:pt x="56" y="71"/>
                      </a:lnTo>
                      <a:lnTo>
                        <a:pt x="74" y="106"/>
                      </a:lnTo>
                      <a:lnTo>
                        <a:pt x="87" y="149"/>
                      </a:lnTo>
                      <a:lnTo>
                        <a:pt x="95" y="201"/>
                      </a:lnTo>
                      <a:lnTo>
                        <a:pt x="96" y="264"/>
                      </a:lnTo>
                      <a:lnTo>
                        <a:pt x="87" y="338"/>
                      </a:lnTo>
                      <a:lnTo>
                        <a:pt x="110" y="318"/>
                      </a:lnTo>
                      <a:lnTo>
                        <a:pt x="129" y="294"/>
                      </a:lnTo>
                      <a:lnTo>
                        <a:pt x="147" y="270"/>
                      </a:lnTo>
                      <a:lnTo>
                        <a:pt x="163" y="245"/>
                      </a:lnTo>
                      <a:lnTo>
                        <a:pt x="175" y="223"/>
                      </a:lnTo>
                      <a:lnTo>
                        <a:pt x="185" y="206"/>
                      </a:lnTo>
                      <a:lnTo>
                        <a:pt x="190" y="193"/>
                      </a:lnTo>
                      <a:lnTo>
                        <a:pt x="192" y="189"/>
                      </a:lnTo>
                      <a:lnTo>
                        <a:pt x="195" y="191"/>
                      </a:lnTo>
                      <a:lnTo>
                        <a:pt x="199" y="199"/>
                      </a:lnTo>
                      <a:lnTo>
                        <a:pt x="206" y="211"/>
                      </a:lnTo>
                      <a:lnTo>
                        <a:pt x="213" y="227"/>
                      </a:lnTo>
                      <a:lnTo>
                        <a:pt x="221" y="249"/>
                      </a:lnTo>
                      <a:lnTo>
                        <a:pt x="229" y="274"/>
                      </a:lnTo>
                      <a:lnTo>
                        <a:pt x="235" y="304"/>
                      </a:lnTo>
                      <a:lnTo>
                        <a:pt x="240" y="338"/>
                      </a:lnTo>
                      <a:lnTo>
                        <a:pt x="259" y="301"/>
                      </a:lnTo>
                      <a:lnTo>
                        <a:pt x="270" y="258"/>
                      </a:lnTo>
                      <a:lnTo>
                        <a:pt x="273" y="212"/>
                      </a:lnTo>
                      <a:lnTo>
                        <a:pt x="269" y="166"/>
                      </a:lnTo>
                      <a:lnTo>
                        <a:pt x="255" y="119"/>
                      </a:lnTo>
                      <a:lnTo>
                        <a:pt x="235" y="75"/>
                      </a:lnTo>
                      <a:lnTo>
                        <a:pt x="209" y="35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910600" y="3004920"/>
                  <a:ext cx="198360" cy="62640"/>
                </a:xfrm>
                <a:custGeom>
                  <a:avLst/>
                  <a:gdLst/>
                  <a:ahLst/>
                  <a:rect l="l" t="t" r="r" b="b"/>
                  <a:pathLst>
                    <a:path w="1152" h="283">
                      <a:moveTo>
                        <a:pt x="0" y="141"/>
                      </a:moveTo>
                      <a:lnTo>
                        <a:pt x="1" y="166"/>
                      </a:lnTo>
                      <a:lnTo>
                        <a:pt x="3" y="192"/>
                      </a:lnTo>
                      <a:lnTo>
                        <a:pt x="7" y="216"/>
                      </a:lnTo>
                      <a:lnTo>
                        <a:pt x="15" y="237"/>
                      </a:lnTo>
                      <a:lnTo>
                        <a:pt x="24" y="256"/>
                      </a:lnTo>
                      <a:lnTo>
                        <a:pt x="36" y="270"/>
                      </a:lnTo>
                      <a:lnTo>
                        <a:pt x="51" y="279"/>
                      </a:lnTo>
                      <a:lnTo>
                        <a:pt x="68" y="283"/>
                      </a:lnTo>
                      <a:lnTo>
                        <a:pt x="1130" y="283"/>
                      </a:lnTo>
                      <a:lnTo>
                        <a:pt x="1139" y="280"/>
                      </a:lnTo>
                      <a:lnTo>
                        <a:pt x="1146" y="276"/>
                      </a:lnTo>
                      <a:lnTo>
                        <a:pt x="1150" y="269"/>
                      </a:lnTo>
                      <a:lnTo>
                        <a:pt x="1152" y="260"/>
                      </a:lnTo>
                      <a:lnTo>
                        <a:pt x="1150" y="252"/>
                      </a:lnTo>
                      <a:lnTo>
                        <a:pt x="1146" y="245"/>
                      </a:lnTo>
                      <a:lnTo>
                        <a:pt x="1139" y="241"/>
                      </a:lnTo>
                      <a:lnTo>
                        <a:pt x="1130" y="238"/>
                      </a:lnTo>
                      <a:lnTo>
                        <a:pt x="1083" y="238"/>
                      </a:lnTo>
                      <a:lnTo>
                        <a:pt x="1083" y="238"/>
                      </a:lnTo>
                      <a:lnTo>
                        <a:pt x="1070" y="212"/>
                      </a:lnTo>
                      <a:lnTo>
                        <a:pt x="1063" y="185"/>
                      </a:lnTo>
                      <a:lnTo>
                        <a:pt x="1060" y="158"/>
                      </a:lnTo>
                      <a:lnTo>
                        <a:pt x="1062" y="131"/>
                      </a:lnTo>
                      <a:lnTo>
                        <a:pt x="1065" y="106"/>
                      </a:lnTo>
                      <a:lnTo>
                        <a:pt x="1071" y="81"/>
                      </a:lnTo>
                      <a:lnTo>
                        <a:pt x="1079" y="62"/>
                      </a:lnTo>
                      <a:lnTo>
                        <a:pt x="1087" y="44"/>
                      </a:lnTo>
                      <a:lnTo>
                        <a:pt x="1130" y="44"/>
                      </a:lnTo>
                      <a:lnTo>
                        <a:pt x="1139" y="42"/>
                      </a:lnTo>
                      <a:lnTo>
                        <a:pt x="1146" y="37"/>
                      </a:lnTo>
                      <a:lnTo>
                        <a:pt x="1150" y="31"/>
                      </a:lnTo>
                      <a:lnTo>
                        <a:pt x="1152" y="22"/>
                      </a:lnTo>
                      <a:lnTo>
                        <a:pt x="1150" y="13"/>
                      </a:lnTo>
                      <a:lnTo>
                        <a:pt x="1146" y="6"/>
                      </a:lnTo>
                      <a:lnTo>
                        <a:pt x="1139" y="2"/>
                      </a:lnTo>
                      <a:lnTo>
                        <a:pt x="1130" y="0"/>
                      </a:lnTo>
                      <a:lnTo>
                        <a:pt x="68" y="0"/>
                      </a:lnTo>
                      <a:lnTo>
                        <a:pt x="51" y="3"/>
                      </a:lnTo>
                      <a:lnTo>
                        <a:pt x="36" y="12"/>
                      </a:lnTo>
                      <a:lnTo>
                        <a:pt x="24" y="26"/>
                      </a:lnTo>
                      <a:lnTo>
                        <a:pt x="15" y="45"/>
                      </a:lnTo>
                      <a:lnTo>
                        <a:pt x="7" y="66"/>
                      </a:lnTo>
                      <a:lnTo>
                        <a:pt x="3" y="90"/>
                      </a:lnTo>
                      <a:lnTo>
                        <a:pt x="1" y="116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918160" y="3014640"/>
                  <a:ext cx="171000" cy="42840"/>
                </a:xfrm>
                <a:custGeom>
                  <a:avLst/>
                  <a:gdLst/>
                  <a:ahLst/>
                  <a:rect l="l" t="t" r="r" b="b"/>
                  <a:pathLst>
                    <a:path w="994" h="194">
                      <a:moveTo>
                        <a:pt x="0" y="97"/>
                      </a:moveTo>
                      <a:lnTo>
                        <a:pt x="3" y="55"/>
                      </a:lnTo>
                      <a:lnTo>
                        <a:pt x="10" y="25"/>
                      </a:lnTo>
                      <a:lnTo>
                        <a:pt x="18" y="6"/>
                      </a:lnTo>
                      <a:lnTo>
                        <a:pt x="24" y="0"/>
                      </a:lnTo>
                      <a:lnTo>
                        <a:pt x="994" y="0"/>
                      </a:lnTo>
                      <a:lnTo>
                        <a:pt x="987" y="20"/>
                      </a:lnTo>
                      <a:lnTo>
                        <a:pt x="981" y="42"/>
                      </a:lnTo>
                      <a:lnTo>
                        <a:pt x="976" y="65"/>
                      </a:lnTo>
                      <a:lnTo>
                        <a:pt x="973" y="89"/>
                      </a:lnTo>
                      <a:lnTo>
                        <a:pt x="972" y="115"/>
                      </a:lnTo>
                      <a:lnTo>
                        <a:pt x="976" y="141"/>
                      </a:lnTo>
                      <a:lnTo>
                        <a:pt x="981" y="168"/>
                      </a:lnTo>
                      <a:lnTo>
                        <a:pt x="990" y="194"/>
                      </a:lnTo>
                      <a:lnTo>
                        <a:pt x="24" y="194"/>
                      </a:lnTo>
                      <a:lnTo>
                        <a:pt x="18" y="188"/>
                      </a:lnTo>
                      <a:lnTo>
                        <a:pt x="10" y="170"/>
                      </a:lnTo>
                      <a:lnTo>
                        <a:pt x="3" y="139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81120" y="1981080"/>
            <a:ext cx="2671200" cy="1675800"/>
            <a:chOff x="681120" y="1981080"/>
            <a:chExt cx="2671200" cy="1675800"/>
          </a:xfrm>
        </p:grpSpPr>
        <p:grpSp>
          <p:nvGrpSpPr>
            <p:cNvPr id="569" name=""/>
            <p:cNvGrpSpPr/>
            <p:nvPr/>
          </p:nvGrpSpPr>
          <p:grpSpPr>
            <a:xfrm>
              <a:off x="681120" y="1981080"/>
              <a:ext cx="972360" cy="1567800"/>
              <a:chOff x="681120" y="1981080"/>
              <a:chExt cx="972360" cy="1567800"/>
            </a:xfrm>
          </p:grpSpPr>
          <p:sp>
            <p:nvSpPr>
              <p:cNvPr id="570" name=""/>
              <p:cNvSpPr/>
              <p:nvPr/>
            </p:nvSpPr>
            <p:spPr>
              <a:xfrm>
                <a:off x="1011240" y="2901240"/>
                <a:ext cx="121320" cy="257040"/>
              </a:xfrm>
              <a:custGeom>
                <a:avLst/>
                <a:gdLst/>
                <a:ahLst/>
                <a:rect l="l" t="t" r="r" b="b"/>
                <a:pathLst>
                  <a:path w="232" h="384">
                    <a:moveTo>
                      <a:pt x="11" y="115"/>
                    </a:moveTo>
                    <a:lnTo>
                      <a:pt x="2" y="151"/>
                    </a:lnTo>
                    <a:lnTo>
                      <a:pt x="0" y="188"/>
                    </a:lnTo>
                    <a:lnTo>
                      <a:pt x="6" y="225"/>
                    </a:lnTo>
                    <a:lnTo>
                      <a:pt x="17" y="261"/>
                    </a:lnTo>
                    <a:lnTo>
                      <a:pt x="36" y="295"/>
                    </a:lnTo>
                    <a:lnTo>
                      <a:pt x="60" y="327"/>
                    </a:lnTo>
                    <a:lnTo>
                      <a:pt x="90" y="357"/>
                    </a:lnTo>
                    <a:lnTo>
                      <a:pt x="124" y="384"/>
                    </a:lnTo>
                    <a:lnTo>
                      <a:pt x="141" y="373"/>
                    </a:lnTo>
                    <a:lnTo>
                      <a:pt x="155" y="362"/>
                    </a:lnTo>
                    <a:lnTo>
                      <a:pt x="169" y="350"/>
                    </a:lnTo>
                    <a:lnTo>
                      <a:pt x="182" y="338"/>
                    </a:lnTo>
                    <a:lnTo>
                      <a:pt x="194" y="324"/>
                    </a:lnTo>
                    <a:lnTo>
                      <a:pt x="204" y="309"/>
                    </a:lnTo>
                    <a:lnTo>
                      <a:pt x="212" y="294"/>
                    </a:lnTo>
                    <a:lnTo>
                      <a:pt x="219" y="278"/>
                    </a:lnTo>
                    <a:lnTo>
                      <a:pt x="228" y="246"/>
                    </a:lnTo>
                    <a:lnTo>
                      <a:pt x="232" y="212"/>
                    </a:lnTo>
                    <a:lnTo>
                      <a:pt x="228" y="178"/>
                    </a:lnTo>
                    <a:lnTo>
                      <a:pt x="220" y="142"/>
                    </a:lnTo>
                    <a:lnTo>
                      <a:pt x="207" y="107"/>
                    </a:lnTo>
                    <a:lnTo>
                      <a:pt x="189" y="72"/>
                    </a:lnTo>
                    <a:lnTo>
                      <a:pt x="166" y="36"/>
                    </a:lnTo>
                    <a:lnTo>
                      <a:pt x="138" y="0"/>
                    </a:lnTo>
                    <a:lnTo>
                      <a:pt x="116" y="8"/>
                    </a:lnTo>
                    <a:lnTo>
                      <a:pt x="97" y="19"/>
                    </a:lnTo>
                    <a:lnTo>
                      <a:pt x="78" y="31"/>
                    </a:lnTo>
                    <a:lnTo>
                      <a:pt x="61" y="44"/>
                    </a:lnTo>
                    <a:lnTo>
                      <a:pt x="45" y="60"/>
                    </a:lnTo>
                    <a:lnTo>
                      <a:pt x="32" y="76"/>
                    </a:lnTo>
                    <a:lnTo>
                      <a:pt x="21" y="95"/>
                    </a:lnTo>
                    <a:lnTo>
                      <a:pt x="11" y="115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76040" y="2891520"/>
                <a:ext cx="214200" cy="302760"/>
              </a:xfrm>
              <a:custGeom>
                <a:avLst/>
                <a:gdLst/>
                <a:ahLst/>
                <a:rect l="l" t="t" r="r" b="b"/>
                <a:pathLst>
                  <a:path w="409" h="452">
                    <a:moveTo>
                      <a:pt x="204" y="17"/>
                    </a:moveTo>
                    <a:lnTo>
                      <a:pt x="192" y="13"/>
                    </a:lnTo>
                    <a:lnTo>
                      <a:pt x="180" y="10"/>
                    </a:lnTo>
                    <a:lnTo>
                      <a:pt x="167" y="6"/>
                    </a:lnTo>
                    <a:lnTo>
                      <a:pt x="155" y="4"/>
                    </a:lnTo>
                    <a:lnTo>
                      <a:pt x="142" y="3"/>
                    </a:lnTo>
                    <a:lnTo>
                      <a:pt x="131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2"/>
                    </a:lnTo>
                    <a:lnTo>
                      <a:pt x="71" y="3"/>
                    </a:lnTo>
                    <a:lnTo>
                      <a:pt x="58" y="4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5" y="11"/>
                    </a:lnTo>
                    <a:lnTo>
                      <a:pt x="14" y="14"/>
                    </a:lnTo>
                    <a:lnTo>
                      <a:pt x="42" y="50"/>
                    </a:lnTo>
                    <a:lnTo>
                      <a:pt x="65" y="86"/>
                    </a:lnTo>
                    <a:lnTo>
                      <a:pt x="83" y="121"/>
                    </a:lnTo>
                    <a:lnTo>
                      <a:pt x="96" y="156"/>
                    </a:lnTo>
                    <a:lnTo>
                      <a:pt x="104" y="192"/>
                    </a:lnTo>
                    <a:lnTo>
                      <a:pt x="108" y="226"/>
                    </a:lnTo>
                    <a:lnTo>
                      <a:pt x="104" y="260"/>
                    </a:lnTo>
                    <a:lnTo>
                      <a:pt x="95" y="292"/>
                    </a:lnTo>
                    <a:lnTo>
                      <a:pt x="88" y="308"/>
                    </a:lnTo>
                    <a:lnTo>
                      <a:pt x="80" y="323"/>
                    </a:lnTo>
                    <a:lnTo>
                      <a:pt x="70" y="338"/>
                    </a:lnTo>
                    <a:lnTo>
                      <a:pt x="58" y="352"/>
                    </a:lnTo>
                    <a:lnTo>
                      <a:pt x="45" y="364"/>
                    </a:lnTo>
                    <a:lnTo>
                      <a:pt x="31" y="376"/>
                    </a:lnTo>
                    <a:lnTo>
                      <a:pt x="17" y="387"/>
                    </a:lnTo>
                    <a:lnTo>
                      <a:pt x="0" y="398"/>
                    </a:lnTo>
                    <a:lnTo>
                      <a:pt x="7" y="402"/>
                    </a:lnTo>
                    <a:lnTo>
                      <a:pt x="15" y="407"/>
                    </a:lnTo>
                    <a:lnTo>
                      <a:pt x="23" y="412"/>
                    </a:lnTo>
                    <a:lnTo>
                      <a:pt x="31" y="415"/>
                    </a:lnTo>
                    <a:lnTo>
                      <a:pt x="40" y="420"/>
                    </a:lnTo>
                    <a:lnTo>
                      <a:pt x="48" y="423"/>
                    </a:lnTo>
                    <a:lnTo>
                      <a:pt x="57" y="427"/>
                    </a:lnTo>
                    <a:lnTo>
                      <a:pt x="65" y="430"/>
                    </a:lnTo>
                    <a:lnTo>
                      <a:pt x="91" y="439"/>
                    </a:lnTo>
                    <a:lnTo>
                      <a:pt x="118" y="446"/>
                    </a:lnTo>
                    <a:lnTo>
                      <a:pt x="144" y="450"/>
                    </a:lnTo>
                    <a:lnTo>
                      <a:pt x="170" y="452"/>
                    </a:lnTo>
                    <a:lnTo>
                      <a:pt x="196" y="452"/>
                    </a:lnTo>
                    <a:lnTo>
                      <a:pt x="220" y="450"/>
                    </a:lnTo>
                    <a:lnTo>
                      <a:pt x="245" y="445"/>
                    </a:lnTo>
                    <a:lnTo>
                      <a:pt x="268" y="439"/>
                    </a:lnTo>
                    <a:lnTo>
                      <a:pt x="290" y="431"/>
                    </a:lnTo>
                    <a:lnTo>
                      <a:pt x="310" y="421"/>
                    </a:lnTo>
                    <a:lnTo>
                      <a:pt x="330" y="408"/>
                    </a:lnTo>
                    <a:lnTo>
                      <a:pt x="347" y="394"/>
                    </a:lnTo>
                    <a:lnTo>
                      <a:pt x="363" y="378"/>
                    </a:lnTo>
                    <a:lnTo>
                      <a:pt x="377" y="361"/>
                    </a:lnTo>
                    <a:lnTo>
                      <a:pt x="389" y="342"/>
                    </a:lnTo>
                    <a:lnTo>
                      <a:pt x="398" y="322"/>
                    </a:lnTo>
                    <a:lnTo>
                      <a:pt x="405" y="301"/>
                    </a:lnTo>
                    <a:lnTo>
                      <a:pt x="408" y="279"/>
                    </a:lnTo>
                    <a:lnTo>
                      <a:pt x="409" y="258"/>
                    </a:lnTo>
                    <a:lnTo>
                      <a:pt x="408" y="237"/>
                    </a:lnTo>
                    <a:lnTo>
                      <a:pt x="405" y="216"/>
                    </a:lnTo>
                    <a:lnTo>
                      <a:pt x="398" y="194"/>
                    </a:lnTo>
                    <a:lnTo>
                      <a:pt x="390" y="173"/>
                    </a:lnTo>
                    <a:lnTo>
                      <a:pt x="379" y="152"/>
                    </a:lnTo>
                    <a:lnTo>
                      <a:pt x="369" y="156"/>
                    </a:lnTo>
                    <a:lnTo>
                      <a:pt x="358" y="158"/>
                    </a:lnTo>
                    <a:lnTo>
                      <a:pt x="347" y="159"/>
                    </a:lnTo>
                    <a:lnTo>
                      <a:pt x="336" y="159"/>
                    </a:lnTo>
                    <a:lnTo>
                      <a:pt x="324" y="159"/>
                    </a:lnTo>
                    <a:lnTo>
                      <a:pt x="313" y="157"/>
                    </a:lnTo>
                    <a:lnTo>
                      <a:pt x="301" y="155"/>
                    </a:lnTo>
                    <a:lnTo>
                      <a:pt x="290" y="151"/>
                    </a:lnTo>
                    <a:lnTo>
                      <a:pt x="270" y="142"/>
                    </a:lnTo>
                    <a:lnTo>
                      <a:pt x="252" y="129"/>
                    </a:lnTo>
                    <a:lnTo>
                      <a:pt x="237" y="114"/>
                    </a:lnTo>
                    <a:lnTo>
                      <a:pt x="224" y="97"/>
                    </a:lnTo>
                    <a:lnTo>
                      <a:pt x="215" y="79"/>
                    </a:lnTo>
                    <a:lnTo>
                      <a:pt x="208" y="58"/>
                    </a:lnTo>
                    <a:lnTo>
                      <a:pt x="204" y="37"/>
                    </a:lnTo>
                    <a:lnTo>
                      <a:pt x="204" y="17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182960" y="2821320"/>
                <a:ext cx="137880" cy="172440"/>
              </a:xfrm>
              <a:custGeom>
                <a:avLst/>
                <a:gdLst/>
                <a:ahLst/>
                <a:rect l="l" t="t" r="r" b="b"/>
                <a:pathLst>
                  <a:path w="264" h="255">
                    <a:moveTo>
                      <a:pt x="16" y="125"/>
                    </a:moveTo>
                    <a:lnTo>
                      <a:pt x="43" y="136"/>
                    </a:lnTo>
                    <a:lnTo>
                      <a:pt x="67" y="148"/>
                    </a:lnTo>
                    <a:lnTo>
                      <a:pt x="90" y="163"/>
                    </a:lnTo>
                    <a:lnTo>
                      <a:pt x="111" y="178"/>
                    </a:lnTo>
                    <a:lnTo>
                      <a:pt x="129" y="197"/>
                    </a:lnTo>
                    <a:lnTo>
                      <a:pt x="147" y="215"/>
                    </a:lnTo>
                    <a:lnTo>
                      <a:pt x="163" y="235"/>
                    </a:lnTo>
                    <a:lnTo>
                      <a:pt x="175" y="255"/>
                    </a:lnTo>
                    <a:lnTo>
                      <a:pt x="188" y="250"/>
                    </a:lnTo>
                    <a:lnTo>
                      <a:pt x="201" y="243"/>
                    </a:lnTo>
                    <a:lnTo>
                      <a:pt x="212" y="235"/>
                    </a:lnTo>
                    <a:lnTo>
                      <a:pt x="224" y="226"/>
                    </a:lnTo>
                    <a:lnTo>
                      <a:pt x="233" y="215"/>
                    </a:lnTo>
                    <a:lnTo>
                      <a:pt x="242" y="204"/>
                    </a:lnTo>
                    <a:lnTo>
                      <a:pt x="250" y="191"/>
                    </a:lnTo>
                    <a:lnTo>
                      <a:pt x="256" y="177"/>
                    </a:lnTo>
                    <a:lnTo>
                      <a:pt x="263" y="152"/>
                    </a:lnTo>
                    <a:lnTo>
                      <a:pt x="264" y="126"/>
                    </a:lnTo>
                    <a:lnTo>
                      <a:pt x="261" y="101"/>
                    </a:lnTo>
                    <a:lnTo>
                      <a:pt x="253" y="77"/>
                    </a:lnTo>
                    <a:lnTo>
                      <a:pt x="240" y="55"/>
                    </a:lnTo>
                    <a:lnTo>
                      <a:pt x="224" y="37"/>
                    </a:lnTo>
                    <a:lnTo>
                      <a:pt x="203" y="21"/>
                    </a:lnTo>
                    <a:lnTo>
                      <a:pt x="179" y="8"/>
                    </a:lnTo>
                    <a:lnTo>
                      <a:pt x="154" y="1"/>
                    </a:lnTo>
                    <a:lnTo>
                      <a:pt x="127" y="0"/>
                    </a:lnTo>
                    <a:lnTo>
                      <a:pt x="102" y="3"/>
                    </a:lnTo>
                    <a:lnTo>
                      <a:pt x="79" y="11"/>
                    </a:lnTo>
                    <a:lnTo>
                      <a:pt x="56" y="24"/>
                    </a:lnTo>
                    <a:lnTo>
                      <a:pt x="37" y="40"/>
                    </a:lnTo>
                    <a:lnTo>
                      <a:pt x="21" y="61"/>
                    </a:lnTo>
                    <a:lnTo>
                      <a:pt x="8" y="85"/>
                    </a:lnTo>
                    <a:lnTo>
                      <a:pt x="5" y="93"/>
                    </a:lnTo>
                    <a:lnTo>
                      <a:pt x="3" y="102"/>
                    </a:lnTo>
                    <a:lnTo>
                      <a:pt x="1" y="110"/>
                    </a:lnTo>
                    <a:lnTo>
                      <a:pt x="0" y="120"/>
                    </a:lnTo>
                    <a:lnTo>
                      <a:pt x="5" y="121"/>
                    </a:lnTo>
                    <a:lnTo>
                      <a:pt x="8" y="122"/>
                    </a:lnTo>
                    <a:lnTo>
                      <a:pt x="12" y="124"/>
                    </a:lnTo>
                    <a:lnTo>
                      <a:pt x="16" y="125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182960" y="290232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0"/>
                    </a:moveTo>
                    <a:lnTo>
                      <a:pt x="0" y="20"/>
                    </a:lnTo>
                    <a:lnTo>
                      <a:pt x="4" y="41"/>
                    </a:lnTo>
                    <a:lnTo>
                      <a:pt x="11" y="62"/>
                    </a:lnTo>
                    <a:lnTo>
                      <a:pt x="20" y="80"/>
                    </a:lnTo>
                    <a:lnTo>
                      <a:pt x="33" y="97"/>
                    </a:lnTo>
                    <a:lnTo>
                      <a:pt x="48" y="112"/>
                    </a:lnTo>
                    <a:lnTo>
                      <a:pt x="66" y="125"/>
                    </a:lnTo>
                    <a:lnTo>
                      <a:pt x="86" y="134"/>
                    </a:lnTo>
                    <a:lnTo>
                      <a:pt x="97" y="138"/>
                    </a:lnTo>
                    <a:lnTo>
                      <a:pt x="109" y="140"/>
                    </a:lnTo>
                    <a:lnTo>
                      <a:pt x="120" y="142"/>
                    </a:lnTo>
                    <a:lnTo>
                      <a:pt x="132" y="142"/>
                    </a:lnTo>
                    <a:lnTo>
                      <a:pt x="143" y="142"/>
                    </a:lnTo>
                    <a:lnTo>
                      <a:pt x="154" y="141"/>
                    </a:lnTo>
                    <a:lnTo>
                      <a:pt x="165" y="139"/>
                    </a:lnTo>
                    <a:lnTo>
                      <a:pt x="175" y="135"/>
                    </a:lnTo>
                    <a:lnTo>
                      <a:pt x="163" y="115"/>
                    </a:lnTo>
                    <a:lnTo>
                      <a:pt x="147" y="95"/>
                    </a:lnTo>
                    <a:lnTo>
                      <a:pt x="129" y="77"/>
                    </a:lnTo>
                    <a:lnTo>
                      <a:pt x="111" y="58"/>
                    </a:lnTo>
                    <a:lnTo>
                      <a:pt x="90" y="43"/>
                    </a:lnTo>
                    <a:lnTo>
                      <a:pt x="67" y="28"/>
                    </a:lnTo>
                    <a:lnTo>
                      <a:pt x="43" y="1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6640" y="2779920"/>
                <a:ext cx="376560" cy="201600"/>
              </a:xfrm>
              <a:custGeom>
                <a:avLst/>
                <a:gdLst/>
                <a:ahLst/>
                <a:rect l="l" t="t" r="r" b="b"/>
                <a:pathLst>
                  <a:path w="719" h="299">
                    <a:moveTo>
                      <a:pt x="45" y="299"/>
                    </a:moveTo>
                    <a:lnTo>
                      <a:pt x="46" y="296"/>
                    </a:lnTo>
                    <a:lnTo>
                      <a:pt x="50" y="289"/>
                    </a:lnTo>
                    <a:lnTo>
                      <a:pt x="54" y="278"/>
                    </a:lnTo>
                    <a:lnTo>
                      <a:pt x="60" y="266"/>
                    </a:lnTo>
                    <a:lnTo>
                      <a:pt x="68" y="251"/>
                    </a:lnTo>
                    <a:lnTo>
                      <a:pt x="78" y="235"/>
                    </a:lnTo>
                    <a:lnTo>
                      <a:pt x="90" y="216"/>
                    </a:lnTo>
                    <a:lnTo>
                      <a:pt x="104" y="197"/>
                    </a:lnTo>
                    <a:lnTo>
                      <a:pt x="120" y="177"/>
                    </a:lnTo>
                    <a:lnTo>
                      <a:pt x="137" y="158"/>
                    </a:lnTo>
                    <a:lnTo>
                      <a:pt x="157" y="138"/>
                    </a:lnTo>
                    <a:lnTo>
                      <a:pt x="179" y="120"/>
                    </a:lnTo>
                    <a:lnTo>
                      <a:pt x="203" y="102"/>
                    </a:lnTo>
                    <a:lnTo>
                      <a:pt x="229" y="86"/>
                    </a:lnTo>
                    <a:lnTo>
                      <a:pt x="258" y="72"/>
                    </a:lnTo>
                    <a:lnTo>
                      <a:pt x="289" y="61"/>
                    </a:lnTo>
                    <a:lnTo>
                      <a:pt x="311" y="55"/>
                    </a:lnTo>
                    <a:lnTo>
                      <a:pt x="334" y="50"/>
                    </a:lnTo>
                    <a:lnTo>
                      <a:pt x="357" y="48"/>
                    </a:lnTo>
                    <a:lnTo>
                      <a:pt x="381" y="47"/>
                    </a:lnTo>
                    <a:lnTo>
                      <a:pt x="406" y="48"/>
                    </a:lnTo>
                    <a:lnTo>
                      <a:pt x="430" y="49"/>
                    </a:lnTo>
                    <a:lnTo>
                      <a:pt x="454" y="54"/>
                    </a:lnTo>
                    <a:lnTo>
                      <a:pt x="479" y="58"/>
                    </a:lnTo>
                    <a:lnTo>
                      <a:pt x="505" y="67"/>
                    </a:lnTo>
                    <a:lnTo>
                      <a:pt x="530" y="75"/>
                    </a:lnTo>
                    <a:lnTo>
                      <a:pt x="557" y="85"/>
                    </a:lnTo>
                    <a:lnTo>
                      <a:pt x="583" y="96"/>
                    </a:lnTo>
                    <a:lnTo>
                      <a:pt x="610" y="110"/>
                    </a:lnTo>
                    <a:lnTo>
                      <a:pt x="637" y="125"/>
                    </a:lnTo>
                    <a:lnTo>
                      <a:pt x="665" y="143"/>
                    </a:lnTo>
                    <a:lnTo>
                      <a:pt x="693" y="161"/>
                    </a:lnTo>
                    <a:lnTo>
                      <a:pt x="719" y="122"/>
                    </a:lnTo>
                    <a:lnTo>
                      <a:pt x="689" y="102"/>
                    </a:lnTo>
                    <a:lnTo>
                      <a:pt x="659" y="84"/>
                    </a:lnTo>
                    <a:lnTo>
                      <a:pt x="629" y="67"/>
                    </a:lnTo>
                    <a:lnTo>
                      <a:pt x="600" y="53"/>
                    </a:lnTo>
                    <a:lnTo>
                      <a:pt x="572" y="39"/>
                    </a:lnTo>
                    <a:lnTo>
                      <a:pt x="543" y="29"/>
                    </a:lnTo>
                    <a:lnTo>
                      <a:pt x="514" y="19"/>
                    </a:lnTo>
                    <a:lnTo>
                      <a:pt x="486" y="11"/>
                    </a:lnTo>
                    <a:lnTo>
                      <a:pt x="459" y="6"/>
                    </a:lnTo>
                    <a:lnTo>
                      <a:pt x="431" y="2"/>
                    </a:lnTo>
                    <a:lnTo>
                      <a:pt x="405" y="0"/>
                    </a:lnTo>
                    <a:lnTo>
                      <a:pt x="378" y="0"/>
                    </a:lnTo>
                    <a:lnTo>
                      <a:pt x="352" y="1"/>
                    </a:lnTo>
                    <a:lnTo>
                      <a:pt x="325" y="4"/>
                    </a:lnTo>
                    <a:lnTo>
                      <a:pt x="300" y="9"/>
                    </a:lnTo>
                    <a:lnTo>
                      <a:pt x="274" y="16"/>
                    </a:lnTo>
                    <a:lnTo>
                      <a:pt x="240" y="29"/>
                    </a:lnTo>
                    <a:lnTo>
                      <a:pt x="207" y="44"/>
                    </a:lnTo>
                    <a:lnTo>
                      <a:pt x="178" y="62"/>
                    </a:lnTo>
                    <a:lnTo>
                      <a:pt x="151" y="80"/>
                    </a:lnTo>
                    <a:lnTo>
                      <a:pt x="126" y="102"/>
                    </a:lnTo>
                    <a:lnTo>
                      <a:pt x="104" y="123"/>
                    </a:lnTo>
                    <a:lnTo>
                      <a:pt x="84" y="146"/>
                    </a:lnTo>
                    <a:lnTo>
                      <a:pt x="67" y="168"/>
                    </a:lnTo>
                    <a:lnTo>
                      <a:pt x="51" y="189"/>
                    </a:lnTo>
                    <a:lnTo>
                      <a:pt x="38" y="209"/>
                    </a:lnTo>
                    <a:lnTo>
                      <a:pt x="27" y="228"/>
                    </a:lnTo>
                    <a:lnTo>
                      <a:pt x="17" y="245"/>
                    </a:lnTo>
                    <a:lnTo>
                      <a:pt x="10" y="259"/>
                    </a:lnTo>
                    <a:lnTo>
                      <a:pt x="5" y="270"/>
                    </a:lnTo>
                    <a:lnTo>
                      <a:pt x="1" y="278"/>
                    </a:lnTo>
                    <a:lnTo>
                      <a:pt x="0" y="282"/>
                    </a:lnTo>
                    <a:lnTo>
                      <a:pt x="45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1120" y="2968200"/>
                <a:ext cx="126360" cy="124920"/>
              </a:xfrm>
              <a:custGeom>
                <a:avLst/>
                <a:gdLst/>
                <a:ahLst/>
                <a:rect l="l" t="t" r="r" b="b"/>
                <a:pathLst>
                  <a:path w="243" h="185">
                    <a:moveTo>
                      <a:pt x="25" y="0"/>
                    </a:moveTo>
                    <a:lnTo>
                      <a:pt x="27" y="1"/>
                    </a:lnTo>
                    <a:lnTo>
                      <a:pt x="34" y="3"/>
                    </a:lnTo>
                    <a:lnTo>
                      <a:pt x="45" y="7"/>
                    </a:lnTo>
                    <a:lnTo>
                      <a:pt x="59" y="11"/>
                    </a:lnTo>
                    <a:lnTo>
                      <a:pt x="75" y="17"/>
                    </a:lnTo>
                    <a:lnTo>
                      <a:pt x="94" y="23"/>
                    </a:lnTo>
                    <a:lnTo>
                      <a:pt x="113" y="30"/>
                    </a:lnTo>
                    <a:lnTo>
                      <a:pt x="134" y="36"/>
                    </a:lnTo>
                    <a:lnTo>
                      <a:pt x="155" y="43"/>
                    </a:lnTo>
                    <a:lnTo>
                      <a:pt x="174" y="50"/>
                    </a:lnTo>
                    <a:lnTo>
                      <a:pt x="193" y="57"/>
                    </a:lnTo>
                    <a:lnTo>
                      <a:pt x="209" y="63"/>
                    </a:lnTo>
                    <a:lnTo>
                      <a:pt x="223" y="68"/>
                    </a:lnTo>
                    <a:lnTo>
                      <a:pt x="234" y="71"/>
                    </a:lnTo>
                    <a:lnTo>
                      <a:pt x="241" y="73"/>
                    </a:lnTo>
                    <a:lnTo>
                      <a:pt x="243" y="74"/>
                    </a:lnTo>
                    <a:lnTo>
                      <a:pt x="241" y="79"/>
                    </a:lnTo>
                    <a:lnTo>
                      <a:pt x="239" y="87"/>
                    </a:lnTo>
                    <a:lnTo>
                      <a:pt x="235" y="96"/>
                    </a:lnTo>
                    <a:lnTo>
                      <a:pt x="233" y="101"/>
                    </a:lnTo>
                    <a:lnTo>
                      <a:pt x="233" y="101"/>
                    </a:lnTo>
                    <a:lnTo>
                      <a:pt x="226" y="117"/>
                    </a:lnTo>
                    <a:lnTo>
                      <a:pt x="219" y="133"/>
                    </a:lnTo>
                    <a:lnTo>
                      <a:pt x="211" y="147"/>
                    </a:lnTo>
                    <a:lnTo>
                      <a:pt x="203" y="161"/>
                    </a:lnTo>
                    <a:lnTo>
                      <a:pt x="194" y="171"/>
                    </a:lnTo>
                    <a:lnTo>
                      <a:pt x="187" y="179"/>
                    </a:lnTo>
                    <a:lnTo>
                      <a:pt x="179" y="185"/>
                    </a:lnTo>
                    <a:lnTo>
                      <a:pt x="173" y="185"/>
                    </a:lnTo>
                    <a:lnTo>
                      <a:pt x="166" y="173"/>
                    </a:lnTo>
                    <a:lnTo>
                      <a:pt x="166" y="150"/>
                    </a:lnTo>
                    <a:lnTo>
                      <a:pt x="170" y="121"/>
                    </a:lnTo>
                    <a:lnTo>
                      <a:pt x="177" y="89"/>
                    </a:lnTo>
                    <a:lnTo>
                      <a:pt x="170" y="106"/>
                    </a:lnTo>
                    <a:lnTo>
                      <a:pt x="163" y="122"/>
                    </a:lnTo>
                    <a:lnTo>
                      <a:pt x="155" y="135"/>
                    </a:lnTo>
                    <a:lnTo>
                      <a:pt x="147" y="149"/>
                    </a:lnTo>
                    <a:lnTo>
                      <a:pt x="137" y="160"/>
                    </a:lnTo>
                    <a:lnTo>
                      <a:pt x="131" y="168"/>
                    </a:lnTo>
                    <a:lnTo>
                      <a:pt x="122" y="173"/>
                    </a:lnTo>
                    <a:lnTo>
                      <a:pt x="117" y="173"/>
                    </a:lnTo>
                    <a:lnTo>
                      <a:pt x="110" y="162"/>
                    </a:lnTo>
                    <a:lnTo>
                      <a:pt x="110" y="137"/>
                    </a:lnTo>
                    <a:lnTo>
                      <a:pt x="113" y="104"/>
                    </a:lnTo>
                    <a:lnTo>
                      <a:pt x="122" y="71"/>
                    </a:lnTo>
                    <a:lnTo>
                      <a:pt x="116" y="86"/>
                    </a:lnTo>
                    <a:lnTo>
                      <a:pt x="109" y="101"/>
                    </a:lnTo>
                    <a:lnTo>
                      <a:pt x="101" y="115"/>
                    </a:lnTo>
                    <a:lnTo>
                      <a:pt x="93" y="126"/>
                    </a:lnTo>
                    <a:lnTo>
                      <a:pt x="84" y="137"/>
                    </a:lnTo>
                    <a:lnTo>
                      <a:pt x="78" y="145"/>
                    </a:lnTo>
                    <a:lnTo>
                      <a:pt x="71" y="149"/>
                    </a:lnTo>
                    <a:lnTo>
                      <a:pt x="65" y="149"/>
                    </a:lnTo>
                    <a:lnTo>
                      <a:pt x="58" y="138"/>
                    </a:lnTo>
                    <a:lnTo>
                      <a:pt x="58" y="115"/>
                    </a:lnTo>
                    <a:lnTo>
                      <a:pt x="61" y="85"/>
                    </a:lnTo>
                    <a:lnTo>
                      <a:pt x="68" y="54"/>
                    </a:lnTo>
                    <a:lnTo>
                      <a:pt x="61" y="70"/>
                    </a:lnTo>
                    <a:lnTo>
                      <a:pt x="54" y="86"/>
                    </a:lnTo>
                    <a:lnTo>
                      <a:pt x="46" y="100"/>
                    </a:lnTo>
                    <a:lnTo>
                      <a:pt x="38" y="114"/>
                    </a:lnTo>
                    <a:lnTo>
                      <a:pt x="29" y="124"/>
                    </a:lnTo>
                    <a:lnTo>
                      <a:pt x="22" y="132"/>
                    </a:lnTo>
                    <a:lnTo>
                      <a:pt x="14" y="138"/>
                    </a:lnTo>
                    <a:lnTo>
                      <a:pt x="8" y="138"/>
                    </a:lnTo>
                    <a:lnTo>
                      <a:pt x="1" y="125"/>
                    </a:lnTo>
                    <a:lnTo>
                      <a:pt x="0" y="97"/>
                    </a:lnTo>
                    <a:lnTo>
                      <a:pt x="6" y="64"/>
                    </a:lnTo>
                    <a:lnTo>
                      <a:pt x="16" y="27"/>
                    </a:lnTo>
                    <a:lnTo>
                      <a:pt x="18" y="21"/>
                    </a:lnTo>
                    <a:lnTo>
                      <a:pt x="21" y="13"/>
                    </a:lnTo>
                    <a:lnTo>
                      <a:pt x="2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72760" y="2114280"/>
                <a:ext cx="153360" cy="184680"/>
              </a:xfrm>
              <a:custGeom>
                <a:avLst/>
                <a:gdLst/>
                <a:ahLst/>
                <a:rect l="l" t="t" r="r" b="b"/>
                <a:pathLst>
                  <a:path w="293" h="275">
                    <a:moveTo>
                      <a:pt x="48" y="275"/>
                    </a:moveTo>
                    <a:lnTo>
                      <a:pt x="50" y="274"/>
                    </a:lnTo>
                    <a:lnTo>
                      <a:pt x="58" y="272"/>
                    </a:lnTo>
                    <a:lnTo>
                      <a:pt x="71" y="270"/>
                    </a:lnTo>
                    <a:lnTo>
                      <a:pt x="86" y="267"/>
                    </a:lnTo>
                    <a:lnTo>
                      <a:pt x="104" y="263"/>
                    </a:lnTo>
                    <a:lnTo>
                      <a:pt x="125" y="259"/>
                    </a:lnTo>
                    <a:lnTo>
                      <a:pt x="148" y="254"/>
                    </a:lnTo>
                    <a:lnTo>
                      <a:pt x="171" y="248"/>
                    </a:lnTo>
                    <a:lnTo>
                      <a:pt x="193" y="244"/>
                    </a:lnTo>
                    <a:lnTo>
                      <a:pt x="216" y="239"/>
                    </a:lnTo>
                    <a:lnTo>
                      <a:pt x="237" y="234"/>
                    </a:lnTo>
                    <a:lnTo>
                      <a:pt x="255" y="231"/>
                    </a:lnTo>
                    <a:lnTo>
                      <a:pt x="270" y="228"/>
                    </a:lnTo>
                    <a:lnTo>
                      <a:pt x="283" y="225"/>
                    </a:lnTo>
                    <a:lnTo>
                      <a:pt x="291" y="224"/>
                    </a:lnTo>
                    <a:lnTo>
                      <a:pt x="293" y="223"/>
                    </a:lnTo>
                    <a:lnTo>
                      <a:pt x="291" y="216"/>
                    </a:lnTo>
                    <a:lnTo>
                      <a:pt x="289" y="206"/>
                    </a:lnTo>
                    <a:lnTo>
                      <a:pt x="287" y="196"/>
                    </a:lnTo>
                    <a:lnTo>
                      <a:pt x="285" y="192"/>
                    </a:lnTo>
                    <a:lnTo>
                      <a:pt x="280" y="173"/>
                    </a:lnTo>
                    <a:lnTo>
                      <a:pt x="273" y="156"/>
                    </a:lnTo>
                    <a:lnTo>
                      <a:pt x="266" y="139"/>
                    </a:lnTo>
                    <a:lnTo>
                      <a:pt x="258" y="125"/>
                    </a:lnTo>
                    <a:lnTo>
                      <a:pt x="250" y="112"/>
                    </a:lnTo>
                    <a:lnTo>
                      <a:pt x="243" y="103"/>
                    </a:lnTo>
                    <a:lnTo>
                      <a:pt x="236" y="99"/>
                    </a:lnTo>
                    <a:lnTo>
                      <a:pt x="229" y="97"/>
                    </a:lnTo>
                    <a:lnTo>
                      <a:pt x="221" y="108"/>
                    </a:lnTo>
                    <a:lnTo>
                      <a:pt x="217" y="130"/>
                    </a:lnTo>
                    <a:lnTo>
                      <a:pt x="217" y="162"/>
                    </a:lnTo>
                    <a:lnTo>
                      <a:pt x="222" y="196"/>
                    </a:lnTo>
                    <a:lnTo>
                      <a:pt x="216" y="178"/>
                    </a:lnTo>
                    <a:lnTo>
                      <a:pt x="209" y="160"/>
                    </a:lnTo>
                    <a:lnTo>
                      <a:pt x="202" y="141"/>
                    </a:lnTo>
                    <a:lnTo>
                      <a:pt x="194" y="126"/>
                    </a:lnTo>
                    <a:lnTo>
                      <a:pt x="186" y="112"/>
                    </a:lnTo>
                    <a:lnTo>
                      <a:pt x="179" y="102"/>
                    </a:lnTo>
                    <a:lnTo>
                      <a:pt x="172" y="96"/>
                    </a:lnTo>
                    <a:lnTo>
                      <a:pt x="166" y="95"/>
                    </a:lnTo>
                    <a:lnTo>
                      <a:pt x="156" y="107"/>
                    </a:lnTo>
                    <a:lnTo>
                      <a:pt x="153" y="134"/>
                    </a:lnTo>
                    <a:lnTo>
                      <a:pt x="155" y="170"/>
                    </a:lnTo>
                    <a:lnTo>
                      <a:pt x="161" y="209"/>
                    </a:lnTo>
                    <a:lnTo>
                      <a:pt x="155" y="192"/>
                    </a:lnTo>
                    <a:lnTo>
                      <a:pt x="148" y="173"/>
                    </a:lnTo>
                    <a:lnTo>
                      <a:pt x="141" y="155"/>
                    </a:lnTo>
                    <a:lnTo>
                      <a:pt x="133" y="139"/>
                    </a:lnTo>
                    <a:lnTo>
                      <a:pt x="125" y="125"/>
                    </a:lnTo>
                    <a:lnTo>
                      <a:pt x="117" y="114"/>
                    </a:lnTo>
                    <a:lnTo>
                      <a:pt x="110" y="107"/>
                    </a:lnTo>
                    <a:lnTo>
                      <a:pt x="104" y="105"/>
                    </a:lnTo>
                    <a:lnTo>
                      <a:pt x="95" y="116"/>
                    </a:lnTo>
                    <a:lnTo>
                      <a:pt x="92" y="139"/>
                    </a:lnTo>
                    <a:lnTo>
                      <a:pt x="92" y="170"/>
                    </a:lnTo>
                    <a:lnTo>
                      <a:pt x="96" y="206"/>
                    </a:lnTo>
                    <a:lnTo>
                      <a:pt x="91" y="181"/>
                    </a:lnTo>
                    <a:lnTo>
                      <a:pt x="81" y="150"/>
                    </a:lnTo>
                    <a:lnTo>
                      <a:pt x="71" y="115"/>
                    </a:lnTo>
                    <a:lnTo>
                      <a:pt x="58" y="78"/>
                    </a:lnTo>
                    <a:lnTo>
                      <a:pt x="46" y="44"/>
                    </a:lnTo>
                    <a:lnTo>
                      <a:pt x="32" y="18"/>
                    </a:lnTo>
                    <a:lnTo>
                      <a:pt x="19" y="2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49"/>
                    </a:lnTo>
                    <a:lnTo>
                      <a:pt x="5" y="93"/>
                    </a:lnTo>
                    <a:lnTo>
                      <a:pt x="16" y="142"/>
                    </a:lnTo>
                    <a:lnTo>
                      <a:pt x="26" y="191"/>
                    </a:lnTo>
                    <a:lnTo>
                      <a:pt x="36" y="232"/>
                    </a:lnTo>
                    <a:lnTo>
                      <a:pt x="45" y="262"/>
                    </a:lnTo>
                    <a:lnTo>
                      <a:pt x="48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52920" y="2043000"/>
                <a:ext cx="255960" cy="259920"/>
              </a:xfrm>
              <a:custGeom>
                <a:avLst/>
                <a:gdLst/>
                <a:ahLst/>
                <a:rect l="l" t="t" r="r" b="b"/>
                <a:pathLst>
                  <a:path w="491" h="386">
                    <a:moveTo>
                      <a:pt x="362" y="261"/>
                    </a:moveTo>
                    <a:lnTo>
                      <a:pt x="219" y="49"/>
                    </a:lnTo>
                    <a:lnTo>
                      <a:pt x="221" y="293"/>
                    </a:lnTo>
                    <a:lnTo>
                      <a:pt x="0" y="149"/>
                    </a:lnTo>
                    <a:lnTo>
                      <a:pt x="137" y="386"/>
                    </a:lnTo>
                    <a:lnTo>
                      <a:pt x="491" y="273"/>
                    </a:lnTo>
                    <a:lnTo>
                      <a:pt x="464" y="0"/>
                    </a:lnTo>
                    <a:lnTo>
                      <a:pt x="362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3760" y="2084400"/>
                <a:ext cx="34200" cy="442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43" y="64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5" y="36"/>
                    </a:lnTo>
                    <a:lnTo>
                      <a:pt x="64" y="23"/>
                    </a:lnTo>
                    <a:lnTo>
                      <a:pt x="62" y="16"/>
                    </a:lnTo>
                    <a:lnTo>
                      <a:pt x="58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3" y="49"/>
                    </a:lnTo>
                    <a:lnTo>
                      <a:pt x="8" y="54"/>
                    </a:lnTo>
                    <a:lnTo>
                      <a:pt x="12" y="59"/>
                    </a:lnTo>
                    <a:lnTo>
                      <a:pt x="17" y="62"/>
                    </a:lnTo>
                    <a:lnTo>
                      <a:pt x="24" y="64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74680" y="19810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44" y="65"/>
                    </a:moveTo>
                    <a:lnTo>
                      <a:pt x="56" y="58"/>
                    </a:lnTo>
                    <a:lnTo>
                      <a:pt x="64" y="48"/>
                    </a:lnTo>
                    <a:lnTo>
                      <a:pt x="67" y="35"/>
                    </a:lnTo>
                    <a:lnTo>
                      <a:pt x="66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2" y="8"/>
                    </a:lnTo>
                    <a:lnTo>
                      <a:pt x="4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3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4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042560" y="2018520"/>
                <a:ext cx="34560" cy="442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44" y="66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7" y="36"/>
                    </a:lnTo>
                    <a:lnTo>
                      <a:pt x="66" y="23"/>
                    </a:lnTo>
                    <a:lnTo>
                      <a:pt x="63" y="17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3" y="49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3"/>
                    </a:lnTo>
                    <a:lnTo>
                      <a:pt x="24" y="66"/>
                    </a:lnTo>
                    <a:lnTo>
                      <a:pt x="31" y="67"/>
                    </a:lnTo>
                    <a:lnTo>
                      <a:pt x="37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29240" y="2246400"/>
                <a:ext cx="201600" cy="138600"/>
              </a:xfrm>
              <a:custGeom>
                <a:avLst/>
                <a:gdLst/>
                <a:ahLst/>
                <a:rect l="l" t="t" r="r" b="b"/>
                <a:pathLst>
                  <a:path w="388" h="207">
                    <a:moveTo>
                      <a:pt x="388" y="88"/>
                    </a:moveTo>
                    <a:lnTo>
                      <a:pt x="360" y="0"/>
                    </a:lnTo>
                    <a:lnTo>
                      <a:pt x="0" y="116"/>
                    </a:lnTo>
                    <a:lnTo>
                      <a:pt x="29" y="207"/>
                    </a:lnTo>
                    <a:lnTo>
                      <a:pt x="38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46880" y="2317680"/>
                <a:ext cx="200880" cy="131760"/>
              </a:xfrm>
              <a:custGeom>
                <a:avLst/>
                <a:gdLst/>
                <a:ahLst/>
                <a:rect l="l" t="t" r="r" b="b"/>
                <a:pathLst>
                  <a:path w="385" h="197">
                    <a:moveTo>
                      <a:pt x="0" y="118"/>
                    </a:moveTo>
                    <a:lnTo>
                      <a:pt x="25" y="197"/>
                    </a:lnTo>
                    <a:lnTo>
                      <a:pt x="385" y="82"/>
                    </a:lnTo>
                    <a:lnTo>
                      <a:pt x="358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45360" y="2796120"/>
                <a:ext cx="664200" cy="752760"/>
              </a:xfrm>
              <a:custGeom>
                <a:avLst/>
                <a:gdLst/>
                <a:ahLst/>
                <a:rect l="l" t="t" r="r" b="b"/>
                <a:pathLst>
                  <a:path w="1270" h="1118">
                    <a:moveTo>
                      <a:pt x="521" y="0"/>
                    </a:moveTo>
                    <a:lnTo>
                      <a:pt x="1006" y="602"/>
                    </a:lnTo>
                    <a:lnTo>
                      <a:pt x="1270" y="586"/>
                    </a:lnTo>
                    <a:lnTo>
                      <a:pt x="897" y="908"/>
                    </a:lnTo>
                    <a:lnTo>
                      <a:pt x="555" y="515"/>
                    </a:lnTo>
                    <a:lnTo>
                      <a:pt x="290" y="887"/>
                    </a:lnTo>
                    <a:lnTo>
                      <a:pt x="349" y="1118"/>
                    </a:lnTo>
                    <a:lnTo>
                      <a:pt x="0" y="827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69480" y="2708280"/>
                <a:ext cx="525960" cy="51588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421" y="9"/>
                    </a:moveTo>
                    <a:lnTo>
                      <a:pt x="429" y="15"/>
                    </a:lnTo>
                    <a:lnTo>
                      <a:pt x="438" y="21"/>
                    </a:lnTo>
                    <a:lnTo>
                      <a:pt x="446" y="25"/>
                    </a:lnTo>
                    <a:lnTo>
                      <a:pt x="457" y="29"/>
                    </a:lnTo>
                    <a:lnTo>
                      <a:pt x="466" y="31"/>
                    </a:lnTo>
                    <a:lnTo>
                      <a:pt x="477" y="33"/>
                    </a:lnTo>
                    <a:lnTo>
                      <a:pt x="490" y="34"/>
                    </a:lnTo>
                    <a:lnTo>
                      <a:pt x="503" y="34"/>
                    </a:lnTo>
                    <a:lnTo>
                      <a:pt x="515" y="33"/>
                    </a:lnTo>
                    <a:lnTo>
                      <a:pt x="527" y="31"/>
                    </a:lnTo>
                    <a:lnTo>
                      <a:pt x="539" y="27"/>
                    </a:lnTo>
                    <a:lnTo>
                      <a:pt x="550" y="23"/>
                    </a:lnTo>
                    <a:lnTo>
                      <a:pt x="560" y="17"/>
                    </a:lnTo>
                    <a:lnTo>
                      <a:pt x="570" y="11"/>
                    </a:lnTo>
                    <a:lnTo>
                      <a:pt x="579" y="6"/>
                    </a:lnTo>
                    <a:lnTo>
                      <a:pt x="587" y="0"/>
                    </a:lnTo>
                    <a:lnTo>
                      <a:pt x="1005" y="555"/>
                    </a:lnTo>
                    <a:lnTo>
                      <a:pt x="955" y="597"/>
                    </a:lnTo>
                    <a:lnTo>
                      <a:pt x="904" y="635"/>
                    </a:lnTo>
                    <a:lnTo>
                      <a:pt x="854" y="668"/>
                    </a:lnTo>
                    <a:lnTo>
                      <a:pt x="805" y="694"/>
                    </a:lnTo>
                    <a:lnTo>
                      <a:pt x="756" y="716"/>
                    </a:lnTo>
                    <a:lnTo>
                      <a:pt x="709" y="735"/>
                    </a:lnTo>
                    <a:lnTo>
                      <a:pt x="663" y="748"/>
                    </a:lnTo>
                    <a:lnTo>
                      <a:pt x="617" y="758"/>
                    </a:lnTo>
                    <a:lnTo>
                      <a:pt x="573" y="763"/>
                    </a:lnTo>
                    <a:lnTo>
                      <a:pt x="529" y="766"/>
                    </a:lnTo>
                    <a:lnTo>
                      <a:pt x="488" y="766"/>
                    </a:lnTo>
                    <a:lnTo>
                      <a:pt x="446" y="762"/>
                    </a:lnTo>
                    <a:lnTo>
                      <a:pt x="407" y="756"/>
                    </a:lnTo>
                    <a:lnTo>
                      <a:pt x="369" y="748"/>
                    </a:lnTo>
                    <a:lnTo>
                      <a:pt x="332" y="738"/>
                    </a:lnTo>
                    <a:lnTo>
                      <a:pt x="298" y="725"/>
                    </a:lnTo>
                    <a:lnTo>
                      <a:pt x="264" y="713"/>
                    </a:lnTo>
                    <a:lnTo>
                      <a:pt x="232" y="698"/>
                    </a:lnTo>
                    <a:lnTo>
                      <a:pt x="202" y="683"/>
                    </a:lnTo>
                    <a:lnTo>
                      <a:pt x="174" y="667"/>
                    </a:lnTo>
                    <a:lnTo>
                      <a:pt x="148" y="650"/>
                    </a:lnTo>
                    <a:lnTo>
                      <a:pt x="124" y="634"/>
                    </a:lnTo>
                    <a:lnTo>
                      <a:pt x="101" y="618"/>
                    </a:lnTo>
                    <a:lnTo>
                      <a:pt x="80" y="602"/>
                    </a:lnTo>
                    <a:lnTo>
                      <a:pt x="63" y="587"/>
                    </a:lnTo>
                    <a:lnTo>
                      <a:pt x="47" y="573"/>
                    </a:lnTo>
                    <a:lnTo>
                      <a:pt x="33" y="562"/>
                    </a:lnTo>
                    <a:lnTo>
                      <a:pt x="21" y="550"/>
                    </a:lnTo>
                    <a:lnTo>
                      <a:pt x="12" y="542"/>
                    </a:lnTo>
                    <a:lnTo>
                      <a:pt x="6" y="535"/>
                    </a:lnTo>
                    <a:lnTo>
                      <a:pt x="2" y="531"/>
                    </a:lnTo>
                    <a:lnTo>
                      <a:pt x="0" y="53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14280" y="28040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50" y="36"/>
                    </a:lnTo>
                    <a:lnTo>
                      <a:pt x="52" y="26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7" y="9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6" y="51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16440" y="29358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6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49" y="36"/>
                    </a:lnTo>
                    <a:lnTo>
                      <a:pt x="52" y="26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0"/>
                    </a:lnTo>
                    <a:lnTo>
                      <a:pt x="15" y="3"/>
                    </a:lnTo>
                    <a:lnTo>
                      <a:pt x="7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8" y="44"/>
                    </a:lnTo>
                    <a:lnTo>
                      <a:pt x="16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021680" y="2387880"/>
                <a:ext cx="321120" cy="345960"/>
              </a:xfrm>
              <a:custGeom>
                <a:avLst/>
                <a:gdLst/>
                <a:ahLst/>
                <a:rect l="l" t="t" r="r" b="b"/>
                <a:pathLst>
                  <a:path w="615" h="514">
                    <a:moveTo>
                      <a:pt x="407" y="12"/>
                    </a:moveTo>
                    <a:lnTo>
                      <a:pt x="425" y="18"/>
                    </a:lnTo>
                    <a:lnTo>
                      <a:pt x="441" y="28"/>
                    </a:lnTo>
                    <a:lnTo>
                      <a:pt x="457" y="37"/>
                    </a:lnTo>
                    <a:lnTo>
                      <a:pt x="473" y="48"/>
                    </a:lnTo>
                    <a:lnTo>
                      <a:pt x="488" y="61"/>
                    </a:lnTo>
                    <a:lnTo>
                      <a:pt x="502" y="76"/>
                    </a:lnTo>
                    <a:lnTo>
                      <a:pt x="516" y="91"/>
                    </a:lnTo>
                    <a:lnTo>
                      <a:pt x="528" y="108"/>
                    </a:lnTo>
                    <a:lnTo>
                      <a:pt x="535" y="119"/>
                    </a:lnTo>
                    <a:lnTo>
                      <a:pt x="541" y="130"/>
                    </a:lnTo>
                    <a:lnTo>
                      <a:pt x="546" y="141"/>
                    </a:lnTo>
                    <a:lnTo>
                      <a:pt x="550" y="152"/>
                    </a:lnTo>
                    <a:lnTo>
                      <a:pt x="608" y="142"/>
                    </a:lnTo>
                    <a:lnTo>
                      <a:pt x="615" y="188"/>
                    </a:lnTo>
                    <a:lnTo>
                      <a:pt x="560" y="200"/>
                    </a:lnTo>
                    <a:lnTo>
                      <a:pt x="561" y="214"/>
                    </a:lnTo>
                    <a:lnTo>
                      <a:pt x="562" y="229"/>
                    </a:lnTo>
                    <a:lnTo>
                      <a:pt x="561" y="244"/>
                    </a:lnTo>
                    <a:lnTo>
                      <a:pt x="560" y="257"/>
                    </a:lnTo>
                    <a:lnTo>
                      <a:pt x="407" y="251"/>
                    </a:lnTo>
                    <a:lnTo>
                      <a:pt x="407" y="305"/>
                    </a:lnTo>
                    <a:lnTo>
                      <a:pt x="525" y="313"/>
                    </a:lnTo>
                    <a:lnTo>
                      <a:pt x="518" y="325"/>
                    </a:lnTo>
                    <a:lnTo>
                      <a:pt x="512" y="336"/>
                    </a:lnTo>
                    <a:lnTo>
                      <a:pt x="505" y="347"/>
                    </a:lnTo>
                    <a:lnTo>
                      <a:pt x="498" y="356"/>
                    </a:lnTo>
                    <a:lnTo>
                      <a:pt x="490" y="366"/>
                    </a:lnTo>
                    <a:lnTo>
                      <a:pt x="481" y="374"/>
                    </a:lnTo>
                    <a:lnTo>
                      <a:pt x="472" y="384"/>
                    </a:lnTo>
                    <a:lnTo>
                      <a:pt x="460" y="392"/>
                    </a:lnTo>
                    <a:lnTo>
                      <a:pt x="442" y="403"/>
                    </a:lnTo>
                    <a:lnTo>
                      <a:pt x="422" y="412"/>
                    </a:lnTo>
                    <a:lnTo>
                      <a:pt x="403" y="419"/>
                    </a:lnTo>
                    <a:lnTo>
                      <a:pt x="382" y="425"/>
                    </a:lnTo>
                    <a:lnTo>
                      <a:pt x="362" y="428"/>
                    </a:lnTo>
                    <a:lnTo>
                      <a:pt x="343" y="430"/>
                    </a:lnTo>
                    <a:lnTo>
                      <a:pt x="323" y="430"/>
                    </a:lnTo>
                    <a:lnTo>
                      <a:pt x="304" y="427"/>
                    </a:lnTo>
                    <a:lnTo>
                      <a:pt x="295" y="447"/>
                    </a:lnTo>
                    <a:lnTo>
                      <a:pt x="283" y="463"/>
                    </a:lnTo>
                    <a:lnTo>
                      <a:pt x="270" y="477"/>
                    </a:lnTo>
                    <a:lnTo>
                      <a:pt x="254" y="488"/>
                    </a:lnTo>
                    <a:lnTo>
                      <a:pt x="238" y="498"/>
                    </a:lnTo>
                    <a:lnTo>
                      <a:pt x="221" y="504"/>
                    </a:lnTo>
                    <a:lnTo>
                      <a:pt x="205" y="510"/>
                    </a:lnTo>
                    <a:lnTo>
                      <a:pt x="187" y="513"/>
                    </a:lnTo>
                    <a:lnTo>
                      <a:pt x="161" y="514"/>
                    </a:lnTo>
                    <a:lnTo>
                      <a:pt x="137" y="513"/>
                    </a:lnTo>
                    <a:lnTo>
                      <a:pt x="115" y="508"/>
                    </a:lnTo>
                    <a:lnTo>
                      <a:pt x="96" y="501"/>
                    </a:lnTo>
                    <a:lnTo>
                      <a:pt x="78" y="493"/>
                    </a:lnTo>
                    <a:lnTo>
                      <a:pt x="63" y="483"/>
                    </a:lnTo>
                    <a:lnTo>
                      <a:pt x="50" y="471"/>
                    </a:lnTo>
                    <a:lnTo>
                      <a:pt x="39" y="460"/>
                    </a:lnTo>
                    <a:lnTo>
                      <a:pt x="28" y="448"/>
                    </a:lnTo>
                    <a:lnTo>
                      <a:pt x="20" y="437"/>
                    </a:lnTo>
                    <a:lnTo>
                      <a:pt x="13" y="425"/>
                    </a:lnTo>
                    <a:lnTo>
                      <a:pt x="8" y="415"/>
                    </a:lnTo>
                    <a:lnTo>
                      <a:pt x="4" y="407"/>
                    </a:lnTo>
                    <a:lnTo>
                      <a:pt x="2" y="400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46" y="405"/>
                    </a:lnTo>
                    <a:lnTo>
                      <a:pt x="77" y="403"/>
                    </a:lnTo>
                    <a:lnTo>
                      <a:pt x="93" y="393"/>
                    </a:lnTo>
                    <a:lnTo>
                      <a:pt x="100" y="375"/>
                    </a:lnTo>
                    <a:lnTo>
                      <a:pt x="100" y="357"/>
                    </a:lnTo>
                    <a:lnTo>
                      <a:pt x="96" y="339"/>
                    </a:lnTo>
                    <a:lnTo>
                      <a:pt x="92" y="326"/>
                    </a:lnTo>
                    <a:lnTo>
                      <a:pt x="89" y="320"/>
                    </a:lnTo>
                    <a:lnTo>
                      <a:pt x="91" y="319"/>
                    </a:lnTo>
                    <a:lnTo>
                      <a:pt x="78" y="282"/>
                    </a:lnTo>
                    <a:lnTo>
                      <a:pt x="71" y="243"/>
                    </a:lnTo>
                    <a:lnTo>
                      <a:pt x="72" y="205"/>
                    </a:lnTo>
                    <a:lnTo>
                      <a:pt x="80" y="167"/>
                    </a:lnTo>
                    <a:lnTo>
                      <a:pt x="95" y="130"/>
                    </a:lnTo>
                    <a:lnTo>
                      <a:pt x="116" y="96"/>
                    </a:lnTo>
                    <a:lnTo>
                      <a:pt x="142" y="66"/>
                    </a:lnTo>
                    <a:lnTo>
                      <a:pt x="176" y="39"/>
                    </a:lnTo>
                    <a:lnTo>
                      <a:pt x="184" y="35"/>
                    </a:lnTo>
                    <a:lnTo>
                      <a:pt x="192" y="30"/>
                    </a:lnTo>
                    <a:lnTo>
                      <a:pt x="201" y="25"/>
                    </a:lnTo>
                    <a:lnTo>
                      <a:pt x="209" y="21"/>
                    </a:lnTo>
                    <a:lnTo>
                      <a:pt x="218" y="17"/>
                    </a:lnTo>
                    <a:lnTo>
                      <a:pt x="227" y="14"/>
                    </a:lnTo>
                    <a:lnTo>
                      <a:pt x="236" y="10"/>
                    </a:lnTo>
                    <a:lnTo>
                      <a:pt x="244" y="8"/>
                    </a:lnTo>
                    <a:lnTo>
                      <a:pt x="250" y="7"/>
                    </a:lnTo>
                    <a:lnTo>
                      <a:pt x="263" y="6"/>
                    </a:lnTo>
                    <a:lnTo>
                      <a:pt x="284" y="2"/>
                    </a:lnTo>
                    <a:lnTo>
                      <a:pt x="309" y="1"/>
                    </a:lnTo>
                    <a:lnTo>
                      <a:pt x="336" y="0"/>
                    </a:lnTo>
                    <a:lnTo>
                      <a:pt x="364" y="1"/>
                    </a:lnTo>
                    <a:lnTo>
                      <a:pt x="388" y="5"/>
                    </a:lnTo>
                    <a:lnTo>
                      <a:pt x="40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37320" y="245124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5"/>
                    </a:lnTo>
                    <a:lnTo>
                      <a:pt x="8" y="7"/>
                    </a:lnTo>
                    <a:lnTo>
                      <a:pt x="16" y="3"/>
                    </a:lnTo>
                    <a:lnTo>
                      <a:pt x="25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5640" y="2388960"/>
                <a:ext cx="26280" cy="349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79080" y="2312280"/>
                <a:ext cx="374400" cy="649080"/>
              </a:xfrm>
              <a:custGeom>
                <a:avLst/>
                <a:gdLst/>
                <a:ahLst/>
                <a:rect l="l" t="t" r="r" b="b"/>
                <a:pathLst>
                  <a:path w="714" h="963">
                    <a:moveTo>
                      <a:pt x="530" y="14"/>
                    </a:moveTo>
                    <a:lnTo>
                      <a:pt x="559" y="54"/>
                    </a:lnTo>
                    <a:lnTo>
                      <a:pt x="586" y="98"/>
                    </a:lnTo>
                    <a:lnTo>
                      <a:pt x="610" y="143"/>
                    </a:lnTo>
                    <a:lnTo>
                      <a:pt x="631" y="190"/>
                    </a:lnTo>
                    <a:lnTo>
                      <a:pt x="648" y="239"/>
                    </a:lnTo>
                    <a:lnTo>
                      <a:pt x="660" y="288"/>
                    </a:lnTo>
                    <a:lnTo>
                      <a:pt x="666" y="337"/>
                    </a:lnTo>
                    <a:lnTo>
                      <a:pt x="665" y="384"/>
                    </a:lnTo>
                    <a:lnTo>
                      <a:pt x="661" y="409"/>
                    </a:lnTo>
                    <a:lnTo>
                      <a:pt x="657" y="432"/>
                    </a:lnTo>
                    <a:lnTo>
                      <a:pt x="648" y="454"/>
                    </a:lnTo>
                    <a:lnTo>
                      <a:pt x="639" y="475"/>
                    </a:lnTo>
                    <a:lnTo>
                      <a:pt x="627" y="496"/>
                    </a:lnTo>
                    <a:lnTo>
                      <a:pt x="613" y="513"/>
                    </a:lnTo>
                    <a:lnTo>
                      <a:pt x="597" y="530"/>
                    </a:lnTo>
                    <a:lnTo>
                      <a:pt x="578" y="546"/>
                    </a:lnTo>
                    <a:lnTo>
                      <a:pt x="568" y="553"/>
                    </a:lnTo>
                    <a:lnTo>
                      <a:pt x="556" y="559"/>
                    </a:lnTo>
                    <a:lnTo>
                      <a:pt x="544" y="563"/>
                    </a:lnTo>
                    <a:lnTo>
                      <a:pt x="530" y="568"/>
                    </a:lnTo>
                    <a:lnTo>
                      <a:pt x="515" y="573"/>
                    </a:lnTo>
                    <a:lnTo>
                      <a:pt x="499" y="575"/>
                    </a:lnTo>
                    <a:lnTo>
                      <a:pt x="483" y="578"/>
                    </a:lnTo>
                    <a:lnTo>
                      <a:pt x="466" y="580"/>
                    </a:lnTo>
                    <a:lnTo>
                      <a:pt x="449" y="582"/>
                    </a:lnTo>
                    <a:lnTo>
                      <a:pt x="432" y="583"/>
                    </a:lnTo>
                    <a:lnTo>
                      <a:pt x="415" y="584"/>
                    </a:lnTo>
                    <a:lnTo>
                      <a:pt x="398" y="585"/>
                    </a:lnTo>
                    <a:lnTo>
                      <a:pt x="382" y="585"/>
                    </a:lnTo>
                    <a:lnTo>
                      <a:pt x="366" y="587"/>
                    </a:lnTo>
                    <a:lnTo>
                      <a:pt x="351" y="587"/>
                    </a:lnTo>
                    <a:lnTo>
                      <a:pt x="337" y="587"/>
                    </a:lnTo>
                    <a:lnTo>
                      <a:pt x="326" y="587"/>
                    </a:lnTo>
                    <a:lnTo>
                      <a:pt x="315" y="587"/>
                    </a:lnTo>
                    <a:lnTo>
                      <a:pt x="305" y="587"/>
                    </a:lnTo>
                    <a:lnTo>
                      <a:pt x="296" y="587"/>
                    </a:lnTo>
                    <a:lnTo>
                      <a:pt x="288" y="587"/>
                    </a:lnTo>
                    <a:lnTo>
                      <a:pt x="281" y="588"/>
                    </a:lnTo>
                    <a:lnTo>
                      <a:pt x="274" y="588"/>
                    </a:lnTo>
                    <a:lnTo>
                      <a:pt x="268" y="589"/>
                    </a:lnTo>
                    <a:lnTo>
                      <a:pt x="245" y="595"/>
                    </a:lnTo>
                    <a:lnTo>
                      <a:pt x="221" y="601"/>
                    </a:lnTo>
                    <a:lnTo>
                      <a:pt x="198" y="611"/>
                    </a:lnTo>
                    <a:lnTo>
                      <a:pt x="174" y="621"/>
                    </a:lnTo>
                    <a:lnTo>
                      <a:pt x="152" y="634"/>
                    </a:lnTo>
                    <a:lnTo>
                      <a:pt x="129" y="649"/>
                    </a:lnTo>
                    <a:lnTo>
                      <a:pt x="108" y="667"/>
                    </a:lnTo>
                    <a:lnTo>
                      <a:pt x="87" y="687"/>
                    </a:lnTo>
                    <a:lnTo>
                      <a:pt x="69" y="710"/>
                    </a:lnTo>
                    <a:lnTo>
                      <a:pt x="53" y="736"/>
                    </a:lnTo>
                    <a:lnTo>
                      <a:pt x="37" y="765"/>
                    </a:lnTo>
                    <a:lnTo>
                      <a:pt x="24" y="797"/>
                    </a:lnTo>
                    <a:lnTo>
                      <a:pt x="14" y="833"/>
                    </a:lnTo>
                    <a:lnTo>
                      <a:pt x="7" y="872"/>
                    </a:lnTo>
                    <a:lnTo>
                      <a:pt x="1" y="916"/>
                    </a:lnTo>
                    <a:lnTo>
                      <a:pt x="0" y="963"/>
                    </a:lnTo>
                    <a:lnTo>
                      <a:pt x="48" y="963"/>
                    </a:lnTo>
                    <a:lnTo>
                      <a:pt x="49" y="929"/>
                    </a:lnTo>
                    <a:lnTo>
                      <a:pt x="52" y="896"/>
                    </a:lnTo>
                    <a:lnTo>
                      <a:pt x="56" y="866"/>
                    </a:lnTo>
                    <a:lnTo>
                      <a:pt x="62" y="838"/>
                    </a:lnTo>
                    <a:lnTo>
                      <a:pt x="70" y="811"/>
                    </a:lnTo>
                    <a:lnTo>
                      <a:pt x="79" y="786"/>
                    </a:lnTo>
                    <a:lnTo>
                      <a:pt x="91" y="763"/>
                    </a:lnTo>
                    <a:lnTo>
                      <a:pt x="105" y="741"/>
                    </a:lnTo>
                    <a:lnTo>
                      <a:pt x="120" y="721"/>
                    </a:lnTo>
                    <a:lnTo>
                      <a:pt x="137" y="704"/>
                    </a:lnTo>
                    <a:lnTo>
                      <a:pt x="155" y="688"/>
                    </a:lnTo>
                    <a:lnTo>
                      <a:pt x="176" y="674"/>
                    </a:lnTo>
                    <a:lnTo>
                      <a:pt x="199" y="663"/>
                    </a:lnTo>
                    <a:lnTo>
                      <a:pt x="223" y="652"/>
                    </a:lnTo>
                    <a:lnTo>
                      <a:pt x="250" y="643"/>
                    </a:lnTo>
                    <a:lnTo>
                      <a:pt x="277" y="636"/>
                    </a:lnTo>
                    <a:lnTo>
                      <a:pt x="282" y="636"/>
                    </a:lnTo>
                    <a:lnTo>
                      <a:pt x="287" y="635"/>
                    </a:lnTo>
                    <a:lnTo>
                      <a:pt x="294" y="635"/>
                    </a:lnTo>
                    <a:lnTo>
                      <a:pt x="302" y="635"/>
                    </a:lnTo>
                    <a:lnTo>
                      <a:pt x="310" y="634"/>
                    </a:lnTo>
                    <a:lnTo>
                      <a:pt x="319" y="634"/>
                    </a:lnTo>
                    <a:lnTo>
                      <a:pt x="328" y="634"/>
                    </a:lnTo>
                    <a:lnTo>
                      <a:pt x="338" y="634"/>
                    </a:lnTo>
                    <a:lnTo>
                      <a:pt x="355" y="634"/>
                    </a:lnTo>
                    <a:lnTo>
                      <a:pt x="371" y="634"/>
                    </a:lnTo>
                    <a:lnTo>
                      <a:pt x="388" y="634"/>
                    </a:lnTo>
                    <a:lnTo>
                      <a:pt x="406" y="633"/>
                    </a:lnTo>
                    <a:lnTo>
                      <a:pt x="425" y="631"/>
                    </a:lnTo>
                    <a:lnTo>
                      <a:pt x="443" y="630"/>
                    </a:lnTo>
                    <a:lnTo>
                      <a:pt x="462" y="629"/>
                    </a:lnTo>
                    <a:lnTo>
                      <a:pt x="480" y="627"/>
                    </a:lnTo>
                    <a:lnTo>
                      <a:pt x="499" y="625"/>
                    </a:lnTo>
                    <a:lnTo>
                      <a:pt x="517" y="621"/>
                    </a:lnTo>
                    <a:lnTo>
                      <a:pt x="534" y="618"/>
                    </a:lnTo>
                    <a:lnTo>
                      <a:pt x="552" y="612"/>
                    </a:lnTo>
                    <a:lnTo>
                      <a:pt x="567" y="607"/>
                    </a:lnTo>
                    <a:lnTo>
                      <a:pt x="582" y="600"/>
                    </a:lnTo>
                    <a:lnTo>
                      <a:pt x="595" y="592"/>
                    </a:lnTo>
                    <a:lnTo>
                      <a:pt x="608" y="584"/>
                    </a:lnTo>
                    <a:lnTo>
                      <a:pt x="630" y="565"/>
                    </a:lnTo>
                    <a:lnTo>
                      <a:pt x="650" y="544"/>
                    </a:lnTo>
                    <a:lnTo>
                      <a:pt x="667" y="522"/>
                    </a:lnTo>
                    <a:lnTo>
                      <a:pt x="682" y="498"/>
                    </a:lnTo>
                    <a:lnTo>
                      <a:pt x="693" y="472"/>
                    </a:lnTo>
                    <a:lnTo>
                      <a:pt x="703" y="446"/>
                    </a:lnTo>
                    <a:lnTo>
                      <a:pt x="710" y="418"/>
                    </a:lnTo>
                    <a:lnTo>
                      <a:pt x="713" y="388"/>
                    </a:lnTo>
                    <a:lnTo>
                      <a:pt x="714" y="339"/>
                    </a:lnTo>
                    <a:lnTo>
                      <a:pt x="708" y="287"/>
                    </a:lnTo>
                    <a:lnTo>
                      <a:pt x="697" y="236"/>
                    </a:lnTo>
                    <a:lnTo>
                      <a:pt x="681" y="186"/>
                    </a:lnTo>
                    <a:lnTo>
                      <a:pt x="660" y="136"/>
                    </a:lnTo>
                    <a:lnTo>
                      <a:pt x="636" y="88"/>
                    </a:lnTo>
                    <a:lnTo>
                      <a:pt x="608" y="43"/>
                    </a:lnTo>
                    <a:lnTo>
                      <a:pt x="579" y="0"/>
                    </a:lnTo>
                    <a:lnTo>
                      <a:pt x="5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>
              <a:off x="1746720" y="2285640"/>
              <a:ext cx="1136520" cy="976320"/>
            </a:xfrm>
            <a:prstGeom prst="wedgeRoundRectCallout">
              <a:avLst>
                <a:gd name="adj1" fmla="val -87712"/>
                <a:gd name="adj2" fmla="val 270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88880" y="3197160"/>
              <a:ext cx="163440" cy="2840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72"/>
                  </a:moveTo>
                  <a:cubicBezTo>
                    <a:pt x="35" y="43"/>
                    <a:pt x="13" y="2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966400" y="3320640"/>
              <a:ext cx="3236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2814120" y="358092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914400" cy="12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örg ________ aus B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heisst Monik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bist __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______ Deutschland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_______ aus Wi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mmt or 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He comes from Aust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aus Österre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(plural) _______ aus Amerik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__ Sab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d or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__ kommt 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komm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04920" y="251460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, but should ha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au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 come by b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mit dem B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4920" y="2514600"/>
            <a:ext cx="8839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will vary, but should have:  Ich komme ..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He comes by foot (He walks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03:38Z</dcterms:created>
  <dc:creator>Frau Hart</dc:creator>
  <dc:description/>
  <dc:language>en-US</dc:language>
  <cp:lastModifiedBy>Frau Hart</cp:lastModifiedBy>
  <dcterms:modified xsi:type="dcterms:W3CDTF">2007-01-30T20:01:09Z</dcterms:modified>
  <cp:revision>29</cp:revision>
  <dc:subject/>
  <dc:title>Slide 1</dc:title>
</cp:coreProperties>
</file>